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B5C-24C7-4051-BB93-B1B941CD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41E-0D9E-449A-9880-B8DDE1B6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4CC-CCD3-42BF-AD75-07F79FB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634-C6B3-4569-8C71-981DFE0F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6B2-47B6-4BB6-80A7-63C06DF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93F-FBF8-47AD-84C1-AD5A7379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465-AF8D-4B18-A154-A3AE8186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0F6-05EB-471A-98D3-986BD53D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E85-ED66-4907-A411-BE4DF9BD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CA7-1185-4C7D-A320-F1360EC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DAB-47B8-4526-953A-DE13825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F68-E431-4D50-9692-5D21542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6CB-F6E4-4718-820F-828F19FA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cp:lastPrinted>2016-01-19T12:44:21Z</cp:lastPrinted>
  <dcterms:modified xsi:type="dcterms:W3CDTF">2016-01-19T12:45:03Z</dcterms:modified>
  <cp:revision>257</cp:revision>
  <dc:subject/>
  <dc:title>Slide 1</dc:title>
</cp:coreProperties>
</file>