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982C-89AB-43A8-9F0E-B4D812273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33BA-21C9-4430-A15C-DB4DD4B8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F37F-187F-4D21-89FF-5AD172A4E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FF2E-AD46-4AFE-87C0-6F85CB62A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FB41-9879-4D53-94EE-8CD0F161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4588-31BD-407D-94B7-D6653822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DD0C-363A-4B0B-9B15-A1E790C7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541F-43F1-43D9-9A2C-34E66466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7EF5-2733-47C0-A085-32E21AB7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5973-F54F-401C-BBF3-06FD5134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E714-E521-4033-A516-201B17D1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411C-8BDC-45F4-BD36-2513A720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878cd"/>
            </a:gs>
            <a:gs pos="100000">
              <a:srgbClr val="f3f6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BD0D-38B8-47A4-AF68-4C047B6F22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AP Psychology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Unit VII: Memory</a:t>
            </a:r>
            <a:br>
              <a:rPr sz="32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dules 35 &amp; 36: Problem Solving, Making Decisions, Thought &amp; Langu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Exit Ticke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Content Placeholder 2"/>
          <p:cNvSpPr/>
          <p:nvPr/>
        </p:nvSpPr>
        <p:spPr>
          <a:xfrm>
            <a:off x="152280" y="13716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473040" indent="-473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are 3 strategies for problem solv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are 2 obstacles that hinder our attempts to solve probl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plain how representativeness heuristic, availability heuristic, overconfidence, belief perseverance, &amp; framing can influence our decisions &amp; judg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odule 36: Thinking &amp; Langua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348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Struct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Content Placeholder 2"/>
          <p:cNvSpPr/>
          <p:nvPr/>
        </p:nvSpPr>
        <p:spPr>
          <a:xfrm>
            <a:off x="-7920" y="838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onemes: smallest distinctive sound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t”-3 sound units: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&amp;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*not the same as letters**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chat”-also 3 sound units: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&amp;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rphemes: smallest units that carry 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phonemes, i.e.-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“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” at the end of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a word, i.e.-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gen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prefixes &amp; suffixes, i.e.-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ew, anger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ammar: system of rules that enables communication with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mantics: rules for deriving meaning from s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ntax: rules for ordering words into sen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Developme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Content Placeholder 2"/>
          <p:cNvSpPr/>
          <p:nvPr/>
        </p:nvSpPr>
        <p:spPr>
          <a:xfrm>
            <a:off x="0" y="9604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ceptive language: a child’s ability to understand what is said to &amp; about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ically develops by 4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ductive language: ability to produce wo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bbling stage: at 4 months, spontaneous sounds One-word stage: around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birthday, single-word speech begi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wo-word stage: around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birthday, two word sentences (also known as “telegraphic speech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fter telegraphic speech, children rapidly begin using longer sent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xplaining Language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am Chom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ll languages share basic el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iversal Gramm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uns, verbs, adjective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anguage acquisition dev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rn with a built-in predisposition to learn grammar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Content Placeholder 2"/>
          <p:cNvSpPr/>
          <p:nvPr/>
        </p:nvSpPr>
        <p:spPr>
          <a:xfrm>
            <a:off x="14400" y="990720"/>
            <a:ext cx="91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tistical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Human infants are extremely proficient in learn statistical aspects of spee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breaks, syllable grouping, simple sentenc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ritical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hildhood represents the best opportunity to master certain aspects of langu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nguage-learning window” appears to begin to close around age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xplaining Language Development,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Brain and Langua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Content Placeholder 2"/>
          <p:cNvSpPr/>
          <p:nvPr/>
        </p:nvSpPr>
        <p:spPr>
          <a:xfrm>
            <a:off x="-1440" y="7621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hasia: an impairment of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an result from damage to several cortical ar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oca’s Area: controls languag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rontal lobe (usually the left hemisphe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irects the muscle movements involved in spee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rnicke’s Area:                                                controls language                                               re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emporal lobe                                                                     (usually in the left                                                   hemisphe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omprehension &amp;                                                 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expression of speech    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C:\Users\KKorek\Documents\ABCFiles\2013 Myers AP 2e\Images\ImageJPGs_Module36\ImageJPGs_Module36\MyAP2e_fig_36_02.jpg"/>
          <p:cNvPicPr/>
          <p:nvPr/>
        </p:nvPicPr>
        <p:blipFill>
          <a:blip r:embed="rId1"/>
          <a:stretch/>
        </p:blipFill>
        <p:spPr>
          <a:xfrm>
            <a:off x="3886200" y="3200400"/>
            <a:ext cx="5257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Brain and Languag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Content Placeholder 2"/>
          <p:cNvSpPr/>
          <p:nvPr/>
        </p:nvSpPr>
        <p:spPr>
          <a:xfrm>
            <a:off x="-1440" y="111276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dern neuroscience has shown that when processing language, the brain divides its’ ment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ifferent neural networks are activated by nouns &amp; verbs, objects &amp; actions, different vowels, et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ifferent neural networks are activated by one’s native language &amp; second languages (learned late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and Though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ontent Placeholder 2"/>
          <p:cNvSpPr/>
          <p:nvPr/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njamin Lee Who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inguistic determinism: language determines the way we thi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 extreme-we think about things for which we have no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ilingual individuals DO think differently in different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Influences Think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Users\KKorek\Documents\ABCFiles\2013 Myers AP 2e\Images\ImageJPGs_Module36\ImageJPGs_Module36\MyAP2e_fig_36_04.jpg"/>
          <p:cNvPicPr/>
          <p:nvPr/>
        </p:nvPicPr>
        <p:blipFill>
          <a:blip r:embed="rId1"/>
          <a:stretch/>
        </p:blipFill>
        <p:spPr>
          <a:xfrm>
            <a:off x="4267080" y="990720"/>
            <a:ext cx="4876920" cy="58784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"/>
          <p:cNvSpPr/>
          <p:nvPr/>
        </p:nvSpPr>
        <p:spPr>
          <a:xfrm>
            <a:off x="-304920" y="990720"/>
            <a:ext cx="4572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anguage doesn’t determine what we think, but it does influence how we th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nking also influences our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odule 35-Problem solving &amp; making decis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Exit Ticke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920" y="1219320"/>
            <a:ext cx="913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Identify &amp; BRIEFLY explain the 3 structural components of langu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-Identify brain areas involved in language reception and language express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-How are other areas of the brain involved in language process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-What is the relationship between language &amp; think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Problem Solving Strategie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Content Placeholder 2"/>
          <p:cNvSpPr/>
          <p:nvPr/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gorithms: Step-by-step process; guarantees a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be very 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euristics: thinking strategies that allows us to make judgments &amp; solve problems effici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aster process, but more prone to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sight: sudden realization of a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Obstacles to Problem Solving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Content Placeholder 2"/>
          <p:cNvSpPr/>
          <p:nvPr/>
        </p:nvSpPr>
        <p:spPr>
          <a:xfrm>
            <a:off x="0" y="826920"/>
            <a:ext cx="91440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1" marL="443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firmation bias: seeking out of evidence that verifies our ideas &amp; ignoring what refutes those id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43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ntal set: approaching a problem with what has worked for us previous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4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prevent us from identifying new ways to solve a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43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orming Decisions &amp; Judg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u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resentativeness heur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vailability heur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verconf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lief perseve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ra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ntu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mmediate, effortless unreasoned thoughts &amp; fee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d for the majority of the hundreds of judgments &amp; decisions one makes each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licy makers in government, business, &amp;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at of their pan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wer of intu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 can benefit by letting our brain work on a problem without consciously thinking about it, it’s usually adaptive, and it is implicit knowledge born of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  <a:ea typeface="Arial"/>
              </a:rPr>
              <a:t>Representativeness Heuristic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udging the likelihood of something in terms of how well the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pres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our proto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lows us to make quick decisions/jud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fluences many of our daily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lead to errors; our prototypes aren’t always accurate  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                      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474840" y="4381560"/>
            <a:ext cx="41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wo professional athletes: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” is 6’8” &amp; 240 l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” is 5’6” &amp; 190 lb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at sport do you think each one pl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s://c1.staticflickr.com/3/2818/11517766975_d6373e5263_b.jpg"/>
          <p:cNvPicPr/>
          <p:nvPr/>
        </p:nvPicPr>
        <p:blipFill>
          <a:blip r:embed="rId1"/>
          <a:stretch/>
        </p:blipFill>
        <p:spPr>
          <a:xfrm>
            <a:off x="4589640" y="4084560"/>
            <a:ext cx="1815840" cy="2235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phillysportsnetwork.com/wp-content/uploads/2015/08/7-darren-sproles-rb-philadelphia-eagles_pg_600.jpg"/>
          <p:cNvPicPr/>
          <p:nvPr/>
        </p:nvPicPr>
        <p:blipFill>
          <a:blip r:embed="rId2"/>
          <a:stretch/>
        </p:blipFill>
        <p:spPr>
          <a:xfrm>
            <a:off x="6869160" y="4054320"/>
            <a:ext cx="181296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Availability Heuristic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Content Placeholder 2"/>
          <p:cNvSpPr/>
          <p:nvPr/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stimating the likelihood of events based on their availability in our mem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ivid memories cause us to believe events are more probable, while forgettable events make us believe they are less likely to occur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recency of an event’s occurrence or its’ distinctiveness can also influence our jud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un violence has led to many calls for stricter gun-control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2013, there were 11,208 gun homicides in the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2013, there were 32, 719 deaths due to auto accidents in the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"/>
          <p:cNvSpPr/>
          <p:nvPr/>
        </p:nvSpPr>
        <p:spPr>
          <a:xfrm>
            <a:off x="-785160" y="6324480"/>
            <a:ext cx="996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*Little call for stricter driver licensing regulation/lower speed limits, etc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11160" y="-8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Overconfidence, Belief Perseverance, &amp; Fram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Content Placeholder 2"/>
          <p:cNvSpPr/>
          <p:nvPr/>
        </p:nvSpPr>
        <p:spPr>
          <a:xfrm>
            <a:off x="4680" y="16765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verconfidence-Tendency to overestimate the accuracy of our knowledge &amp; jud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lief Perseverance-Clinging to our beliefs in the face of contrary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raming-The way an issue is presented or posed (framed) can influence our decision/jud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3:22:39Z</dcterms:created>
  <dc:creator>GSD</dc:creator>
  <dc:description/>
  <dc:language>en-US</dc:language>
  <cp:lastModifiedBy>Debes John</cp:lastModifiedBy>
  <cp:lastPrinted>2016-01-19T12:44:21Z</cp:lastPrinted>
  <dcterms:modified xsi:type="dcterms:W3CDTF">2016-01-19T12:45:03Z</dcterms:modified>
  <cp:revision>257</cp:revision>
  <dc:subject/>
  <dc:title>Slide 1</dc:title>
</cp:coreProperties>
</file>