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686-2895-4FE3-922C-5A378DD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AEB-202C-4ADC-8823-7CEA7343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DEA-FD83-4A32-941C-EFCF1035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4BC-ADFA-4658-AE3C-9EC468E1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C7C-E671-43FD-81A6-6F71FEF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BC9-FD12-4DB8-8805-06090872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EA8-8699-4083-96DF-2B11886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C02-A105-45A1-8A73-DB241C1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F89-432A-4EB4-83E5-9489FBA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220-2C35-4E23-8FFC-1D2E65A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885-D491-41D3-9492-BB7032F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40E-B8AB-4D60-A43D-D0E85BA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25C-FB53-40F9-8D03-CC4827D4F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4, 35, &amp; 36: Thinking, Cognition, Creativity,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*Convergent thinking-ability to determine a single, best solution to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“intelligence tes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ms to originate in the left parietal 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reative environment-peers/colleagues support (&amp; help refine) cre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4-Thinking, Cognition, &amp;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e other cultures and ways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: 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types-mental image or best example of a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17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-304920" y="9907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22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12-14T13:33:43Z</dcterms:modified>
  <cp:revision>256</cp:revision>
  <dc:subject/>
  <dc:title>Slide 1</dc:title>
</cp:coreProperties>
</file>