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93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93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4A723-7552-42B2-B68D-29460CFCB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BD6A9-637C-4809-9D79-BFAF30832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94178-2F5C-4416-8B51-C990BC9D4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93731-8527-4A64-BEA9-839E7E347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772F5-0E8D-4FCD-AABB-0C0F1F903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74F6E-8E63-4959-A70E-DF62C0A31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B3075-0788-4894-B134-C6EDA45F0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02BE5-E15A-44A8-AB2A-CBD688AB3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9084A-C047-4E56-82F4-BB9BE3921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9E76B-18F3-44DF-B220-052D021F7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AE8E8-3DF1-489B-BB9D-24EFBF5F4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5A43B-73D5-493D-859F-D63E3D56D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878cd"/>
            </a:gs>
            <a:gs pos="100000">
              <a:srgbClr val="f3f6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08A11-DF3E-4E65-A462-52E348E093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2133720"/>
            <a:ext cx="9144000" cy="163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Arial"/>
              </a:rPr>
              <a:t>AP Psychology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Unit VII: Memory</a:t>
            </a:r>
            <a:br>
              <a:rPr sz="3200"/>
            </a:b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Modules 34, 35, &amp; 36: Thinking, Cognition, Creativity, Problem Solving, Making Decisions, Thought &amp; Languag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80880"/>
            <a:ext cx="9144000" cy="163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reativity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Content Placeholder 2"/>
          <p:cNvSpPr/>
          <p:nvPr/>
        </p:nvSpPr>
        <p:spPr>
          <a:xfrm>
            <a:off x="0" y="91440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he ability to produce novel and/or valuable ide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ivergent thinking-creative thinking that develop a number of solutions for a given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ertain areas of the frontal lobes appear invol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80880"/>
            <a:ext cx="9144000" cy="163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reativity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Content Placeholder 2"/>
          <p:cNvSpPr/>
          <p:nvPr/>
        </p:nvSpPr>
        <p:spPr>
          <a:xfrm>
            <a:off x="0" y="83808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he ability to produce novel and/or valuable ide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ivergent thinking-creative thinking that develop a number of solutions for a given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ertain areas of the frontal lobes appear invol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***Convergent thinking-ability to determine a single, best solution to a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raditional “intelligence test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eems to originate in the left parietal lo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34800"/>
            <a:ext cx="9144000" cy="163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  <a:ea typeface="Arial"/>
              </a:rPr>
              <a:t>Sternberg’s 5 components of creativity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Content Placeholder 2"/>
          <p:cNvSpPr/>
          <p:nvPr/>
        </p:nvSpPr>
        <p:spPr>
          <a:xfrm>
            <a:off x="0" y="83808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34800"/>
            <a:ext cx="9144000" cy="163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  <a:ea typeface="Arial"/>
              </a:rPr>
              <a:t>Sternberg’s 5 components of creativity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Content Placeholder 2"/>
          <p:cNvSpPr/>
          <p:nvPr/>
        </p:nvSpPr>
        <p:spPr>
          <a:xfrm>
            <a:off x="0" y="83808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xpertise-possesses a thorough base of knowled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-334800"/>
            <a:ext cx="9144000" cy="163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  <a:ea typeface="Arial"/>
              </a:rPr>
              <a:t>Sternberg’s 5 components of creativity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Content Placeholder 2"/>
          <p:cNvSpPr/>
          <p:nvPr/>
        </p:nvSpPr>
        <p:spPr>
          <a:xfrm>
            <a:off x="0" y="83808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xpertise-possesses a thorough base of knowled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maginative thinking skills-ability to see things in novel ways, recognize patterns &amp; make conn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-334800"/>
            <a:ext cx="9144000" cy="163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  <a:ea typeface="Arial"/>
              </a:rPr>
              <a:t>Sternberg’s 5 components of creativity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Content Placeholder 2"/>
          <p:cNvSpPr/>
          <p:nvPr/>
        </p:nvSpPr>
        <p:spPr>
          <a:xfrm>
            <a:off x="0" y="83808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xpertise-possesses a thorough base of knowled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maginative thinking skills-ability to see things in novel ways, recognize patterns &amp; make conn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 venturesome personality-seeks new experiences, takes risk, tolerates the unknown, persever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-334800"/>
            <a:ext cx="9144000" cy="163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  <a:ea typeface="Arial"/>
              </a:rPr>
              <a:t>Sternberg’s 5 components of creativity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Content Placeholder 2"/>
          <p:cNvSpPr/>
          <p:nvPr/>
        </p:nvSpPr>
        <p:spPr>
          <a:xfrm>
            <a:off x="0" y="83808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xpertise-possesses a thorough base of knowled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maginative thinking skills-ability to see things in novel ways, recognize patterns &amp; make conn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 venturesome personality-seeks new experiences, takes risk, tolerates the unknown, persever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trinsic motivation-driven by self-interest, self-satisfaction, and personal challen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-334800"/>
            <a:ext cx="9144000" cy="163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  <a:ea typeface="Arial"/>
              </a:rPr>
              <a:t>Sternberg’s 5 components of creativity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Content Placeholder 2"/>
          <p:cNvSpPr/>
          <p:nvPr/>
        </p:nvSpPr>
        <p:spPr>
          <a:xfrm>
            <a:off x="0" y="83808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xpertise-possesses a thorough base of knowled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maginative thinking skills-ability to see things in novel ways, recognize patterns &amp; make conn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 venturesome personality-seeks new experiences, takes risk, tolerates the unknown, persever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trinsic motivation-driven by self-interest, self-satisfaction, and personal challen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 creative environment-peers/colleagues support (&amp; help refine) creative id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-380880"/>
            <a:ext cx="9144000" cy="163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Ways to boost Creativity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Content Placeholder 2"/>
          <p:cNvSpPr/>
          <p:nvPr/>
        </p:nvSpPr>
        <p:spPr>
          <a:xfrm>
            <a:off x="0" y="99072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-380880"/>
            <a:ext cx="9144000" cy="163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Ways to boost Creativity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Content Placeholder 2"/>
          <p:cNvSpPr/>
          <p:nvPr/>
        </p:nvSpPr>
        <p:spPr>
          <a:xfrm>
            <a:off x="0" y="99072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velop your expert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2133720"/>
            <a:ext cx="9144000" cy="163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i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Module 34-Thinking, Cognition, &amp; Creativity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0" y="-380880"/>
            <a:ext cx="9144000" cy="163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Ways to boost Creativity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Content Placeholder 2"/>
          <p:cNvSpPr/>
          <p:nvPr/>
        </p:nvSpPr>
        <p:spPr>
          <a:xfrm>
            <a:off x="0" y="99072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velop your expert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low time for incubation (think hard about a problem, set it aside, &amp; come back to i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-380880"/>
            <a:ext cx="9144000" cy="163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Ways to boost Creativity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Content Placeholder 2"/>
          <p:cNvSpPr/>
          <p:nvPr/>
        </p:nvSpPr>
        <p:spPr>
          <a:xfrm>
            <a:off x="0" y="99072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velop your expert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low time for incubation (think hard about a problem, set it aside, &amp; come back to i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et aside time for the mind to roam fre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-380880"/>
            <a:ext cx="9144000" cy="163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Ways to boost Creativity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Content Placeholder 2"/>
          <p:cNvSpPr/>
          <p:nvPr/>
        </p:nvSpPr>
        <p:spPr>
          <a:xfrm>
            <a:off x="0" y="99072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velop your expert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low time for incubation (think hard about a problem, set it aside, &amp; come back to i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et aside time for the mind to roam fre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xperience other cultures and ways of thin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2133720"/>
            <a:ext cx="9144000" cy="163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i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Module 35: Problem Solving &amp; Making Decision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  <a:ea typeface="Arial"/>
              </a:rPr>
              <a:t>Problem Solving Strategies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  <a:ea typeface="Arial"/>
              </a:rPr>
              <a:t>Problem Solving Strategies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Content Placeholder 2"/>
          <p:cNvSpPr/>
          <p:nvPr/>
        </p:nvSpPr>
        <p:spPr>
          <a:xfrm>
            <a:off x="0" y="144792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gorithms: Step-by-step process; guarantees a 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an be very s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  <a:ea typeface="Arial"/>
              </a:rPr>
              <a:t>Problem Solving Strategies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Content Placeholder 2"/>
          <p:cNvSpPr/>
          <p:nvPr/>
        </p:nvSpPr>
        <p:spPr>
          <a:xfrm>
            <a:off x="0" y="144792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gorithms: Step-by-step process; guarantees a 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an be very s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Heuristics: thinking strategies that allows us to make judgments &amp; solve problems efficient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aster process, but more prone to err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  <a:ea typeface="Arial"/>
              </a:rPr>
              <a:t>Problem Solving Strategies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Content Placeholder 2"/>
          <p:cNvSpPr/>
          <p:nvPr/>
        </p:nvSpPr>
        <p:spPr>
          <a:xfrm>
            <a:off x="0" y="144792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gorithms: Step-by-step process; guarantees a 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an be very s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Heuristics: thinking strategies that allows us to make judgments &amp; solve problems efficient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aster process, but more prone to err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nsight: sudden realization of a 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  <a:ea typeface="Arial"/>
              </a:rPr>
              <a:t>Obstacles to Problem Solving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  <a:ea typeface="Arial"/>
              </a:rPr>
              <a:t>Obstacles to Problem Solving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Content Placeholder 2"/>
          <p:cNvSpPr/>
          <p:nvPr/>
        </p:nvSpPr>
        <p:spPr>
          <a:xfrm>
            <a:off x="0" y="826920"/>
            <a:ext cx="9144000" cy="45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onfirmation bias: seeking out of evidence that verifies our ideas &amp; ignoring what refutes those ide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-25920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  <a:ea typeface="Arial"/>
              </a:rPr>
              <a:t>Cognition, Concepts &amp; Prototypes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Content Placeholder 2"/>
          <p:cNvSpPr/>
          <p:nvPr/>
        </p:nvSpPr>
        <p:spPr>
          <a:xfrm>
            <a:off x="0" y="126540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  <a:ea typeface="Arial"/>
              </a:rPr>
              <a:t>Obstacles to Problem Solving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Content Placeholder 2"/>
          <p:cNvSpPr/>
          <p:nvPr/>
        </p:nvSpPr>
        <p:spPr>
          <a:xfrm>
            <a:off x="0" y="826920"/>
            <a:ext cx="9144000" cy="45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lvl="1" marL="4431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onfirmation bias: seeking out of evidence that verifies our ideas &amp; ignoring what refutes those ide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431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ental set: approaching a problem with what has worked for us previous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43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an prevent us from identifying new ways to solve a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43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-22896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Forming Decisions &amp; Judg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-22896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Forming Decisions &amp; Judg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Content Placeholder 2"/>
          <p:cNvSpPr/>
          <p:nvPr/>
        </p:nvSpPr>
        <p:spPr>
          <a:xfrm>
            <a:off x="0" y="106668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ntu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22896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Forming Decisions &amp; Judg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Content Placeholder 2"/>
          <p:cNvSpPr/>
          <p:nvPr/>
        </p:nvSpPr>
        <p:spPr>
          <a:xfrm>
            <a:off x="0" y="106668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ntu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resentativeness heurist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22896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Forming Decisions &amp; Judg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Content Placeholder 2"/>
          <p:cNvSpPr/>
          <p:nvPr/>
        </p:nvSpPr>
        <p:spPr>
          <a:xfrm>
            <a:off x="0" y="106668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ntu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resentativeness heurist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vailability heurist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22896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Forming Decisions &amp; Judg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Content Placeholder 2"/>
          <p:cNvSpPr/>
          <p:nvPr/>
        </p:nvSpPr>
        <p:spPr>
          <a:xfrm>
            <a:off x="0" y="106668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ntu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resentativeness heurist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vailability heurist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Overconfid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22896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Forming Decisions &amp; Judg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Content Placeholder 2"/>
          <p:cNvSpPr/>
          <p:nvPr/>
        </p:nvSpPr>
        <p:spPr>
          <a:xfrm>
            <a:off x="0" y="106668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ntu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resentativeness heurist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vailability heurist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Overconfid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elief persever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22896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Forming Decisions &amp; Judg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Content Placeholder 2"/>
          <p:cNvSpPr/>
          <p:nvPr/>
        </p:nvSpPr>
        <p:spPr>
          <a:xfrm>
            <a:off x="0" y="106668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ntu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resentativeness heurist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vailability heurist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Overconfid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elief persever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ram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-22896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ntu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-22896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ntu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Content Placeholder 2"/>
          <p:cNvSpPr/>
          <p:nvPr/>
        </p:nvSpPr>
        <p:spPr>
          <a:xfrm>
            <a:off x="0" y="106668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mmediate, effortless unreasoned thoughts &amp; fee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-25920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  <a:ea typeface="Arial"/>
              </a:rPr>
              <a:t>Cognition, Concepts &amp; Prototypes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Content Placeholder 2"/>
          <p:cNvSpPr/>
          <p:nvPr/>
        </p:nvSpPr>
        <p:spPr>
          <a:xfrm>
            <a:off x="0" y="126540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ognition-thinking, knowing, remembering, communicating, AND all mental activities associated with these proc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-22896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ntu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Content Placeholder 2"/>
          <p:cNvSpPr/>
          <p:nvPr/>
        </p:nvSpPr>
        <p:spPr>
          <a:xfrm>
            <a:off x="0" y="106668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mmediate, effortless unreasoned thoughts &amp; fee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Used for the majority of the hundreds of judgments &amp; decisions one makes each 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olicy makers in government, business, &amp; edu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at of their pant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-22896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ntu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Content Placeholder 2"/>
          <p:cNvSpPr/>
          <p:nvPr/>
        </p:nvSpPr>
        <p:spPr>
          <a:xfrm>
            <a:off x="0" y="106668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mmediate, effortless unreasoned thoughts &amp; fee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Used for the majority of the hundreds of judgments &amp; decisions one makes each 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olicy makers in government, business, &amp; edu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at of their pant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ower of intui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e can benefit by letting our brain work on a problem without consciously thinking about it, it’s usually adaptive, and it is implicit knowledge born of experi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-30528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Arial"/>
                <a:ea typeface="Arial"/>
              </a:rPr>
              <a:t>Representativeness Heuristic</a:t>
            </a: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-30528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Arial"/>
                <a:ea typeface="Arial"/>
              </a:rPr>
              <a:t>Representativeness Heuristic</a:t>
            </a: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Content Placeholder 2"/>
          <p:cNvSpPr/>
          <p:nvPr/>
        </p:nvSpPr>
        <p:spPr>
          <a:xfrm>
            <a:off x="0" y="106668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Judging the likelihood of something in terms of how well the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repres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our prototy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lows us to make quick decisions/judg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fluences many of our daily deci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an lead to errors; our prototypes aren’t always accu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-30528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Arial"/>
                <a:ea typeface="Arial"/>
              </a:rPr>
              <a:t>Representativeness Heuristic</a:t>
            </a: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Content Placeholder 2"/>
          <p:cNvSpPr/>
          <p:nvPr/>
        </p:nvSpPr>
        <p:spPr>
          <a:xfrm>
            <a:off x="0" y="106668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Judging the likelihood of something in terms of how well the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repres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our prototy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lows us to make quick decisions/judg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fluences many of our daily deci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an lead to errors; our prototypes aren’t always accu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1"/>
          <p:cNvSpPr/>
          <p:nvPr/>
        </p:nvSpPr>
        <p:spPr>
          <a:xfrm>
            <a:off x="474840" y="4381560"/>
            <a:ext cx="4114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wo professional athletes: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” is 6’8” &amp; 240 lb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” is 5’6” &amp; 190 lb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hat sport do you think each one play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-30528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Arial"/>
                <a:ea typeface="Arial"/>
              </a:rPr>
              <a:t>Representativeness Heuristic</a:t>
            </a: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Content Placeholder 2"/>
          <p:cNvSpPr/>
          <p:nvPr/>
        </p:nvSpPr>
        <p:spPr>
          <a:xfrm>
            <a:off x="0" y="106668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Judging the likelihood of something in terms of how well the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repres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our prototy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lows us to make quick decisions/judg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fluences many of our daily deci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an lead to errors; our prototypes aren’t always accurate                             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A                       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1"/>
          <p:cNvSpPr/>
          <p:nvPr/>
        </p:nvSpPr>
        <p:spPr>
          <a:xfrm>
            <a:off x="474840" y="4381560"/>
            <a:ext cx="4114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wo professional athletes: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” is 6’8” &amp; 240 lb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” is 5’6” &amp; 190 lb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hat sport do you think each one play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2" descr="https://c1.staticflickr.com/3/2818/11517766975_d6373e5263_b.jpg"/>
          <p:cNvPicPr/>
          <p:nvPr/>
        </p:nvPicPr>
        <p:blipFill>
          <a:blip r:embed="rId1"/>
          <a:stretch/>
        </p:blipFill>
        <p:spPr>
          <a:xfrm>
            <a:off x="4589640" y="4084560"/>
            <a:ext cx="1815840" cy="22352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4" descr="http://phillysportsnetwork.com/wp-content/uploads/2015/08/7-darren-sproles-rb-philadelphia-eagles_pg_600.jpg"/>
          <p:cNvPicPr/>
          <p:nvPr/>
        </p:nvPicPr>
        <p:blipFill>
          <a:blip r:embed="rId2"/>
          <a:stretch/>
        </p:blipFill>
        <p:spPr>
          <a:xfrm>
            <a:off x="6869160" y="4054320"/>
            <a:ext cx="1812960" cy="229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-30528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Availability Heuristic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-30528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Availability Heuristic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Content Placeholder 2"/>
          <p:cNvSpPr/>
          <p:nvPr/>
        </p:nvSpPr>
        <p:spPr>
          <a:xfrm>
            <a:off x="0" y="91440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stimating the likelihood of events based on their availability in our mem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0" y="-30528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Availability Heuristic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Content Placeholder 2"/>
          <p:cNvSpPr/>
          <p:nvPr/>
        </p:nvSpPr>
        <p:spPr>
          <a:xfrm>
            <a:off x="0" y="91440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stimating the likelihood of events based on their availability in our mem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Vivid memories cause us to believe events are more probable, while forgettable events make us believe they are less likely to occur ag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 recency of an event’s occurrence or its’ distinctiveness can also influence our judg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-30528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Availability Heuristic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Content Placeholder 2"/>
          <p:cNvSpPr/>
          <p:nvPr/>
        </p:nvSpPr>
        <p:spPr>
          <a:xfrm>
            <a:off x="0" y="91440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stimating the likelihood of events based on their availability in our mem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Vivid memories cause us to believe events are more probable, while forgettable events make us believe they are less likely to occur ag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 recency of an event’s occurrence or its’ distinctiveness can also influence our judg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un violence has led to many calls for stricter gun-control la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-25920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  <a:ea typeface="Arial"/>
              </a:rPr>
              <a:t>Cognition, Concepts &amp; Prototypes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Content Placeholder 2"/>
          <p:cNvSpPr/>
          <p:nvPr/>
        </p:nvSpPr>
        <p:spPr>
          <a:xfrm>
            <a:off x="0" y="126540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ognition-thinking, knowing, remembering, communicating, AND all mental activities associated with these proc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oncepts-mental grouping                                 of similar objects, events,                                     ideas, or peo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0" y="-30528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Availability Heuristic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Content Placeholder 2"/>
          <p:cNvSpPr/>
          <p:nvPr/>
        </p:nvSpPr>
        <p:spPr>
          <a:xfrm>
            <a:off x="0" y="91440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stimating the likelihood of events based on their availability in our mem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Vivid memories cause us to believe events are more probable, while forgettable events make us believe they are less likely to occur ag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 recency of an event’s occurrence or its’ distinctiveness can also influence our judg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un violence has led to many calls for stricter gun-control la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 2013, there were 11,208 gun homicides in the 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 2013, there were 32, 719 deaths due to auto accidents in the 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-30528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Availability Heuristic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Content Placeholder 2"/>
          <p:cNvSpPr/>
          <p:nvPr/>
        </p:nvSpPr>
        <p:spPr>
          <a:xfrm>
            <a:off x="0" y="91440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stimating the likelihood of events based on their availability in our mem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Vivid memories cause us to believe events are more probable, while forgettable events make us believe they are less likely to occur ag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 recency of an event’s occurrence or its’ distinctiveness can also influence our judg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un violence has led to many calls for stricter gun-control la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 2013, there were 11,208 gun homicides in the 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 2013, there were 32, 719 deaths due to auto accidents in the 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1"/>
          <p:cNvSpPr/>
          <p:nvPr/>
        </p:nvSpPr>
        <p:spPr>
          <a:xfrm>
            <a:off x="-785160" y="6324480"/>
            <a:ext cx="996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*Little call for stricter driver licensing regulation/lower speed limits, etc*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-11160" y="-828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Overconfidence, Belief Perseverance, &amp; Framing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-11160" y="-828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Overconfidence, Belief Perseverance, &amp; Framing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Content Placeholder 2"/>
          <p:cNvSpPr/>
          <p:nvPr/>
        </p:nvSpPr>
        <p:spPr>
          <a:xfrm>
            <a:off x="4680" y="167652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verconfidence-Tendency to overestimate the accuracy of our knowledge &amp; judg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-11160" y="-828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Overconfidence, Belief Perseverance, &amp; Framing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Content Placeholder 2"/>
          <p:cNvSpPr/>
          <p:nvPr/>
        </p:nvSpPr>
        <p:spPr>
          <a:xfrm>
            <a:off x="4680" y="167652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verconfidence-Tendency to overestimate the accuracy of our knowledge &amp; judg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elief Perseverance-Clinging to our beliefs in the face of contrary evid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-11160" y="-828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Overconfidence, Belief Perseverance, &amp; Framing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Content Placeholder 2"/>
          <p:cNvSpPr/>
          <p:nvPr/>
        </p:nvSpPr>
        <p:spPr>
          <a:xfrm>
            <a:off x="4680" y="167652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verconfidence-Tendency to overestimate the accuracy of our knowledge &amp; judg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elief Perseverance-Clinging to our beliefs in the face of contrary evid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raming-The way an issue is presented or posed (framed) can influence our decision/judg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Exit Ticket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Content Placeholder 2"/>
          <p:cNvSpPr/>
          <p:nvPr/>
        </p:nvSpPr>
        <p:spPr>
          <a:xfrm>
            <a:off x="152280" y="137160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473040" indent="-473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What are 3 strategies for problem solv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73040" indent="-473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73040" indent="-473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What are 2 obstacles that hinder our attempts to solve probl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73040" indent="-473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73040" indent="-473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xplain how representativeness heuristic, availability heuristic, overconfidence, belief perseverance, &amp; framing can influence our decisions &amp; judg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0" y="2133720"/>
            <a:ext cx="9144000" cy="163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i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Module 36: Thinking &amp; Languag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-334800"/>
            <a:ext cx="9144000" cy="163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Language Structur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-334800"/>
            <a:ext cx="9144000" cy="163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Language Structur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Content Placeholder 2"/>
          <p:cNvSpPr/>
          <p:nvPr/>
        </p:nvSpPr>
        <p:spPr>
          <a:xfrm>
            <a:off x="-7920" y="83808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honemes: smallest distinctive sound un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at”-3 sound units: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&amp;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 t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**not the same as letters**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“chat”-also 3 sound units: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c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&amp;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-25920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  <a:ea typeface="Arial"/>
              </a:rPr>
              <a:t>Cognition, Concepts &amp; Prototypes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Content Placeholder 2"/>
          <p:cNvSpPr/>
          <p:nvPr/>
        </p:nvSpPr>
        <p:spPr>
          <a:xfrm>
            <a:off x="0" y="126540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ognition-thinking, knowing, remembering, communicating, AND all mental activities associated with these proc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oncepts-mental grouping                                 of similar objects, events,                                     ideas, or peo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http://palelitebaseball.com/images/baseball.jpg"/>
          <p:cNvPicPr/>
          <p:nvPr/>
        </p:nvPicPr>
        <p:blipFill>
          <a:blip r:embed="rId1"/>
          <a:stretch/>
        </p:blipFill>
        <p:spPr>
          <a:xfrm>
            <a:off x="5334120" y="2925720"/>
            <a:ext cx="1417680" cy="14176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8" descr="http://beccasheppard.files.wordpress.com/2011/09/football.jpg"/>
          <p:cNvPicPr/>
          <p:nvPr/>
        </p:nvPicPr>
        <p:blipFill>
          <a:blip r:embed="rId2"/>
          <a:stretch/>
        </p:blipFill>
        <p:spPr>
          <a:xfrm>
            <a:off x="6912000" y="2925720"/>
            <a:ext cx="2209680" cy="14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0" y="-334800"/>
            <a:ext cx="9144000" cy="163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Language Structur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Content Placeholder 2"/>
          <p:cNvSpPr/>
          <p:nvPr/>
        </p:nvSpPr>
        <p:spPr>
          <a:xfrm>
            <a:off x="-7920" y="83808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honemes: smallest distinctive sound un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at”-3 sound units: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&amp;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 t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**not the same as letters**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“chat”-also 3 sound units: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c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&amp;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orphemes: smallest units that carry mea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n be phonemes, i.e.-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“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” at the end of 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n be a word, i.e.-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gen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n be prefixes &amp; suffixes, i.e.-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p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view, anger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-334800"/>
            <a:ext cx="9144000" cy="163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Language Structur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Content Placeholder 2"/>
          <p:cNvSpPr/>
          <p:nvPr/>
        </p:nvSpPr>
        <p:spPr>
          <a:xfrm>
            <a:off x="-7920" y="83808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honemes: smallest distinctive sound un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at”-3 sound units: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&amp;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 t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**not the same as letters**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“chat”-also 3 sound units: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c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&amp;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orphemes: smallest units that carry mea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n be phonemes, i.e.-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“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” at the end of 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n be a word, i.e.-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gen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n be prefixes &amp; suffixes, i.e.-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p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view, anger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rammar: system of rules that enables communication with oth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mantics: rules for deriving meaning from sou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ntax: rules for ordering words into sent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-380880"/>
            <a:ext cx="9144000" cy="163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Language Development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-380880"/>
            <a:ext cx="9144000" cy="163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Language Development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Content Placeholder 2"/>
          <p:cNvSpPr/>
          <p:nvPr/>
        </p:nvSpPr>
        <p:spPr>
          <a:xfrm>
            <a:off x="0" y="96048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ceptive language: a child’s ability to understand what is said to &amp; about th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ypically develops by 4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0" y="-380880"/>
            <a:ext cx="9144000" cy="163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Language Development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Content Placeholder 2"/>
          <p:cNvSpPr/>
          <p:nvPr/>
        </p:nvSpPr>
        <p:spPr>
          <a:xfrm>
            <a:off x="0" y="96048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ceptive language: a child’s ability to understand what is said to &amp; about th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ypically develops by 4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roductive language: ability to produce wor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0" y="-380880"/>
            <a:ext cx="9144000" cy="163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Language Development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Content Placeholder 2"/>
          <p:cNvSpPr/>
          <p:nvPr/>
        </p:nvSpPr>
        <p:spPr>
          <a:xfrm>
            <a:off x="0" y="96048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ceptive language: a child’s ability to understand what is said to &amp; about th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ypically develops by 4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roductive language: ability to produce wor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abbling stage: at 4 months, spontaneous sounds One-word stage: around 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birthday, single-word speech begi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-380880"/>
            <a:ext cx="9144000" cy="163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Language Development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Content Placeholder 2"/>
          <p:cNvSpPr/>
          <p:nvPr/>
        </p:nvSpPr>
        <p:spPr>
          <a:xfrm>
            <a:off x="0" y="96048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ceptive language: a child’s ability to understand what is said to &amp; about th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ypically develops by 4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roductive language: ability to produce wor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abbling stage: at 4 months, spontaneous sounds One-word stage: around 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birthday, single-word speech begi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wo-word stage: around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birthday, two word sentences (also known as “telegraphic speech”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0" y="-380880"/>
            <a:ext cx="9144000" cy="163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Language Development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Content Placeholder 2"/>
          <p:cNvSpPr/>
          <p:nvPr/>
        </p:nvSpPr>
        <p:spPr>
          <a:xfrm>
            <a:off x="0" y="96048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ceptive language: a child’s ability to understand what is said to &amp; about th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ypically develops by 4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roductive language: ability to produce wor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abbling stage: at 4 months, spontaneous sounds One-word stage: around 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birthday, single-word speech begi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wo-word stage: around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birthday, two word sentences (also known as “telegraphic speech”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fter telegraphic speech, children rapidly begin using longer sentenc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-30528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Explaining Language Develop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0" y="-30528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Explaining Language Develop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Content Placeholder 2"/>
          <p:cNvSpPr/>
          <p:nvPr/>
        </p:nvSpPr>
        <p:spPr>
          <a:xfrm>
            <a:off x="0" y="106668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Noam Chomsk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25920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  <a:ea typeface="Arial"/>
              </a:rPr>
              <a:t>Cognition, Concepts &amp; Prototypes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Content Placeholder 2"/>
          <p:cNvSpPr/>
          <p:nvPr/>
        </p:nvSpPr>
        <p:spPr>
          <a:xfrm>
            <a:off x="0" y="126540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ognition-thinking, knowing, remembering, communicating, AND all mental activities associated with these proc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oncepts-mental grouping                                 of similar objects, events,                                     ideas, or peo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rototypes-mental image or best example of a categ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6" descr="http://palelitebaseball.com/images/baseball.jpg"/>
          <p:cNvPicPr/>
          <p:nvPr/>
        </p:nvPicPr>
        <p:blipFill>
          <a:blip r:embed="rId1"/>
          <a:stretch/>
        </p:blipFill>
        <p:spPr>
          <a:xfrm>
            <a:off x="5334120" y="2925720"/>
            <a:ext cx="1417680" cy="14176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8" descr="http://beccasheppard.files.wordpress.com/2011/09/football.jpg"/>
          <p:cNvPicPr/>
          <p:nvPr/>
        </p:nvPicPr>
        <p:blipFill>
          <a:blip r:embed="rId2"/>
          <a:stretch/>
        </p:blipFill>
        <p:spPr>
          <a:xfrm>
            <a:off x="6912000" y="2925720"/>
            <a:ext cx="2209680" cy="14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0" y="-30528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Explaining Language Develop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Content Placeholder 2"/>
          <p:cNvSpPr/>
          <p:nvPr/>
        </p:nvSpPr>
        <p:spPr>
          <a:xfrm>
            <a:off x="0" y="106668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Noam Chomsk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All languages share basic elem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Universal Gramm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uns, verbs, adjectives, e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0" y="-30528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Explaining Language Develop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Content Placeholder 2"/>
          <p:cNvSpPr/>
          <p:nvPr/>
        </p:nvSpPr>
        <p:spPr>
          <a:xfrm>
            <a:off x="0" y="106668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Noam Chomsk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All languages share basic elem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Universal Gramm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uns, verbs, adjectives, e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Language acquisition devi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orn with a built-in predisposition to learn grammar ru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0" y="-30528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Explaining Language Development,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Content Placeholder 2"/>
          <p:cNvSpPr/>
          <p:nvPr/>
        </p:nvSpPr>
        <p:spPr>
          <a:xfrm>
            <a:off x="14400" y="990720"/>
            <a:ext cx="91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tatistical Lea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Human infants are extremely proficient in learn statistical aspects of spee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breaks, syllable grouping, simple sentence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0" y="-30528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Explaining Language Development,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Content Placeholder 2"/>
          <p:cNvSpPr/>
          <p:nvPr/>
        </p:nvSpPr>
        <p:spPr>
          <a:xfrm>
            <a:off x="14400" y="990720"/>
            <a:ext cx="91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tatistical Lea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Human infants are extremely proficient in learn statistical aspects of spee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breaks, syllable grouping, simple sentence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ritical Peri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Childhood represents the best opportunity to master certain aspects of languag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language-learning window” appears to begin to close around age 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0" y="-30528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Explaining Language Development,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0" y="-380880"/>
            <a:ext cx="9144000" cy="163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Brain and Languag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0" y="-380880"/>
            <a:ext cx="9144000" cy="163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Brain and Languag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0" y="-380880"/>
            <a:ext cx="9144000" cy="163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Brain and Languag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Content Placeholder 2"/>
          <p:cNvSpPr/>
          <p:nvPr/>
        </p:nvSpPr>
        <p:spPr>
          <a:xfrm>
            <a:off x="-1440" y="76212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phasia: an impairment of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Can result from damage to several cortical are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0" y="-380880"/>
            <a:ext cx="9144000" cy="163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Brain and Languag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Content Placeholder 2"/>
          <p:cNvSpPr/>
          <p:nvPr/>
        </p:nvSpPr>
        <p:spPr>
          <a:xfrm>
            <a:off x="-1440" y="76212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phasia: an impairment of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Can result from damage to several cortical are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roca’s Area: controls language expre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Frontal lobe (usually the left hemispher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Directs the muscle movements involved in speec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0" y="-380880"/>
            <a:ext cx="9144000" cy="163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Brain and Languag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Content Placeholder 2"/>
          <p:cNvSpPr/>
          <p:nvPr/>
        </p:nvSpPr>
        <p:spPr>
          <a:xfrm>
            <a:off x="-1440" y="76212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phasia: an impairment of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Can result from damage to several cortical are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roca’s Area: controls language expre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Frontal lobe (usually the left hemispher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Directs the muscle movements involved in speec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2" descr="C:\Users\KKorek\Documents\ABCFiles\2013 Myers AP 2e\Images\ImageJPGs_Module36\ImageJPGs_Module36\MyAP2e_fig_36_02.jpg"/>
          <p:cNvPicPr/>
          <p:nvPr/>
        </p:nvPicPr>
        <p:blipFill>
          <a:blip r:embed="rId1"/>
          <a:stretch/>
        </p:blipFill>
        <p:spPr>
          <a:xfrm>
            <a:off x="3886200" y="3200400"/>
            <a:ext cx="5257800" cy="3657600"/>
          </a:xfrm>
          <a:prstGeom prst="rect">
            <a:avLst/>
          </a:prstGeom>
          <a:ln w="0">
            <a:noFill/>
          </a:ln>
        </p:spPr>
      </p:pic>
      <p:sp>
        <p:nvSpPr>
          <p:cNvPr id="192" name="Rectangle 1"/>
          <p:cNvSpPr/>
          <p:nvPr/>
        </p:nvSpPr>
        <p:spPr>
          <a:xfrm>
            <a:off x="3886200" y="3211560"/>
            <a:ext cx="2514600" cy="36464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80880"/>
            <a:ext cx="9144000" cy="163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reativity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Content Placeholder 2"/>
          <p:cNvSpPr/>
          <p:nvPr/>
        </p:nvSpPr>
        <p:spPr>
          <a:xfrm>
            <a:off x="0" y="91440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0" y="-380880"/>
            <a:ext cx="9144000" cy="163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Brain and Languag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Content Placeholder 2"/>
          <p:cNvSpPr/>
          <p:nvPr/>
        </p:nvSpPr>
        <p:spPr>
          <a:xfrm>
            <a:off x="-1440" y="76212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phasia: an impairment of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Can result from damage to several cortical are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roca’s Area: controls language expre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Frontal lobe (usually the left hemispher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Directs the muscle movements involved in speec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ernicke’s Area:                                                controls language                                               rece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Temporal lobe                                                                     (usually in the left                                                   hemispher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Comprehension &amp;                                                          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expression of speech                   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2" descr="C:\Users\KKorek\Documents\ABCFiles\2013 Myers AP 2e\Images\ImageJPGs_Module36\ImageJPGs_Module36\MyAP2e_fig_36_02.jpg"/>
          <p:cNvPicPr/>
          <p:nvPr/>
        </p:nvPicPr>
        <p:blipFill>
          <a:blip r:embed="rId1"/>
          <a:stretch/>
        </p:blipFill>
        <p:spPr>
          <a:xfrm>
            <a:off x="3886200" y="3200400"/>
            <a:ext cx="5257800" cy="3657600"/>
          </a:xfrm>
          <a:prstGeom prst="rect">
            <a:avLst/>
          </a:prstGeom>
          <a:ln w="0">
            <a:noFill/>
          </a:ln>
        </p:spPr>
      </p:pic>
      <p:sp>
        <p:nvSpPr>
          <p:cNvPr id="196" name="Rectangle 4"/>
          <p:cNvSpPr/>
          <p:nvPr/>
        </p:nvSpPr>
        <p:spPr>
          <a:xfrm>
            <a:off x="3886200" y="3211560"/>
            <a:ext cx="2514600" cy="36464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0" y="-380880"/>
            <a:ext cx="9144000" cy="163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Brain and Languag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Content Placeholder 2"/>
          <p:cNvSpPr/>
          <p:nvPr/>
        </p:nvSpPr>
        <p:spPr>
          <a:xfrm>
            <a:off x="-1440" y="76212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phasia: an impairment of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Can result from damage to several cortical are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roca’s Area: controls language expre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Frontal lobe (usually the left hemispher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Directs the muscle movements involved in speec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ernicke’s Area:                                                controls language                                               rece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Temporal lobe                                                                     (usually in the left                                                   hemispher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Comprehension &amp;                                                          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expression of speech                   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2" descr="C:\Users\KKorek\Documents\ABCFiles\2013 Myers AP 2e\Images\ImageJPGs_Module36\ImageJPGs_Module36\MyAP2e_fig_36_02.jpg"/>
          <p:cNvPicPr/>
          <p:nvPr/>
        </p:nvPicPr>
        <p:blipFill>
          <a:blip r:embed="rId1"/>
          <a:stretch/>
        </p:blipFill>
        <p:spPr>
          <a:xfrm>
            <a:off x="3886200" y="3200400"/>
            <a:ext cx="52578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-380880"/>
            <a:ext cx="9144000" cy="163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Brain and Language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0" y="-380880"/>
            <a:ext cx="9144000" cy="163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Brain and Language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Content Placeholder 2"/>
          <p:cNvSpPr/>
          <p:nvPr/>
        </p:nvSpPr>
        <p:spPr>
          <a:xfrm>
            <a:off x="-1440" y="111276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odern neuroscience has shown that when processing language, the brain divides its’ mental fun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Different neural networks are activated by nouns &amp; verbs, objects &amp; actions, different vowels, et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0" y="-380880"/>
            <a:ext cx="9144000" cy="163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Brain and Language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Content Placeholder 2"/>
          <p:cNvSpPr/>
          <p:nvPr/>
        </p:nvSpPr>
        <p:spPr>
          <a:xfrm>
            <a:off x="-1440" y="111276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odern neuroscience has shown that when processing language, the brain divides its’ mental fun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Different neural networks are activated by nouns &amp; verbs, objects &amp; actions, different vowels, et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Different neural networks are activated by one’s native language &amp; second languages (learned later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0" y="-380880"/>
            <a:ext cx="9144000" cy="163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Language and Thought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0" y="-380880"/>
            <a:ext cx="9144000" cy="163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Language and Thought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Content Placeholder 2"/>
          <p:cNvSpPr/>
          <p:nvPr/>
        </p:nvSpPr>
        <p:spPr>
          <a:xfrm>
            <a:off x="0" y="99072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enjamin Lee Who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Linguistic determinism: language determines the way we thi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0" y="-380880"/>
            <a:ext cx="9144000" cy="163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Language and Thought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Content Placeholder 2"/>
          <p:cNvSpPr/>
          <p:nvPr/>
        </p:nvSpPr>
        <p:spPr>
          <a:xfrm>
            <a:off x="0" y="99072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enjamin Lee Who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Linguistic determinism: language determines the way we thi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 extreme-we think about things for which we have no w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ilingual individuals DO think differently in different langu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0" y="-380880"/>
            <a:ext cx="9144000" cy="163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Language Influences Thinking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0" y="-380880"/>
            <a:ext cx="9144000" cy="163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Language Influences Thinking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Rectangle 1"/>
          <p:cNvSpPr/>
          <p:nvPr/>
        </p:nvSpPr>
        <p:spPr>
          <a:xfrm>
            <a:off x="-304920" y="990720"/>
            <a:ext cx="4572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anguage doesn’t determine what we think, but it does influence how we thin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80880"/>
            <a:ext cx="9144000" cy="163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reativity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Content Placeholder 2"/>
          <p:cNvSpPr/>
          <p:nvPr/>
        </p:nvSpPr>
        <p:spPr>
          <a:xfrm>
            <a:off x="0" y="91440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he ability to produce novel and/or valuable ide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0" y="-380880"/>
            <a:ext cx="9144000" cy="163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Language Influences Thinking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4" name="Picture 2" descr="C:\Users\KKorek\Documents\ABCFiles\2013 Myers AP 2e\Images\ImageJPGs_Module36\ImageJPGs_Module36\MyAP2e_fig_36_04.jpg"/>
          <p:cNvPicPr/>
          <p:nvPr/>
        </p:nvPicPr>
        <p:blipFill>
          <a:blip r:embed="rId1"/>
          <a:stretch/>
        </p:blipFill>
        <p:spPr>
          <a:xfrm>
            <a:off x="4267080" y="990720"/>
            <a:ext cx="4876920" cy="5878440"/>
          </a:xfrm>
          <a:prstGeom prst="rect">
            <a:avLst/>
          </a:prstGeom>
          <a:ln w="0">
            <a:noFill/>
          </a:ln>
        </p:spPr>
      </p:pic>
      <p:sp>
        <p:nvSpPr>
          <p:cNvPr id="215" name="Rectangle 1"/>
          <p:cNvSpPr/>
          <p:nvPr/>
        </p:nvSpPr>
        <p:spPr>
          <a:xfrm>
            <a:off x="-304920" y="990720"/>
            <a:ext cx="4572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anguage doesn’t determine what we think, but it does influence how we thin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6" name="Elbow Connector 3"/>
          <p:cNvCxnSpPr/>
          <p:nvPr/>
        </p:nvCxnSpPr>
        <p:spPr>
          <a:xfrm flipH="1" rot="16200000">
            <a:off x="5883840" y="3369960"/>
            <a:ext cx="4995000" cy="1220040"/>
          </a:xfrm>
          <a:prstGeom prst="bentConnector3">
            <a:avLst>
              <a:gd name="adj1" fmla="val 742"/>
            </a:avLst>
          </a:prstGeom>
          <a:ln cap="rnd" w="304920">
            <a:solidFill>
              <a:srgbClr val="ffffff"/>
            </a:solidFill>
            <a:miter/>
          </a:ln>
        </p:spPr>
      </p:cxnSp>
      <p:sp>
        <p:nvSpPr>
          <p:cNvPr id="217" name="Straight Connector 11"/>
          <p:cNvSpPr/>
          <p:nvPr/>
        </p:nvSpPr>
        <p:spPr>
          <a:xfrm>
            <a:off x="7696080" y="6248520"/>
            <a:ext cx="1295640" cy="0"/>
          </a:xfrm>
          <a:prstGeom prst="line">
            <a:avLst/>
          </a:prstGeom>
          <a:ln w="609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0" y="-380880"/>
            <a:ext cx="9144000" cy="163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Language Influences Thinking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9" name="Picture 2" descr="C:\Users\KKorek\Documents\ABCFiles\2013 Myers AP 2e\Images\ImageJPGs_Module36\ImageJPGs_Module36\MyAP2e_fig_36_04.jpg"/>
          <p:cNvPicPr/>
          <p:nvPr/>
        </p:nvPicPr>
        <p:blipFill>
          <a:blip r:embed="rId1"/>
          <a:stretch/>
        </p:blipFill>
        <p:spPr>
          <a:xfrm>
            <a:off x="4267080" y="990720"/>
            <a:ext cx="4876920" cy="5878440"/>
          </a:xfrm>
          <a:prstGeom prst="rect">
            <a:avLst/>
          </a:prstGeom>
          <a:ln w="0">
            <a:noFill/>
          </a:ln>
        </p:spPr>
      </p:pic>
      <p:sp>
        <p:nvSpPr>
          <p:cNvPr id="220" name="Rectangle 1"/>
          <p:cNvSpPr/>
          <p:nvPr/>
        </p:nvSpPr>
        <p:spPr>
          <a:xfrm>
            <a:off x="-304920" y="990720"/>
            <a:ext cx="4572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anguage doesn’t determine what we think, but it does influence how we thin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hinking also influences our 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1" name="Elbow Connector 3"/>
          <p:cNvCxnSpPr/>
          <p:nvPr/>
        </p:nvCxnSpPr>
        <p:spPr>
          <a:xfrm flipH="1" rot="16200000">
            <a:off x="5883840" y="3369960"/>
            <a:ext cx="4995000" cy="1220040"/>
          </a:xfrm>
          <a:prstGeom prst="bentConnector3">
            <a:avLst>
              <a:gd name="adj1" fmla="val 742"/>
            </a:avLst>
          </a:prstGeom>
          <a:ln cap="rnd" w="304920">
            <a:solidFill>
              <a:srgbClr val="ffffff"/>
            </a:solidFill>
            <a:miter/>
          </a:ln>
        </p:spPr>
      </p:cxnSp>
      <p:sp>
        <p:nvSpPr>
          <p:cNvPr id="222" name="Straight Connector 11"/>
          <p:cNvSpPr/>
          <p:nvPr/>
        </p:nvSpPr>
        <p:spPr>
          <a:xfrm>
            <a:off x="7696080" y="6248520"/>
            <a:ext cx="1295640" cy="0"/>
          </a:xfrm>
          <a:prstGeom prst="line">
            <a:avLst/>
          </a:prstGeom>
          <a:ln w="609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0" y="-380880"/>
            <a:ext cx="9144000" cy="163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Language Influences Thinking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4" name="Picture 2" descr="C:\Users\KKorek\Documents\ABCFiles\2013 Myers AP 2e\Images\ImageJPGs_Module36\ImageJPGs_Module36\MyAP2e_fig_36_04.jpg"/>
          <p:cNvPicPr/>
          <p:nvPr/>
        </p:nvPicPr>
        <p:blipFill>
          <a:blip r:embed="rId1"/>
          <a:stretch/>
        </p:blipFill>
        <p:spPr>
          <a:xfrm>
            <a:off x="4267080" y="990720"/>
            <a:ext cx="4876920" cy="5878440"/>
          </a:xfrm>
          <a:prstGeom prst="rect">
            <a:avLst/>
          </a:prstGeom>
          <a:ln w="0">
            <a:noFill/>
          </a:ln>
        </p:spPr>
      </p:pic>
      <p:sp>
        <p:nvSpPr>
          <p:cNvPr id="225" name="Rectangle 1"/>
          <p:cNvSpPr/>
          <p:nvPr/>
        </p:nvSpPr>
        <p:spPr>
          <a:xfrm>
            <a:off x="-304920" y="990720"/>
            <a:ext cx="45720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anguage doesn’t determine what we think, but it does influence how we thin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hinking also influences our 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Exit Ticket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7920" y="1219320"/>
            <a:ext cx="91360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-Identify &amp; BRIEFLY explain the 3 structural components of languag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2-Identify brain areas involved in language reception and language express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3-How are other areas of the brain involved in language processing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4-What is the relationship between language &amp; thinking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1T13:22:39Z</dcterms:created>
  <dc:creator>GSD</dc:creator>
  <dc:description/>
  <dc:language>en-US</dc:language>
  <cp:lastModifiedBy>Debes John</cp:lastModifiedBy>
  <dcterms:modified xsi:type="dcterms:W3CDTF">2016-12-14T13:33:43Z</dcterms:modified>
  <cp:revision>256</cp:revision>
  <dc:subject/>
  <dc:title>Slide 1</dc:title>
</cp:coreProperties>
</file>