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0AC-2C00-4902-908D-0DBA52E2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F97-6379-4B37-8225-5592F1BF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034-4239-44B5-AB27-E2AD80AB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127-4F55-457F-9289-FA7E3C1A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C02-6D09-42DF-8953-3C0A6091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993-E941-45FC-BECD-DBA1D56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3BF-21A2-4BCE-A987-C7F55262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CAC-6AC5-4779-B6A6-CDD8311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94B-EFF5-43B8-BCE9-8E14497F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2E9-1D62-4319-BF67-4DFBF4B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298-9F38-463D-907F-61CC51A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2B3-49F0-4866-976C-2E44834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4050-E66E-46C5-844E-C39BED4B1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2 &amp; 33: Storing memories, Retrieving memories, Why we forget, Memory construction, and memory impr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36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asuring Re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2556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ways to measure rete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all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tri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information learned earlier that isn’t currently in your conscious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-in-the-blank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gnition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ems previously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-choic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earning-learning something more quickly when learning it a second (or later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ing for a final exam (AP Ex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Cues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ext-Dependent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-Dependent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ial Posi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440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i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ctivation, often unconsciously, of associations in mem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303720" y="2011320"/>
            <a:ext cx="58546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828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Context/State-Dependent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ntext-dependent memory: it is easier to retrieve certain memories when circumstances around the memory are same for both the original encoding and retrie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turning to an old class room/home can trigger retrieval of mem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-dependent memory: easier to retrieve certain memories when you are in the same state (emotional, mental, etc) as when the memory was originally enco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mories formed when depressed are more likely to be retrieved in a future state of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ood-congru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ial Posi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ndency to recall the last and first items in a list better than the other items on the sam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ency effect-ability to recall the last items from a list, likely because the information is still in our work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macy effect-best recall for the first items on a list, likely because more time was spent rehear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plain how the roles of the hippocampus &amp; frontal lobes differ from the roles of the cerebellum &amp; basal ganglia in memory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&amp; explain what LTP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 one example of serial position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3-Why we forget, memory construction, and memory improve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we forg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two-track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orage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Two-Track Mi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1680" y="914400"/>
            <a:ext cx="853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ortful processing-explici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ic processing-implici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erograde amnesia:                                     loss of the ability to                                                  form new (explicit)                                                     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the ability to form                                                      new (implicit) memories                                                  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rograde amnesia:                                               inability to retrieve                                            information from one’s                                        past (stored in long-term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KKorek\Documents\ABCFiles\2013 Myers AP 2e\Images\ImageJPGS_Module33\ImageJPGS_Module33\MyAP2e_33UN01.jpg"/>
          <p:cNvPicPr/>
          <p:nvPr/>
        </p:nvPicPr>
        <p:blipFill>
          <a:blip r:embed="rId1"/>
          <a:stretch/>
        </p:blipFill>
        <p:spPr>
          <a:xfrm>
            <a:off x="4495680" y="2057400"/>
            <a:ext cx="46483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4362480"/>
            <a:ext cx="9126360" cy="23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KKorek\Documents\ABCFiles\2013 Myers AP 2e\Images\ImageJPGS_Module33\ImageJPGS_Module33\MyAP2e_33UN09.jpg"/>
          <p:cNvPicPr/>
          <p:nvPr/>
        </p:nvPicPr>
        <p:blipFill>
          <a:blip r:embed="rId2"/>
          <a:stretch/>
        </p:blipFill>
        <p:spPr>
          <a:xfrm>
            <a:off x="2819520" y="1430280"/>
            <a:ext cx="354312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ncoding Fail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0" y="731880"/>
            <a:ext cx="853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we don’t notice, we don’t en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we                                                           fail to                                                             encode, we                                                        can never                                                         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2-Memory Storage &amp; Retriev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torage Dec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0" y="83808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n after successful encoding, we can later forge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ermann) Ebbinghaus curv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getting is rapid at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, then levels off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possible                                                             explanation                                                                         is a gradual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ding of the physical memory trace; unproven (for now) theory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6858000" cy="358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KKorek\Documents\ABCFiles\2013 Myers AP 2e\Images\ImageJPGS_Module33\ImageJPGS_Module33\MyAP2e_fig_33_02b.jpg"/>
          <p:cNvPicPr/>
          <p:nvPr/>
        </p:nvPicPr>
        <p:blipFill>
          <a:blip r:embed="rId2"/>
          <a:stretch/>
        </p:blipFill>
        <p:spPr>
          <a:xfrm>
            <a:off x="0" y="2362320"/>
            <a:ext cx="21099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" y="-3877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KKorek\Documents\ABCFiles\2013 Myers AP 2e\Images\ImageJPGS_Module33\ImageJPGS_Module33\MyAP2e_33UN09.jpg"/>
          <p:cNvPicPr/>
          <p:nvPr/>
        </p:nvPicPr>
        <p:blipFill>
          <a:blip r:embed="rId1"/>
          <a:stretch/>
        </p:blipFill>
        <p:spPr>
          <a:xfrm>
            <a:off x="2819520" y="1658880"/>
            <a:ext cx="3543120" cy="28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-12600" y="4513320"/>
            <a:ext cx="9132840" cy="2386080"/>
          </a:xfrm>
          <a:prstGeom prst="rect">
            <a:avLst/>
          </a:prstGeom>
          <a:ln w="0">
            <a:noFill/>
          </a:ln>
        </p:spPr>
      </p:pic>
      <p:sp>
        <p:nvSpPr>
          <p:cNvPr id="92" name="Content Placeholder 2"/>
          <p:cNvSpPr/>
          <p:nvPr/>
        </p:nvSpPr>
        <p:spPr>
          <a:xfrm>
            <a:off x="0" y="68580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times, forgotten information is not faded memories, but unretrieved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" y="-3877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trieval Failur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685800"/>
            <a:ext cx="91440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caused/worsened by interference and/or motivated for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active interference-Prior learning disrupts your recall of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e.- email password that you’ve used for year may prevent you from remembering your student account password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oactive interference-New learning disrupts recall of ol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-e.- learning a new recipe may prevent you from being able to remember an older rec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vated for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is there, but we subconsciously choose not to retrieve it because it would be embarrassing or unpleasant to remember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116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Construction Erro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11160" y="121932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information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agination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urce am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erning true/false mem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isinforma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700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exposed to misleading information/questions, we can incorporate that information into our memory retrieval, leading to construction of a fals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yAP1e_fig_7a_26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agination Effe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edly imagined actions/events can lead to construction of false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ed photos/videos can also result in thi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29040"/>
            <a:ext cx="91440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ource Amnes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8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we attribute an event (that we’ve experienced, heard about, read about, or imagined) to the wrong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hors/song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illa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éjà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es from a current situation may unconsciously trigger retrieval of an earlier experience that we wrongly attribute as having “done this bef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iscerning True and False Mem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arly impossible to separate suggested ideas from real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the “suggestions” are from outsid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the “suggestions” are our own doing-filling in “gaps” in a memory with guesse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ng children’s recollections can be easily m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pressed or Constructed Memories of Abu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0" y="15397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has shown that children are highly susceptible to suggestive 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n’t mean children’s eyewitnesses testimony or memories are never accurate, but that care must be taken to question them with non-suggestive, neutr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as of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ual abus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justic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gett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ed memories are                                                          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62520" y="46483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ies before 3 years are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notic memories are         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ies can be emotionally up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proving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has demonstrated that the following techniques can improve your ability to remember/recall/retrieve information when you need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hearse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the material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e retrieval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mnemonic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iz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eep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 your own knowledge, both to rehearse it and to help determine what you do not ye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Stor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11160" y="914400"/>
            <a:ext cx="8599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ories are NOT stored in one part of                        of the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KKorek\Documents\ABCFiles\2013 Myers AP 2e\Images\ImageJPGS_Module32\ImageJPGS_Module32\MyAP2e_32UN01.jpg"/>
          <p:cNvPicPr/>
          <p:nvPr/>
        </p:nvPicPr>
        <p:blipFill>
          <a:blip r:embed="rId1"/>
          <a:stretch/>
        </p:blipFill>
        <p:spPr>
          <a:xfrm>
            <a:off x="5181480" y="1905120"/>
            <a:ext cx="372456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Content Placeholder 2"/>
          <p:cNvSpPr/>
          <p:nvPr/>
        </p:nvSpPr>
        <p:spPr>
          <a:xfrm>
            <a:off x="0" y="2057400"/>
            <a:ext cx="510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in networks encode, store, &amp; retrieve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parts of the brain are involved in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0" y="1135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and BRIEFLY explain the 4 main reasons we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and BRIEFLY explain the 4 main memory constru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important to remember if questioning a child and/or helping him/her to recove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11160" y="91440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ntal L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memo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memories processed in each 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lobe-words/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lobe-visual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thememorypractice.com/wp-content/uploads/2012/05/Brain7.jpg"/>
          <p:cNvPicPr/>
          <p:nvPr/>
        </p:nvPicPr>
        <p:blipFill>
          <a:blip r:embed="rId1"/>
          <a:stretch/>
        </p:blipFill>
        <p:spPr>
          <a:xfrm>
            <a:off x="5486400" y="297180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11160" y="914400"/>
            <a:ext cx="913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ppo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process explicit memories for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mage/injury can cause retrieval problems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hippocampus-seems to be responsible for recall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hippocampus-seems                                                to be responsible for recall-                                               ing visual information &amp;                                                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sleep, the hippo-                                             campus processes memories                                          for later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KKorek\Documents\ABCFiles\2013 Myers AP 2e\Images\ImageJPGS_Module32\ImageJPGS_Module32\MyAP2e_fig_32_01.jpg"/>
          <p:cNvPicPr/>
          <p:nvPr/>
        </p:nvPicPr>
        <p:blipFill>
          <a:blip r:embed="rId1"/>
          <a:stretch/>
        </p:blipFill>
        <p:spPr>
          <a:xfrm>
            <a:off x="5257800" y="3048120"/>
            <a:ext cx="388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8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mplicit-Memory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7520" y="762120"/>
            <a:ext cx="9110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tion &amp; storage of implicit memories created by classic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al Gan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ically involved with motor                                      movement; help form                                   memories for performing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antile am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tions &amp; skills learned in                                         infancy stay with us as adults, even though our conscious memories of that time are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KKorek\Documents\ABCFiles\2013 Myers AP 2e\Images\ImageJPGS_Module32\ImageJPGS_Module32\MyAP2e_fig_32_02.jpg"/>
          <p:cNvPicPr/>
          <p:nvPr/>
        </p:nvPicPr>
        <p:blipFill>
          <a:blip r:embed="rId1"/>
          <a:stretch/>
        </p:blipFill>
        <p:spPr>
          <a:xfrm>
            <a:off x="5729400" y="1903320"/>
            <a:ext cx="3390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0" y="-313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motions and Mem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34920" y="990720"/>
            <a:ext cx="914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otions trigger release of stress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mong other things) these hormones make more glucose available to the brain-signals that something important has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oke the amygd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es a memory in the frontal lobes &amp; basal gan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osts activity in other memory-forming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otional arousal can mark certain events as important to remember, and disrupt memory formation for non-important events from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ashbulb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ynaptic Cha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with sea slugs indicated that serotonin is released into synapses when learning occu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g-term potentiation (L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experiments have shown that rapidly stimulating memory-circuit connections (both the sending &amp; receiving neurons) increases the connections between neurons &amp; made it easier for sending neurons to release 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a neural basis for learning &amp; rememb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(with rats/mice) confirms that LTP is a physical basis fo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4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mory Retriev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0" y="11430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asuring Re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trieval C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07T11:31:02Z</dcterms:modified>
  <cp:revision>284</cp:revision>
  <dc:subject/>
  <dc:title>Slide 1</dc:title>
</cp:coreProperties>
</file>