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1D0-F8F7-4E5C-99B0-6D23EDE4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5550-44A9-479C-A999-1E8E297D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0D17-DD55-4679-ACAC-5B9FE715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E021-34E2-482A-A3D1-9C74E697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E51A-4FA2-47CE-84AE-CD067267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76BC-C80B-46D4-AD85-3EFCB5C1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6BCE-9954-4C54-928B-6DDD3233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D50F-2562-41E4-809C-A90F9104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CB35-5329-46ED-8AF4-B6C6A32F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C1EA-0413-4429-8AEE-F0EC07C9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A58B-B54D-4233-9362-4B6D49E6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7FDC-EDD0-4DEC-9A07-D1A9D3EC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cd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222F-F9F1-4936-A539-C0C3CDA44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AP Psychology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t VII: Memory</a:t>
            </a:r>
            <a:br>
              <a:rPr sz="32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dules 32 &amp; 33: Storing memories, Retrieving memories, Why we forget, Memory construction, and memory improv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36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easuring Ret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ontent Placeholder 2"/>
          <p:cNvSpPr/>
          <p:nvPr/>
        </p:nvSpPr>
        <p:spPr>
          <a:xfrm>
            <a:off x="2556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ways to measure reten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all-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triev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information learned earlier that isn’t currently in your conscious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l-in-the-blank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ognition-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dentif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tems previously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-choice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learning-learning something more quickly when learning it a second (or later)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ing for a final exam (AP Ex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Retrieval Cues 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0" y="1189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i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ext-Dependent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e-Dependent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rial Position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440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rim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activation, often unconsciously, of associations in mem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303720" y="2011320"/>
            <a:ext cx="58546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1828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  <a:ea typeface="Arial"/>
              </a:rPr>
              <a:t>Context/State-Dependent Memory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Context-dependent memory: it is easier to retrieve certain memories when circumstances around the memory are same for both the original encoding and retriev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turning to an old class room/home can trigger retrieval of memo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te-dependent memory: easier to retrieve certain memories when you are in the same state (emotional, mental, etc) as when the memory was originally enco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emories formed when depressed are more likely to be retrieved in a future state of 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Mood-congruent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rial Position Effec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endency to recall the last and first items in a list better than the other items on the sam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cency effect-ability to recall the last items from a list, likely because the information is still in our working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imacy effect-best recall for the first items on a list, likely because more time was spent rehears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it Tick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xplain how the roles of the hippocampus &amp; frontal lobes differ from the roles of the cerebellum &amp; basal ganglia in memory proces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dentify &amp; explain what LTP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ive one example of serial position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33-Why we forget, memory construction, and memory improve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hy we forg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two-track m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ncoding fail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orage dec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trieval fail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Two-Track Min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tent Placeholder 2"/>
          <p:cNvSpPr/>
          <p:nvPr/>
        </p:nvSpPr>
        <p:spPr>
          <a:xfrm>
            <a:off x="31680" y="914400"/>
            <a:ext cx="8534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ffortful processing-explicit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ic processing-implicit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terograde amnesia:                                     loss of the ability to                                                  form new (explicit)                                                      mem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ten the ability to form                                                      new (implicit) memories                                                   re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trograde amnesia:                                               inability to retrieve                                            information from one’s                                        past (stored in long-term mem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KKorek\Documents\ABCFiles\2013 Myers AP 2e\Images\ImageJPGS_Module33\ImageJPGS_Module33\MyAP2e_33UN01.jpg"/>
          <p:cNvPicPr/>
          <p:nvPr/>
        </p:nvPicPr>
        <p:blipFill>
          <a:blip r:embed="rId1"/>
          <a:stretch/>
        </p:blipFill>
        <p:spPr>
          <a:xfrm>
            <a:off x="4495680" y="2057400"/>
            <a:ext cx="46483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4362480"/>
            <a:ext cx="9126360" cy="234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Users\KKorek\Documents\ABCFiles\2013 Myers AP 2e\Images\ImageJPGS_Module33\ImageJPGS_Module33\MyAP2e_33UN09.jpg"/>
          <p:cNvPicPr/>
          <p:nvPr/>
        </p:nvPicPr>
        <p:blipFill>
          <a:blip r:embed="rId2"/>
          <a:stretch/>
        </p:blipFill>
        <p:spPr>
          <a:xfrm>
            <a:off x="2819520" y="1430280"/>
            <a:ext cx="3543120" cy="2913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4575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ncoding Fail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ontent Placeholder 2"/>
          <p:cNvSpPr/>
          <p:nvPr/>
        </p:nvSpPr>
        <p:spPr>
          <a:xfrm>
            <a:off x="0" y="731880"/>
            <a:ext cx="8534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we don’t notice, we don’t en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we                                                           fail to                                                             encode, we                                                        can never                                                          re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32-Memory Storage &amp; Retrieva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torage Deca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ontent Placeholder 2"/>
          <p:cNvSpPr/>
          <p:nvPr/>
        </p:nvSpPr>
        <p:spPr>
          <a:xfrm>
            <a:off x="0" y="838080"/>
            <a:ext cx="914400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en after successful encoding, we can later forge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Hermann) Ebbinghaus curv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getting is rapid at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rst, then levels off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possible                                                             explanation                                                                         is a gradual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ding of the physical memory trace; unproven (for now) theory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6858000" cy="358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KKorek\Documents\ABCFiles\2013 Myers AP 2e\Images\ImageJPGS_Module33\ImageJPGS_Module33\MyAP2e_fig_33_02b.jpg"/>
          <p:cNvPicPr/>
          <p:nvPr/>
        </p:nvPicPr>
        <p:blipFill>
          <a:blip r:embed="rId2"/>
          <a:stretch/>
        </p:blipFill>
        <p:spPr>
          <a:xfrm>
            <a:off x="0" y="2362320"/>
            <a:ext cx="210996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80" y="-3877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Retrieval Fail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Users\KKorek\Documents\ABCFiles\2013 Myers AP 2e\Images\ImageJPGS_Module33\ImageJPGS_Module33\MyAP2e_33UN09.jpg"/>
          <p:cNvPicPr/>
          <p:nvPr/>
        </p:nvPicPr>
        <p:blipFill>
          <a:blip r:embed="rId1"/>
          <a:stretch/>
        </p:blipFill>
        <p:spPr>
          <a:xfrm>
            <a:off x="2819520" y="1658880"/>
            <a:ext cx="3543120" cy="2871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-12600" y="4513320"/>
            <a:ext cx="9132840" cy="2386080"/>
          </a:xfrm>
          <a:prstGeom prst="rect">
            <a:avLst/>
          </a:prstGeom>
          <a:ln w="0">
            <a:noFill/>
          </a:ln>
        </p:spPr>
      </p:pic>
      <p:sp>
        <p:nvSpPr>
          <p:cNvPr id="92" name="Content Placeholder 2"/>
          <p:cNvSpPr/>
          <p:nvPr/>
        </p:nvSpPr>
        <p:spPr>
          <a:xfrm>
            <a:off x="0" y="685800"/>
            <a:ext cx="914400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times, forgotten information is not faded memories, but unretrieved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80" y="-3877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Retrieval Failur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ontent Placeholder 2"/>
          <p:cNvSpPr/>
          <p:nvPr/>
        </p:nvSpPr>
        <p:spPr>
          <a:xfrm>
            <a:off x="0" y="685800"/>
            <a:ext cx="914400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be caused/worsened by interference and/or motivated forg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active interference-Prior learning disrupts your recall of new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.e.- email password that you’ve used for year may prevent you from remembering your student account password at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roactive interference-New learning disrupts recall of ol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-e.- learning a new recipe may prevent you from being able to remember an older reci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tivated forg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nformation is there, but we subconsciously choose not to retrieve it because it would be embarrassing or unpleasant to remember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1116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emory Construction Error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Content Placeholder 2"/>
          <p:cNvSpPr/>
          <p:nvPr/>
        </p:nvSpPr>
        <p:spPr>
          <a:xfrm>
            <a:off x="11160" y="1219320"/>
            <a:ext cx="913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isinformation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magination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ource amne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iscerning true/false mem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isinformation Effec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2700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exposed to misleading information/questions, we can incorporate that information into our memory retrieval, leading to construction of a fals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MyAP1e_fig_7a_26.jpg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magination Effec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ontent Placeholder 2"/>
          <p:cNvSpPr/>
          <p:nvPr/>
        </p:nvSpPr>
        <p:spPr>
          <a:xfrm>
            <a:off x="0" y="1189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edly imagined actions/events can lead to construction of false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tered photos/videos can also result in this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29040"/>
            <a:ext cx="9144000" cy="16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ource Amnesi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ontent Placeholder 2"/>
          <p:cNvSpPr/>
          <p:nvPr/>
        </p:nvSpPr>
        <p:spPr>
          <a:xfrm>
            <a:off x="28440" y="111276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n we attribute an event (that we’ve experienced, heard about, read about, or imagined) to the wrong sou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hors/songwr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nilla 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éjà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es from a current situation may unconsciously trigger retrieval of an earlier experience that we wrongly attribute as having “done this befo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806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Discerning True and False Memor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ontent Placeholder 2"/>
          <p:cNvSpPr/>
          <p:nvPr/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arly impossible to separate suggested ideas from real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times the “suggestions” are from outsid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times the “suggestions” are our own doing-filling in “gaps” in a memory with guesses/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ng children’s recollections can be easily mol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Repressed or Constructed Memories of Abus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0" y="1539720"/>
            <a:ext cx="9144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earch has shown that children are highly susceptible to suggestive ques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n’t mean children’s eyewitnesses testimony or memories are never accurate, but that care must be taken to question them with non-suggestive, neutr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as of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xual abuse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justice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getting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vered memories are                                                           in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962520" y="464832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ories before 3 years are un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notic memories are          un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ories can be emotionally up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mproving Memo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earch has demonstrated that the following techniques can improve your ability to remember/recall/retrieve information when you need 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hearse repeate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ke the material meaning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vate retrieval c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 mnemonic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nimize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leep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st your own knowledge, both to rehearse it and to help determine what you do not yet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emory Stor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ontent Placeholder 2"/>
          <p:cNvSpPr/>
          <p:nvPr/>
        </p:nvSpPr>
        <p:spPr>
          <a:xfrm>
            <a:off x="11160" y="914400"/>
            <a:ext cx="8599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mories are NOT stored in one part of                        of the b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KKorek\Documents\ABCFiles\2013 Myers AP 2e\Images\ImageJPGS_Module32\ImageJPGS_Module32\MyAP2e_32UN01.jpg"/>
          <p:cNvPicPr/>
          <p:nvPr/>
        </p:nvPicPr>
        <p:blipFill>
          <a:blip r:embed="rId1"/>
          <a:stretch/>
        </p:blipFill>
        <p:spPr>
          <a:xfrm>
            <a:off x="5181480" y="1905120"/>
            <a:ext cx="3724560" cy="4572000"/>
          </a:xfrm>
          <a:prstGeom prst="rect">
            <a:avLst/>
          </a:prstGeom>
          <a:ln w="0">
            <a:noFill/>
          </a:ln>
        </p:spPr>
      </p:pic>
      <p:sp>
        <p:nvSpPr>
          <p:cNvPr id="46" name="Content Placeholder 2"/>
          <p:cNvSpPr/>
          <p:nvPr/>
        </p:nvSpPr>
        <p:spPr>
          <a:xfrm>
            <a:off x="0" y="2057400"/>
            <a:ext cx="5105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ain networks encode, store, &amp; retrieve our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parts of the brain are involved in thes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xit Tick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ontent Placeholder 2"/>
          <p:cNvSpPr/>
          <p:nvPr/>
        </p:nvSpPr>
        <p:spPr>
          <a:xfrm>
            <a:off x="0" y="1135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dentify and BRIEFLY explain the 4 main reasons we fo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dentify and BRIEFLY explain the 4 main memory construction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important to remember if questioning a child and/or helping him/her to recover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plicit-Memory Syste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11160" y="914400"/>
            <a:ext cx="913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ontal L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ing memory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memories processed in each l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ft lobe-words/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ght lobe-visual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www.thememorypractice.com/wp-content/uploads/2012/05/Brain7.jpg"/>
          <p:cNvPicPr/>
          <p:nvPr/>
        </p:nvPicPr>
        <p:blipFill>
          <a:blip r:embed="rId1"/>
          <a:stretch/>
        </p:blipFill>
        <p:spPr>
          <a:xfrm>
            <a:off x="5486400" y="2971800"/>
            <a:ext cx="3657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plicit-Memory Syste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11160" y="914400"/>
            <a:ext cx="913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ppocam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process explicit memories for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mage/injury can cause retrieval problems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ft hippocampus-seems to be responsible for recalling verb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ght hippocampus-seems                                                to be responsible for recall-                                               ing visual information &amp;                                                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o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ring sleep, the hippo-                                             campus processes memories                                          for later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KKorek\Documents\ABCFiles\2013 Myers AP 2e\Images\ImageJPGS_Module32\ImageJPGS_Module32\MyAP2e_fig_32_01.jpg"/>
          <p:cNvPicPr/>
          <p:nvPr/>
        </p:nvPicPr>
        <p:blipFill>
          <a:blip r:embed="rId1"/>
          <a:stretch/>
        </p:blipFill>
        <p:spPr>
          <a:xfrm>
            <a:off x="5257800" y="3048120"/>
            <a:ext cx="3886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68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mplicit-Memory Syste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47520" y="762120"/>
            <a:ext cx="9110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mation &amp; storage of implicit memories created by classical cond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sal Gang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ically involved with motor                                      movement; help form                                   memories for performing ski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fantile amn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ctions &amp; skills learned in                                         infancy stay with us as adults, even though our conscious memories of that time are bl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KKorek\Documents\ABCFiles\2013 Myers AP 2e\Images\ImageJPGS_Module32\ImageJPGS_Module32\MyAP2e_fig_32_02.jpg"/>
          <p:cNvPicPr/>
          <p:nvPr/>
        </p:nvPicPr>
        <p:blipFill>
          <a:blip r:embed="rId1"/>
          <a:stretch/>
        </p:blipFill>
        <p:spPr>
          <a:xfrm>
            <a:off x="5729400" y="1903320"/>
            <a:ext cx="33908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0" y="-31320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motions and Memo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34920" y="990720"/>
            <a:ext cx="9140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motions trigger release of stress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mong other things) these hormones make more glucose available to the brain-signals that something important has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voke the amygd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tes a memory in the frontal lobes &amp; basal gan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osts activity in other memory-forming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motional arousal can mark certain events as important to remember, and disrupt memory formation for non-important events from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lashbulb Mem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ynaptic Chang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ontent Placeholder 2"/>
          <p:cNvSpPr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earch with sea slugs indicated that serotonin is released into synapses when learning occur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ng-term potentiation (L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uman experiments have shown that rapidly stimulating memory-circuit connections (both the sending &amp; receiving neurons) increases the connections between neurons &amp; made it easier for sending neurons to release 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vides a neural basis for learning &amp; rememb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earch (with rats/mice) confirms that LTP is a physical basis for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4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emory Retrieva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0" y="114300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easuring Re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trieval C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6-01-07T11:31:02Z</dcterms:modified>
  <cp:revision>284</cp:revision>
  <dc:subject/>
  <dc:title>Slide 1</dc:title>
</cp:coreProperties>
</file>