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AED6-96B7-4DD6-ACC4-A33B3EB18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erarchies-This PP-memory would be the broad concept; stages of memory, processing strategies, etc would be the narrower concep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8BBB-5804-4685-9E48-BD96A3A7C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AA1-92F2-40A2-9AD6-F1C526D8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06D9-F96F-44B0-B3A6-650973B8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2E19-7A4E-4585-9B03-4CE06478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C7A6-3501-4267-8423-98A1C5AB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0A82-6E6A-4792-804F-BAE50FEC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C363-FADE-4664-BB7E-03B83909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63D9-164B-41CA-9DD6-68A12667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498C-EB32-4F9D-9323-450789F6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5661-2F40-4AEC-ACE9-57D1E410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9753-6AE8-4B1D-9789-2BAFF6FA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C629-A587-4829-9E09-BF981382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C245-BBBF-49BE-9554-39FF39AA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cd"/>
            </a:gs>
            <a:gs pos="100000">
              <a:srgbClr val="f3f6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A430-E7BD-490F-8033-C6288A5A4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AP Psychology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t VII: Memory</a:t>
            </a:r>
            <a:br>
              <a:rPr sz="32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dule 31: Building memo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ssing strategies can boost our ability to form new memories, making it easier to retrieve those memories in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ing: organizing information into familiar, smaller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nemonics: memory aids that often use vivid imagery and/or organizational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erarchies-organization of broad concepts into narrower concepts &amp;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d practice-Spreading out the encoding of memorie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pacing effect-distributed study/practice has been shown to yield better long term retention than “cramming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esting effect-repeated self-testing enhances memory by retrieving, not just re-reading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ffortful Processing Strateg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92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evels of Process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earch has shown that we process verbal information at different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epth of processing impacts our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hallow processing-encoding on a basic level based on the structure or appearance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ep processing-encoding semantically, based on the meaning of the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nds to yield the best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aking Material Personally Meaningfu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12600" y="163044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king material meaningful leads to better retention &amp; retri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king material that you read or hear and being able to explain it in your own words is more effective than merely repeating/rewriting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lf-reference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ormation that is “relevant to you” is processed more deeply &amp; is more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0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xit Tick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2700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-Explain the 3-stage memory processing model, including the ideas of Atkinson &amp; Shiffrin, AND the concepts that recent research has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-Identify what explicit &amp; implicit memories are AND how they are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-Identify &amp; explain the 4 effortful processing strategies discussed in this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2761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tudying Memo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0" y="13716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m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arning that has persisted over time through the                       encoding, storage &amp; retrieval of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formation-processing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alogies that psychologists use to compare human memory to a computer’s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nformation-processing model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coding-the processing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tting information (into the b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orage-the retention of encod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eping tha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trieval-the recall of stor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tting the information from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emory-formation proces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Richard) Atkinson &amp; (Richard) Shiffrin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-stag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nsory memory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mediate, very brief recording of sensory information in the memor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hort-term memory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vated memory that holds a few items briefly before the information is stored or forg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-term memory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tively permanent &amp; limitless storehouse of the memory system; includes knowledge, skills, and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5029200"/>
            <a:ext cx="9156600" cy="1673280"/>
          </a:xfrm>
          <a:prstGeom prst="rect">
            <a:avLst/>
          </a:prstGeom>
          <a:ln w="0">
            <a:noFill/>
          </a:ln>
        </p:spPr>
      </p:pic>
      <p:sp>
        <p:nvSpPr>
          <p:cNvPr id="56" name="Straight Connector 2"/>
          <p:cNvSpPr/>
          <p:nvPr/>
        </p:nvSpPr>
        <p:spPr>
          <a:xfrm>
            <a:off x="76320" y="6553080"/>
            <a:ext cx="3809880" cy="0"/>
          </a:xfrm>
          <a:prstGeom prst="line">
            <a:avLst/>
          </a:prstGeom>
          <a:ln w="31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5257800" y="5181480"/>
            <a:ext cx="12952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7"/>
          <p:cNvSpPr/>
          <p:nvPr/>
        </p:nvSpPr>
        <p:spPr>
          <a:xfrm flipV="1">
            <a:off x="5257800" y="5668560"/>
            <a:ext cx="0" cy="274680"/>
          </a:xfrm>
          <a:prstGeom prst="line">
            <a:avLst/>
          </a:prstGeom>
          <a:ln w="190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10"/>
          <p:cNvSpPr/>
          <p:nvPr/>
        </p:nvSpPr>
        <p:spPr>
          <a:xfrm flipV="1">
            <a:off x="6553080" y="5675040"/>
            <a:ext cx="0" cy="274680"/>
          </a:xfrm>
          <a:prstGeom prst="line">
            <a:avLst/>
          </a:prstGeom>
          <a:ln w="254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5410080" y="5850000"/>
            <a:ext cx="990720" cy="4651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hort-term memo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emory-formation proces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pdated to include newer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king memory- a newer understanding of short-term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es on conscious, active processing of incoming auditory &amp; visual-spati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ve processing of information retrieved from long-term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tomatic processing-some information skips the encoding process &amp; is goes directly to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-12600" y="5029200"/>
            <a:ext cx="915660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4114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orking Memo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KKorek\Documents\ABCFiles\2013 Myers AP 2e\Images\ImageJPGS_Module31\ImageJPGS_Module31\MyAP2e_fig_31_03.jpg"/>
          <p:cNvPicPr/>
          <p:nvPr/>
        </p:nvPicPr>
        <p:blipFill>
          <a:blip r:embed="rId1"/>
          <a:stretch/>
        </p:blipFill>
        <p:spPr>
          <a:xfrm>
            <a:off x="228600" y="3200400"/>
            <a:ext cx="8686800" cy="3657600"/>
          </a:xfrm>
          <a:prstGeom prst="rect">
            <a:avLst/>
          </a:prstGeom>
          <a:ln w="0">
            <a:noFill/>
          </a:ln>
        </p:spPr>
      </p:pic>
      <p:sp>
        <p:nvSpPr>
          <p:cNvPr id="66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tive processing/rehearsal of new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hearsal of information retrieved from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ypothetic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entral execut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neural network) handles this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Building Memorie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ontent Placeholder 2"/>
          <p:cNvSpPr/>
          <p:nvPr/>
        </p:nvSpPr>
        <p:spPr>
          <a:xfrm>
            <a:off x="0" y="76212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ual-Track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tomatic Processing-encoding information automatically, without conscious at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icit memory: automatic skills &amp; classically conditioned stimuli (also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declarative mem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 also automatically process information about space, time &amp; frequ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ffortful Processing-encoding information that requires conscious eff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licit memories: memory of facts/experiences that we consciously know (also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larative mem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*Effortful processing can become automatic, with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Arial"/>
              </a:rPr>
              <a:t>Sensory Memory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267480" indent="-26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st people record information for only a few seconds before it must be actively processed by our working memory or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267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about photographic mem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26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re is no such thing as photographic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79240" indent="-267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idetic memory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ility to recall visual information in great detail after only brief exposure t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3600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ically found in a small percentage of children between 6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3600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rtually nonexistent in ad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9240" indent="-267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SAM (hyperthymesia)-ability to remember very intricate details of their own personal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36000" indent="-267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ability does not extend to other, non-autobiographic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36000" indent="-267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924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924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924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26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Arial"/>
              </a:rPr>
              <a:t>Sensory Memory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a typical person, sensory memories can be classified in 2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984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onic Memory-brief visual sensory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2788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cture-perfect image of the visual stimu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2788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sts just a few tenths of a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984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choic memory-brief auditory sensory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2788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ct recall of auditory input for no longer than 3-4 seco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84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984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iconic and echoic memories are constantly being replaced by new visual &amp; auditor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6-01-11T15:55:28Z</dcterms:modified>
  <cp:revision>285</cp:revision>
  <dc:subject/>
  <dc:title>Slide 1</dc:title>
</cp:coreProperties>
</file>