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E01B-DA79-4D11-9AE6-FA310CFD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erarchies-This PP-memory would be the broad concept; stages of memory, processing strategies, etc would be the narrowe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130-CE2A-434C-A71F-E1E1A603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751-2233-4152-8516-26108471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ABA-311D-4CC5-A2D1-B266C541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5E0-82C0-461B-8EEA-90A8C13A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228-3870-49E1-94B9-8FC16432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44E-E783-4AEB-9225-2E9B2BF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44C-930B-4692-BD25-749F403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A58-8604-4B8F-A37E-53384B58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953-CAC9-4799-A14A-E477E6D9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F3A-DC26-4223-91E7-A78E8161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171-0E69-49B0-86C3-5AB97ED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409-73C9-4AB2-BD4F-BD4FA7A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FAF-AA84-4854-B703-2D6FC2F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EA76-C4DD-4D4C-8340-A7FC1C47D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 31: Building mem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ing strategies can boost our ability to form new memories, making it easier to retrieve those memorie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ing: organizing information into familiar, smaller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emonics: memory aids that often use vivid imagery and/or organizationa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chies-organization of broad concepts into narrower concepts &amp;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practice-Spreading out the encoding of memori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cing effect-distributed study/practice has been shown to yield better long term retention than “cramming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ing effect-repeated self-testing enhances memory by retrieving, not just re-reading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 Strate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vels of Proces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has shown that we process verbal information at differ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pth of processing impacts our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allow processing-encoding on a basic level based on the structure or appearance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ep processing-encoding semantically, based on the meaning of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ds to yield the best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aking Material Personally Meaningfu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2600" y="16304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ing material meaningful leads to better retention &amp;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king material that you read or hear and being able to explain it in your own words is more effective than merely repeating/rewrit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f-referenc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 that is “relevant to you” is processed more deeply &amp; is more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0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700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-Explain the 3-stage memory processing model, including the ideas of Atkinson &amp; Shiffrin, AND the concepts that recent research ha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-Identify what explicit &amp; implicit memories are AND how they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-Identify &amp; explain the 4 effortful processing strategies discussed in this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761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tudy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at has persisted over time through the                       encoding, storage &amp; retrieval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-process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ogies that psychologists use to compare human memory to a computer’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formation-processing mode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oding-the processing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ting information (into the b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age-the retention of encod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eping tha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rieval-the recall of stor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ting the information from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-formation pro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ichard) Atkinson &amp; (Richard) Shiffri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-sta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sory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mediate, very brief recording of sensory information in the memo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ort-term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ated memory that holds a few items briefly before the information is stored or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-term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ly permanent &amp; limitless storehouse of the memory system; includes knowledge, skills, an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029200"/>
            <a:ext cx="9156600" cy="167328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"/>
          <p:cNvSpPr/>
          <p:nvPr/>
        </p:nvSpPr>
        <p:spPr>
          <a:xfrm>
            <a:off x="76320" y="6553080"/>
            <a:ext cx="3809880" cy="0"/>
          </a:xfrm>
          <a:prstGeom prst="line">
            <a:avLst/>
          </a:prstGeom>
          <a:ln w="31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5257800" y="51814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7"/>
          <p:cNvSpPr/>
          <p:nvPr/>
        </p:nvSpPr>
        <p:spPr>
          <a:xfrm flipV="1">
            <a:off x="5257800" y="5668560"/>
            <a:ext cx="0" cy="27468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 flipV="1">
            <a:off x="6553080" y="5675040"/>
            <a:ext cx="0" cy="27468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5410080" y="5850000"/>
            <a:ext cx="990720" cy="4651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hort-term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-formation pro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dated to include new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memory- a newer understanding of short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conscious, active processing of incoming auditory &amp; visual-spat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processing of information retrieved from long-ter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some information skips the encoding process &amp; is goes directly to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2600" y="5029200"/>
            <a:ext cx="9156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114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ork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KKorek\Documents\ABCFiles\2013 Myers AP 2e\Images\ImageJPGS_Module31\ImageJPGS_Module31\MyAP2e_fig_31_03.jpg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ive processing/rehearsal of new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hearsal of information retrieved from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othe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execu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neural network) handles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ilding Memor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0" y="76212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-Track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encoding information automatically, without conscious at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icit memory: automatic skills &amp; classically conditioned stimuli (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declarative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 also automatically process information about space, time &amp;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-encoding information that requires conscious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memories: memory of facts/experiences that we consciously know (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ve mem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Effortful processing can become automatic, with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ensory Memory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record information for only a few seconds before it must be actively processed by our working memory or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photographic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such thing as photographic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detic memory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recall visual information in great detail after only brief exposur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 found in a small percentage of children between 6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ly nonexistent in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AM (hyperthymesia)-ability to remember very intricate details of their own person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bility does not extend to other, non-autobiographi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ensory Memory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typical person, sensory memories can be classified in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onic Memory-brief visual sensor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-perfect image of the visu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s just a few tenths of a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ic memory-brief auditory sensory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ct recall of auditory input for no longer than 3-4 seco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iconic and echoic memories are constantly being replaced by new visual &amp; auditor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11T15:55:28Z</dcterms:modified>
  <cp:revision>285</cp:revision>
  <dc:subject/>
  <dc:title>Slide 1</dc:title>
</cp:coreProperties>
</file>