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96D-40B9-4308-9C61-A827D0CD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62D-3643-453E-A7AF-B0D0C49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A6D-6805-4DED-A711-764B9952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80E-4642-45CF-8E6D-F458038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3D0-69C3-4F09-AABF-905230C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9FA-8FF4-4F92-A17E-19ADEB83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F39-4DEF-44AB-9170-72BB4D8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B94-DBC4-4A7A-82A4-4CD1EC7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8F2-D870-41AA-9021-E6FAE1D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08D-1E9E-4464-9E45-F2807BF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2EA-2024-4F83-9234-ED263F8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1D6-5FE0-445B-8762-5B85CBBA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2A7-775C-4E65-8E77-AA4C32AD2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: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 child’s ability to understand what is said _____ &amp; ________________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bility to ______________________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  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____________, syllable_______________, simple sentence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 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________________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__________ 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_lobe (usually the _______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 lobe                                                                     (usually in the _____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962520" y="3200400"/>
            <a:ext cx="51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___________________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_____________________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___________________ &amp; seco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___________________________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__________________________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____________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-304920" y="99072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_______________ determine what we think, but it does influence ____________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: Step-by-step process; _____________________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: thinking strategies that allows us to make ___________________ &amp; solve problems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: sudden realization of a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  _____________: seeking out of evidence that _______________ our ideas &amp; _______________________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__________: approaching a problem with what has worked for us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________________________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__________________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____________________by letting our brain work on a problem without____________________ thinking about it, it’s usually __________________, &amp; it is implicit knowledge born of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dging the __________________________ of something in terms of how well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r 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_______________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_____________; our prototypes aren’t always accurate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8434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724280"/>
            <a:ext cx="18158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724280"/>
            <a:ext cx="181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ing the _______________________ of events based on their availability in our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memories cause us to believe events are more probable, while ___________________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______________of an event’s occurrence or its’ ________________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26480" y="645804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44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1479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-Tendency to overestimate the accuracy of our ___________________&amp;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 __________________________-Clinging to our beliefs in the face of _________________________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-The way an issue is presented or posed (framed) can_________________________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9T16:12:10Z</dcterms:modified>
  <cp:revision>263</cp:revision>
  <dc:subject/>
  <dc:title>Slide 1</dc:title>
</cp:coreProperties>
</file>