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E41-8E47-4C0A-ACA4-97B6F389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0C7-8346-4A6B-A02D-6C03D43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8DA-9777-44F5-9F82-6A691F16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985-AAE0-4700-BA95-21A567EA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E3E-9381-45AA-B237-421A6DA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768-C163-467A-A526-1EDAD1E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B3C-DB7D-4968-A3BD-370C5A93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173-84E2-46A6-9DC0-64158B3B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840-816E-452A-AE67-34B80C92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7DE-3C1D-40F4-9FEF-3E58A7B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DEB-7F32-4349-9971-988A6C4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EFF-0725-4E94-B294-4A2D5EB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5C6-17BE-4126-BF58-8D06AA339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cp:lastPrinted>2016-01-19T12:44:21Z</cp:lastPrinted>
  <dcterms:modified xsi:type="dcterms:W3CDTF">2016-01-19T12:45:03Z</dcterms:modified>
  <cp:revision>257</cp:revision>
  <dc:subject/>
  <dc:title>Slide 1</dc:title>
</cp:coreProperties>
</file>