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7EF-A603-4394-83DF-B938A72C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1A5-32C0-455E-B5CF-EA2A4C7C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E3B-0103-443A-A977-8CE21C3F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216-46CB-40F7-9C8D-582495C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28D-BEF9-4106-9BB9-B30D5553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D7C-F563-464A-9FBF-739D0F3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AF8-2F9B-41C2-9979-EA8085E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1C0-704D-464A-89AD-55F35C64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870-D145-4544-ACE8-B862894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262-C795-43DB-8BBE-00C9C44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980-CD62-4D45-91AB-5253E01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DD8-D827-4463-B23F-CAD96D7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908-2961-47C5-BEAC-519CF9D35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P Psycholo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t VII: Memory</a:t>
            </a:r>
            <a:br>
              <a:rPr sz="32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ules 34, 35, &amp; 36: Thinking, Cognition, Creativity, Problem Solving, Making Decisions, Thought &amp;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gent thinking-creative thinking that develop a number of solutions for a give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areas of the frontal lobes appear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*Convergent thinking-ability to determine a single, best solution to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“intelligence tes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ms to originate in the left parietal 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Arial"/>
              </a:rPr>
              <a:t>Sternberg’s 5 components of creativ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tise-possesses a thorough ba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aginative thinking skills-ability to see things in novel ways, recognize patterns &amp; mak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enturesome personality-seeks new experiences, takes risk, tolerates the unknown,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insic motivation-driven by self-interest, self-satisfaction, and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reative environment-peers/colleagues support (&amp; help refine) cre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4-Thinking, Cognition, &amp;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ays to boost 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you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time for incubation (think hard about a problem, set it aside, &amp; come back to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side time for the mind to roam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e other cultures and ways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5: Problem Solving &amp; Making Dec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Strateg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orithms: Step-by-step process; guarantees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s: thinking strategies that allows us to make judgments &amp; solve problems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process, but more prone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: sudden realization of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Obstacles to Problem Solving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0" y="82692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ation bias: seeking out of evidence that verifies our ideas &amp; ignoring what refutes thos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set: approaching a problem with what has worked for us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event us from identifying new way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Decisions &amp; Ju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mediate, effortless unreasoned 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the majority of the hundreds of judgments &amp; decisions one makes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makers in government, business,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 of their p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of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benefit by letting our brain work on a problem without consciously thinking about it, it’s usually adaptive, and it is implicit knowledge born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Representativeness Heuristic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dging the likelihood of something in terms of how well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ur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us to make quick decisions/ju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luences many of our dail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lead to errors; our prototypes aren’t always accurate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74840" y="438156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 professional athletes: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” is 6’8” &amp; 24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” is 5’6” &amp; 190 lb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sport do you think each one p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s://c1.staticflickr.com/3/2818/11517766975_d6373e5263_b.jpg"/>
          <p:cNvPicPr/>
          <p:nvPr/>
        </p:nvPicPr>
        <p:blipFill>
          <a:blip r:embed="rId1"/>
          <a:stretch/>
        </p:blipFill>
        <p:spPr>
          <a:xfrm>
            <a:off x="4589640" y="4084560"/>
            <a:ext cx="1815840" cy="223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phillysportsnetwork.com/wp-content/uploads/2015/08/7-darren-sproles-rb-philadelphia-eagles_pg_600.jpg"/>
          <p:cNvPicPr/>
          <p:nvPr/>
        </p:nvPicPr>
        <p:blipFill>
          <a:blip r:embed="rId2"/>
          <a:stretch/>
        </p:blipFill>
        <p:spPr>
          <a:xfrm>
            <a:off x="6869160" y="4054320"/>
            <a:ext cx="18129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vailability Heuris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ing the likelihood of events based on their availability in our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vid memories cause us to believe events are more probable, while forgettable events make us believe they are less likely to occu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cency of an event’s occurrence or its’ distinctiveness can also influence our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n violence has led to many calls for stricter gun-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11,208 gun homicide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2013, there were 32, 719 deaths due to auto accident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-785160" y="6324480"/>
            <a:ext cx="99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*Little call for stricter driver licensing regulation/lower speed limits, etc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0" y="-8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confidence, Belief Perseverance, &amp; Fra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68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-Tendency to overestimate the accuracy of our knowledge &amp;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f Perseverance-Clinging to our beliefs in the face of contrar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ing-The way an issue is presented or posed (framed) can influence our decision/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15228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3 strategies for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2 obstacles that hinder our attempts to solv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ain how representativeness heuristic, availability heuristic, overconfidence, belief perseverance, &amp; framing can influence our decisions &amp; jud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36: Thinking &amp;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-792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nemes: smallest distinctive sou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”-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not the same as letters**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hat”-also 3 sound units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&amp;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phemes: smallest units that carr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honemes, i.e.-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 word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fixes &amp; suffixes, i.e.-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, ang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mar: system of rules that enables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: rules for deriving meaning from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: rules for ordering words into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0" y="9604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ive language: a child’s ability to understand what is said to &amp;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develops b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ve language: ability to produc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bling stage: at 4 months, spontaneous sounds One-word stage: arou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single-word speech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ord stage: arou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thday, two word sentences (also known as “telegraphic speec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elegraphic speech, children rapidly begin using long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92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gnition, Concepts &amp; Prototyp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0" y="1265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on-thinking, knowing, remembering, communicating, AND all mental activities associated with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-mental grouping                                 of similar objects, events,                                     ideas, 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types-mental image or best example of a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palelitebaseball.com/images/baseball.jpg"/>
          <p:cNvPicPr/>
          <p:nvPr/>
        </p:nvPicPr>
        <p:blipFill>
          <a:blip r:embed="rId1"/>
          <a:stretch/>
        </p:blipFill>
        <p:spPr>
          <a:xfrm>
            <a:off x="5334120" y="292572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beccasheppard.files.wordpress.com/2011/09/football.jpg"/>
          <p:cNvPicPr/>
          <p:nvPr/>
        </p:nvPicPr>
        <p:blipFill>
          <a:blip r:embed="rId2"/>
          <a:stretch/>
        </p:blipFill>
        <p:spPr>
          <a:xfrm>
            <a:off x="6912000" y="2925720"/>
            <a:ext cx="2209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am 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languages share basic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uns, verbs, adjectiv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guage acquisition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rn with a built-in predisposition to learn gramma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an infants are extremely proficient in learn statistical aspects of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breaks, syllable grouping, simple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itical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hood represents the best opportunity to master certain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-learning window” appears to begin to close around ag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aining Language Development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3886200" y="3211560"/>
            <a:ext cx="2514600" cy="36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-144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hasia: an impairment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result from damage to several cortic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ca’s Area: controls languag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ontal lobe (usually the left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s the muscle movements involved in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nicke’s Area:                                                controls language                                              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oral lobe                                                                     (usually in the left                                                   hemisp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on &amp;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pression of speech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KKorek\Documents\ABCFiles\2013 Myers AP 2e\Images\ImageJPGs_Module36\ImageJPGs_Module36\MyAP2e_fig_36_02.jpg"/>
          <p:cNvPicPr/>
          <p:nvPr/>
        </p:nvPicPr>
        <p:blipFill>
          <a:blip r:embed="rId1"/>
          <a:stretch/>
        </p:blipFill>
        <p:spPr>
          <a:xfrm>
            <a:off x="3886200" y="32004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Brain and Langu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-1440" y="1112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neuroscience has shown that when processing language, the brain divides its’ ment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nouns &amp; verbs, objects &amp; actions, different vowel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neural networks are activated by one’s native language &amp; second languages (learned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and Thou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jamin Lee Who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guistic determinism: language determines the way we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treme-we think about things for which we have no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lingual individuals DO think differently in different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produce novel and/or valuabl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-304920" y="990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17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-304920" y="9907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Elbow Connector 3"/>
          <p:cNvCxnSpPr/>
          <p:nvPr/>
        </p:nvCxnSpPr>
        <p:spPr>
          <a:xfrm flipH="1" rot="16200000">
            <a:off x="5883840" y="3369960"/>
            <a:ext cx="4995000" cy="1220040"/>
          </a:xfrm>
          <a:prstGeom prst="bentConnector3">
            <a:avLst>
              <a:gd name="adj1" fmla="val 742"/>
            </a:avLst>
          </a:prstGeom>
          <a:ln cap="rnd" w="304920">
            <a:solidFill>
              <a:srgbClr val="ffffff"/>
            </a:solidFill>
            <a:miter/>
          </a:ln>
        </p:spPr>
      </p:cxnSp>
      <p:sp>
        <p:nvSpPr>
          <p:cNvPr id="222" name="Straight Connector 11"/>
          <p:cNvSpPr/>
          <p:nvPr/>
        </p:nvSpPr>
        <p:spPr>
          <a:xfrm>
            <a:off x="7696080" y="6248520"/>
            <a:ext cx="1295640" cy="0"/>
          </a:xfrm>
          <a:prstGeom prst="line">
            <a:avLst/>
          </a:prstGeom>
          <a:ln w="609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nguage Influences Thin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C:\Users\KKorek\Documents\ABCFiles\2013 Myers AP 2e\Images\ImageJPGs_Module36\ImageJPGs_Module36\MyAP2e_fig_36_04.jpg"/>
          <p:cNvPicPr/>
          <p:nvPr/>
        </p:nvPicPr>
        <p:blipFill>
          <a:blip r:embed="rId1"/>
          <a:stretch/>
        </p:blipFill>
        <p:spPr>
          <a:xfrm>
            <a:off x="4267080" y="990720"/>
            <a:ext cx="4876920" cy="5878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-304920" y="9907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guage doesn’t determine what we think, but it does influence how we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ing also influences 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it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920" y="1219320"/>
            <a:ext cx="913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Identify &amp; BRIEFLY explain the 3 structural components of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Identify brain areas involved in language reception and languag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-How are other areas of the brain involved in language process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-What is the relationship between language &amp;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12-14T13:33:43Z</dcterms:modified>
  <cp:revision>256</cp:revision>
  <dc:subject/>
  <dc:title>Slide 1</dc:title>
</cp:coreProperties>
</file>