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6746-D103-46C5-862E-0AED053A3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erarchies-This PP-memory would be the broad concept; stages of memory, processing strategies, etc would be the narrowe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E5A2-A905-476A-83A6-C6F95572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58B-47B2-418C-AA44-42C14983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9FC-F65D-4E0D-B0A1-9FF89EDD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958-6B31-4687-B791-BF3D481F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5BA-BC73-4DB1-A4AE-40C0F828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80F-7F93-42C2-B918-B003CCFE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AC0-BD02-4FAA-B66E-05D0B7C0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DEA-2732-4C2A-B483-BC4F48D9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226-A63F-44CC-A995-F1909A20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E2A-5461-4496-94EA-31943BD4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703-5865-4E52-9A10-FCD754FE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69F-8CE9-4730-8471-FBA9FDF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D0C-95B9-4A24-9A35-095826BF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158A-27ED-4368-BE15-2116E509D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 31: Building mem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ing strategies can boost our ability to form new memories, making it easier to retrieve those memories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ing: organizing information into familiar, smaller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emonics: memory aids that often use vivid imagery and/or organizational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erarchies-organization of broad concepts into narrower concepts &amp;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practice-Spreading out the encoding of memori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cing effect-distributed study/practice has been shown to yield better long term retention than “cramming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ing effect-repeated self-testing enhances memory by retrieving, not just re-reading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ffortful Processing Strateg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evels of Process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has shown that we process verbal information at different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epth of processing impacts our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allow processing-encoding on a basic level based on the structure or appearance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ep processing-encoding semantically, based on the meaning of th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nds to yield the best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aking Material Personally Meaningfu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2600" y="16304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ing material meaningful leads to better retention &amp;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king material that you read or hear and being able to explain it in your own words is more effective than merely repeating/rewrit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f-referenc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on that is “relevant to you” is processed more deeply &amp; is more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0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2700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-Explain the 3-stage memory processing model, including the ideas of Atkinson &amp; Shiffrin, AND the concepts that recent research ha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-Identify what explicit &amp; implicit memories are AND how they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-Identify &amp; explain the 4 effortful processing strategies discussed in this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761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tudying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at has persisted over time through the                       encoding, storage &amp; retrieval of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ormation-process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alogies that psychologists use to compare human memory to a computer’s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formation-processing mode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oding-the processing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ting information (into the b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age-the retention of encod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eping tha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trieval-the recall of stor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ting the information from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-formation proces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Richard) Atkinson &amp; (Richard) Shiffri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-stag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sory memor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mediate, very brief recording of sensory information in the memo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ort-term memor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ated memory that holds a few items briefly before the information is stored or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-term memor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ly permanent &amp; limitless storehouse of the memory system; includes knowledge, skills, and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029200"/>
            <a:ext cx="9156600" cy="167328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2"/>
          <p:cNvSpPr/>
          <p:nvPr/>
        </p:nvSpPr>
        <p:spPr>
          <a:xfrm>
            <a:off x="76320" y="6553080"/>
            <a:ext cx="3809880" cy="0"/>
          </a:xfrm>
          <a:prstGeom prst="line">
            <a:avLst/>
          </a:prstGeom>
          <a:ln w="31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5257800" y="518148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7"/>
          <p:cNvSpPr/>
          <p:nvPr/>
        </p:nvSpPr>
        <p:spPr>
          <a:xfrm flipV="1">
            <a:off x="5257800" y="5668560"/>
            <a:ext cx="0" cy="27468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0"/>
          <p:cNvSpPr/>
          <p:nvPr/>
        </p:nvSpPr>
        <p:spPr>
          <a:xfrm flipV="1">
            <a:off x="6553080" y="5675040"/>
            <a:ext cx="0" cy="274680"/>
          </a:xfrm>
          <a:prstGeom prst="line">
            <a:avLst/>
          </a:prstGeom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5410080" y="5850000"/>
            <a:ext cx="990720" cy="4651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hort-term mem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-formation proces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dated to include newer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ing memory- a newer understanding of short-term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es on conscious, active processing of incoming auditory &amp; visual-spati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processing of information retrieved from long-term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matic processing-some information skips the encoding process &amp; is goes directly to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2600" y="5029200"/>
            <a:ext cx="91566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4114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orking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KKorek\Documents\ABCFiles\2013 Myers AP 2e\Images\ImageJPGS_Module31\ImageJPGS_Module31\MyAP2e_fig_31_03.jpg"/>
          <p:cNvPicPr/>
          <p:nvPr/>
        </p:nvPicPr>
        <p:blipFill>
          <a:blip r:embed="rId1"/>
          <a:stretch/>
        </p:blipFill>
        <p:spPr>
          <a:xfrm>
            <a:off x="228600" y="3200400"/>
            <a:ext cx="86868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tive processing/rehearsal of new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hearsal of information retrieved from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ypothetic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 execu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neural network) handles th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Building Memor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0" y="76212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al-Track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matic Processing-encoding information automatically, without conscious at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icit memory: automatic skills &amp; classically conditioned stimuli (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declarative mem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 also automatically process information about space, time &amp; freq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ffortful Processing-encoding information that requires conscious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icit memories: memory of facts/experiences that we consciously know (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larative mem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Effortful processing can become automatic, with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Sensory Memory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people record information for only a few seconds before it must be actively processed by our working memory or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bout photographic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no such thing as photographic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detic memory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recall visual information in great detail after only brief exposure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ically found in a small percentage of children between 6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rtually nonexistent in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SAM (hyperthymesia)-ability to remember very intricate details of their own person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ability does not extend to other, non-autobiographic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Sensory Memory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a typical person, sensory memories can be classified in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onic Memory-brief visual sensory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2788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ture-perfect image of the visual sti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2788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sts just a few tenths of a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hoic memory-brief auditory sensory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2788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ct recall of auditory input for no longer than 3-4 seco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iconic and echoic memories are constantly being replaced by new visual &amp; auditor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11T15:55:28Z</dcterms:modified>
  <cp:revision>285</cp:revision>
  <dc:subject/>
  <dc:title>Slide 1</dc:title>
</cp:coreProperties>
</file>