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8B7-8999-480C-B4C6-5B7C68240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25B7-BB6E-498D-AAFA-7005088C0C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0F33-E162-4048-8449-52A093D6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3D02-6BCD-4886-A110-ED6CFAD9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25B0-62DF-4EC9-A321-0C5ACB77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54E1-9C80-4671-822C-3D4D13B9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F3B-D713-4475-ABBF-30C21C03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1065-FCBC-4F53-A66A-78989E8D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E4FE-0F68-4386-BCDD-83D4029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DBDB-398E-4287-9E5B-017AE659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442-80F7-43B0-ADC8-941FA8D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254E-CE5C-421B-81B8-FFFB1319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5F9E-9DEE-4EBD-87EE-767D4BE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38E3-1F5C-4DF1-B794-DE96B91C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2C64-E713-4227-8C13-EFED0B5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D8DE-BB44-4D4E-BA75-DA483DC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A7DF-A9F8-458B-899E-1ADF7F38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3FB9-AB53-4C6B-891A-1FCA8B8D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BD20-D45B-4844-8FF4-A9043C7A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7A03-9154-40FC-AD51-CE620BCA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7908-6FD3-4AC5-B85A-9CB502A7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2F9C-9600-4B9B-81B1-C15C3F65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7F95-0C5A-4D4E-ACFB-27457809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589B-8BF4-4EC7-8DDB-FEB709F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6DFF-60C1-497A-BED6-E244D9D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2614-A69A-4E7D-9F9F-90E359DC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C50-CFE0-4840-8B9B-AAECF5F92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8498-9985-4724-A4CB-023935D239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Behavior Genetics &amp; Evolutionary Psycholog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eparated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have bee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para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birth 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one anothe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more so than fraternal twi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dopted childr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share man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gni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havio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social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milar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ith both 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; however, there tend to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ilarities 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iological par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eri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eritabil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portion of variation among individuals that we can attribute to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es, depending on populations and environments being stud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easured from 0-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[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low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[100%]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high heritability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luenced by g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: I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itabi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lligen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a given population/environment i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moderately l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hen genetic influence explains 40% of  differences in intelligence among that specific pop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Herit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her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Ability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pa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ature Vs. 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Ge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environment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work together in influencing human thought and behavi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 may predispose individuals to various physical and psychological traits, though one’s environment may affect the extent to which these traits deve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ter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play that occurs when one factor (heredity) affects another factor (environ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Someone with a predisposition to aggression may elicit others to treat them more defens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olecula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29528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olecula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field of biology that studies the molecular structure and function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tom Up” approach to understanding biopsyc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Identifying genes that influence one’s introversion vs. extro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247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volutionary Psycholo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evolution of behavior and the mind using principles of natural se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atural Sele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nciple that, among the range of inherited trait variations, those that lead to increased reproduction and survival will most likely be passed on to succeed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t’s all about surviv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sms’ varied offspring compete for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tain biological and behavioral variations increase organisms’ reproductive and survival chances in their particular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fspring that survive are more likely to pass their genes to ensuing gene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ver time, population characteristics ma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u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andom error in gene replication that leads to a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http://nodeju.com/wp-content/uploads/2010/08/dna.jpg"/>
          <p:cNvPicPr/>
          <p:nvPr/>
        </p:nvPicPr>
        <p:blipFill>
          <a:blip r:embed="rId1"/>
          <a:stretch/>
        </p:blipFill>
        <p:spPr>
          <a:xfrm>
            <a:off x="2895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Many psychological traits that humans possess today have their roots in ev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od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es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xu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me evolutionary psychologists feel that humans are biologically prepared for a world that no longer ex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981080"/>
          <a:ext cx="8534160" cy="3886200"/>
        </p:xfrm>
        <a:graphic>
          <a:graphicData uri="http://schemas.openxmlformats.org/drawingml/2006/table">
            <a:tbl>
              <a:tblPr/>
              <a:tblGrid>
                <a:gridCol w="5619600"/>
                <a:gridCol w="1535040"/>
                <a:gridCol w="1379520"/>
              </a:tblGrid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ary Psycholog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ces in Sexual Behavi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Psychological Study on Sexual Preferenc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 a range of cultures studied (indicated by red dots), more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e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an women preferre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youthful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women;  mor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women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than men preferred mates with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resource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ocial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7" descr="12673_Myers_Psy_8e_fig"/>
          <p:cNvPicPr/>
          <p:nvPr/>
        </p:nvPicPr>
        <p:blipFill>
          <a:blip r:embed="rId1"/>
          <a:stretch/>
        </p:blipFill>
        <p:spPr>
          <a:xfrm>
            <a:off x="922320" y="2133720"/>
            <a:ext cx="738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ehavior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 Genetic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relative power and limits of our genetic and environmental influences o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viron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 non-genetic influence, from prenatal nutrition to the people and things around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iopsychosocial Approach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e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An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r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5" descr="12673_Myers_Psy_8e_fig"/>
          <p:cNvPicPr/>
          <p:nvPr/>
        </p:nvPicPr>
        <p:blipFill>
          <a:blip r:embed="rId1"/>
          <a:stretch/>
        </p:blipFill>
        <p:spPr>
          <a:xfrm>
            <a:off x="179280" y="1523880"/>
            <a:ext cx="873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hromoso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like structures made of DNA molecules that contain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DNA (Deoxyribonucleic Acid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lex molecule containing the genetic information that makes up th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an DNA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d with Other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uman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 share much of their DNA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ith 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ther organisms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cal Twi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ents/Children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uman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9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mpanzees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9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uit Fly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nana:-</a:t>
            </a: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2" descr="http://get-rid-of-pests.com/wp-content/uploads/fruit_fly1.jpg"/>
          <p:cNvPicPr/>
          <p:nvPr/>
        </p:nvPicPr>
        <p:blipFill>
          <a:blip r:embed="rId1"/>
          <a:stretch/>
        </p:blipFill>
        <p:spPr>
          <a:xfrm>
            <a:off x="4802040" y="3581280"/>
            <a:ext cx="4341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e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iochemical units of heredity that make up th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gments of DNA capable of synthesizing a prot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eno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te instructions for making an orga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s of all the genetic material in that organism’s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Human Cell &amp; Gene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10" descr="Myers9e_fig_4_01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s: Our Codes fo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DNA and mine are 99% the same.. At the DNA level, we are clearly all part of one big worldwide famil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rancis Collins, Human Genome Project director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hare half our genes with the banan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volutionary biologist, Robert May, president of Britain’s Royal Society, 20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dentic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a single fertilized egg that splits in two, creating genetically identical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sex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Fraternal Twi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ns who develop from separate fertilized eg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no closer than brothers and sisters, but they share a fet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or opposite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cal Vs. Fraternal Tw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Myers9e_fig_4_02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dcterms:modified xsi:type="dcterms:W3CDTF">2015-11-13T18:43:14Z</dcterms:modified>
  <cp:revision>294</cp:revision>
  <dc:subject/>
  <dc:title>Chapter 8: Sensation and Perception</dc:title>
</cp:coreProperties>
</file>