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5FD0-099D-43AD-B9E2-A7BA47369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FF3E-B973-4BC0-A8EC-FCD8BED0A7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E920-C671-402F-AEB7-2E542A46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E2AC-4228-451B-A0AF-734E984C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A274-B844-46F5-9002-62233715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B808-4FD8-4228-B3AD-57CFA668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7DD8-C083-444C-937B-64F4FE6F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2630-7162-4BD1-84F2-FB475C8B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B956-4F27-4FF3-8CB0-734A6F97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D7F1-7EB5-482D-BF1F-B23A63D3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F517-512D-49EA-A80D-C90A576A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57C0-5663-441F-9FB7-C0716F4B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2331-725B-4BA4-AB7E-122A402C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C085-37EA-4E7C-ABC0-82CAF807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C2B3-A3E0-4E65-B4E1-715F98E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0581-182E-4DA7-8394-D50230A4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0D10-1461-4002-837F-E4160C9B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E7CB-08C6-4DE0-946A-C4F37C19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4527-55CF-4DA5-B743-9C8E8951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19B6-E87B-43DB-89CC-660DDB4B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A0D5-B751-4254-A3F7-5E29D2F9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A3CD-8450-4AD6-BF98-79006165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D466-32DE-49AC-A492-D40F4879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E147-C072-403D-83DA-D4625F3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689B-996C-4998-B992-2F58F8E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A730-5784-46B8-8BBB-0CBA4A0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75B2-1775-448B-B4B4-C0E7FAC15E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F819-7646-4893-AD1F-34C48A863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Behavior Genetics &amp; Evolutionary Psycholog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eparated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have bee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parat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ce birth 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th one anothe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more so than fraternal twin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dopted childr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with both thei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op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; however, there tend to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rong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ilarities 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eri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eritabil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portion of variation among individuals that we can attribute to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es, depending on populations and environments being studi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easured from 0-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0 [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low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[10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high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: I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ritabi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telligen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a given population/environment i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%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moderately l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hen genetic influence explains 40% of  differences in intelligence among that specific popu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Herit: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her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Ability: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pab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ature Vs. 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Gen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nd environments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work together in influencing human thought and behavi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es may predispose individuals to various physical and psychological traits, though one’s environment may affect the extent to which these traits devel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tera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play that occurs when one factor (heredity) affects another factor (environme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Someone with a predisposition to aggression may elicit others to treat them more defens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olecula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29528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lecula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bfield of biology that studies the molecular structure and function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tom Up” approach to understanding biopsych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Identifying genes that influence one’s introversion vs. extrover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247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volutionary Psycholo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evolution of behavior and the mind using principles of natural se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atural Sele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nciple that, among the range of inherited trait variations, those that lead to increased reproduction and survival will most likely be passed on to succeed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t’s all about surviv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ganisms’ varied offspring compete for survi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rtain biological and behavioral variations increase organisms’ reproductive and survival chances in their particular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ffspring that survive are more likely to pass their genes to ensu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ver time, population characteristics may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u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andom error in gene replication that leads to a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http://nodeju.com/wp-content/uploads/2010/08/dna.jpg"/>
          <p:cNvPicPr/>
          <p:nvPr/>
        </p:nvPicPr>
        <p:blipFill>
          <a:blip r:embed="rId1"/>
          <a:stretch/>
        </p:blipFill>
        <p:spPr>
          <a:xfrm>
            <a:off x="2895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any psychological traits that humans possess today have their roots in ev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od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ess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der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xu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me evolutionary psychologists feel that humans are biologically prepared for a world that no longer ex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981080"/>
          <a:ext cx="8534160" cy="3886200"/>
        </p:xfrm>
        <a:graphic>
          <a:graphicData uri="http://schemas.openxmlformats.org/drawingml/2006/table">
            <a:tbl>
              <a:tblPr/>
              <a:tblGrid>
                <a:gridCol w="5619600"/>
                <a:gridCol w="1535040"/>
                <a:gridCol w="1379520"/>
              </a:tblGrid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Question (summariz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Casual se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3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Sex for aff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4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Think about sex every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1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Psychological Study on Sexual Preferenc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 a range of cultures studied (indicated by red dots), more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me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han women preferre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youthful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women;  more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women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than men preferred mates with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resource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social st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7" descr="12673_Myers_Psy_8e_fig"/>
          <p:cNvPicPr/>
          <p:nvPr/>
        </p:nvPicPr>
        <p:blipFill>
          <a:blip r:embed="rId1"/>
          <a:stretch/>
        </p:blipFill>
        <p:spPr>
          <a:xfrm>
            <a:off x="922320" y="2133720"/>
            <a:ext cx="738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ehavio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havio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relative power and limits of our genetic and environmental influences on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nviron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ry non-genetic influence, from prenatal nutrition to the people and things around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Biopsychosocial Approach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ure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And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Picture 5" descr="12673_Myers_Psy_8e_fig"/>
          <p:cNvPicPr/>
          <p:nvPr/>
        </p:nvPicPr>
        <p:blipFill>
          <a:blip r:embed="rId1"/>
          <a:stretch/>
        </p:blipFill>
        <p:spPr>
          <a:xfrm>
            <a:off x="179280" y="1523880"/>
            <a:ext cx="873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hromoso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adlike structures made of DNA molecules that contain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NA (Deoxyribonucleic Acid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lex molecule containing the genetic information that makes up the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an DNA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d with Other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uman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 share much of their DNA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ther organism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cal Twi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ents/Children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.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uma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mpanzee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8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uit Fly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nana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2" descr="http://get-rid-of-pests.com/wp-content/uploads/fruit_fly1.jpg"/>
          <p:cNvPicPr/>
          <p:nvPr/>
        </p:nvPicPr>
        <p:blipFill>
          <a:blip r:embed="rId1"/>
          <a:stretch/>
        </p:blipFill>
        <p:spPr>
          <a:xfrm>
            <a:off x="4802040" y="3581280"/>
            <a:ext cx="43419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e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iochemical units of heredity that make up the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gments of DNA capable of synthesizing a prot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enom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te instructions for making an organ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s of all the genetic material in that organism’s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Human Cell &amp;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10" descr="Myers9e_fig_4_01"/>
          <p:cNvPicPr/>
          <p:nvPr/>
        </p:nvPicPr>
        <p:blipFill>
          <a:blip r:embed="rId1"/>
          <a:stretch/>
        </p:blipFill>
        <p:spPr>
          <a:xfrm>
            <a:off x="152280" y="1295280"/>
            <a:ext cx="87631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r DNA and mine are 99% the same.. At the DNA level, we are clearly all part of one big worldwide famil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rancis Collins, Human Genome Project director, 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share half our genes with the banana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volutionary biologist, Robert May, president of Britain’s Royal Society, 20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a single fertilized egg that splits in two, creating genetically identical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sex on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ratern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separate fertilized eg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no closer than brothers and sisters, but they share a fetal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or opposite s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Myers9e_fig_4_02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1-13T18:43:14Z</dcterms:modified>
  <cp:revision>294</cp:revision>
  <dc:subject/>
  <dc:title>Chapter 8: Sensation and Perception</dc:title>
</cp:coreProperties>
</file>