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86BD-EA7C-46A0-B0B0-C2B765AC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2520-A03A-41EF-A9EB-300303A8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62B6-0435-448D-866B-C7977EC9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FE58-6212-4484-A3B7-5E5C23B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3B8-2368-41C9-B2F0-09B66F5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94B-DFD7-4FAA-8CDE-F390421B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BA86-97F5-4DCF-B3A2-114A684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97AE-47BB-4293-8F87-A99BB86D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8A2-FB9A-4BBE-8C54-330CB40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689-5A86-4F92-8A1A-43F60A1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1738-09FD-4B96-8001-8758E66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FC95-F45B-490C-B05B-2EF393C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D6F4-9D79-4773-8AE4-C2FB437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4093-4366-46F5-8145-C84D695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C5F0-EC10-4FC3-8FD0-AA828A4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A554-DD7D-46D8-B98F-217D84AC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D6D3-E341-40A6-A968-F6FB4585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5C10-E66B-4D37-BF83-2D5D2053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816C-5BDF-4FA7-9BA6-10066A13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3E4D-BA64-4DD2-8D82-F05FE05D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D6B5-207A-4A3B-AB8F-67BCB5A4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7D52-EA65-4B66-A6CB-986431EE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8C2A-DE08-47DA-BB26-8687E64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1B05-375E-47C5-992B-51EB5A4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D0C-AD38-43B5-882C-760BB517A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123-1394-409A-9CEE-6791242BB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7-10-10T10:36:26Z</dcterms:modified>
  <cp:revision>295</cp:revision>
  <dc:subject/>
  <dc:title>Chapter 8: Sensation and Perception</dc:title>
</cp:coreProperties>
</file>