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238AD-E1DE-4024-97EA-B63EF572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22C3D-A8CC-4ACB-8847-5868C969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B1562-D1C2-47A1-97E5-55F63CAA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FF7B9-57D5-4C4E-B78B-B5ECA504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49C6-4A99-40A4-B6D7-F25A659F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2F11-56C5-4D9D-94FF-E245DEEA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CA7A-8957-4CFA-84C2-6FEDA3F8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54A3-2FAB-4BBC-9FCB-A4016E6E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FAFA-8A23-4CC9-9AE7-38C41442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7B4F-3B59-47BD-9E79-2A2ED563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87EE-7A14-426D-AE6A-0A62D0D3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D9F67-94D6-4515-B89F-3F4EEFFA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6B2C-3DB6-48FD-816E-F44E0BFF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EDFE-1A38-4D7B-B480-D971824E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3C76-5773-49A0-9C94-54D47BB9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4060-5EFF-4715-B477-169DB344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ABB9-E694-4FCB-9B5C-011018B7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F717-55A6-4BE6-A241-B86CB463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E8345-7B9F-44B1-9EF6-3874E701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D0C2-63D4-4DBB-BC3C-55B318E0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CED1B-574D-4A29-B0BD-CEBC376A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4B0F-104D-4BCC-A3F8-85AA75DF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7DEBF-349E-4DFC-A1E3-9280FAA6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767FB-4404-4602-A55C-03C95EA1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C2C5-5282-4615-AD17-A95CF14AFF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6F94-1317-485B-A898-9FC2C90D79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6603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3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Behavior Genetics &amp; Evolutionary Psychology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ature Vs. Nur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Gen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and environments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work together in influencing human thought and behavio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es may predispose individuals to various physical and psychological traits, though one’s environment may affect the extent to which these traits devel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nterac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interplay that occurs when one factor (heredity) affects another factor (environmen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Someone with a predisposition to aggression may elicit others to treat them more defensiv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olecular Gene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1295280"/>
            <a:ext cx="6248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olecular Genetic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ubfield of biology that studies the molecular structure and function of g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ttom Up” approach to understanding biopsych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Identifying genes that influence one’s introversion vs. extrover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2478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Evolutionary Psycholog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tudy of the evolution of behavior and the mind using principles of natural sel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atural Selec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inciple that, among the range of inherited trait variations, those that lead to increased reproduction and survival will most likely be passed on to succeeding gener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t’s all about surviv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rganisms’ varied offspring compete for surviv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ertain biological and behavioral variations increase organisms’ reproductive and survival chances in their particular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ffspring that survive are more likely to pass their genes to ensuing gener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ver time, population characteristics may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u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random error in gene replication that leads to a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2" descr="http://nodeju.com/wp-content/uploads/2010/08/dna.jpg"/>
          <p:cNvPicPr/>
          <p:nvPr/>
        </p:nvPicPr>
        <p:blipFill>
          <a:blip r:embed="rId1"/>
          <a:stretch/>
        </p:blipFill>
        <p:spPr>
          <a:xfrm>
            <a:off x="28954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any psychological traits that humans possess today have their roots in evolu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od p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ea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ress man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der dif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xual behavi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ome evolutionary psychologists feel that humans are biologically prepared for a world that no longer exi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fferences in Sexual Behavi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04920" y="1981080"/>
          <a:ext cx="8534160" cy="3886200"/>
        </p:xfrm>
        <a:graphic>
          <a:graphicData uri="http://schemas.openxmlformats.org/drawingml/2006/table">
            <a:tbl>
              <a:tblPr/>
              <a:tblGrid>
                <a:gridCol w="5619600"/>
                <a:gridCol w="1535040"/>
                <a:gridCol w="1379520"/>
              </a:tblGrid>
              <a:tr h="99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Question (summarize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Fe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Casual se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5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3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Sex for affe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2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4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Think about sex every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5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1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fferences in Sexual Behavi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Psychological Study on Sexual Preferenc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n a range of cultures studied (indicated by red dots), more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 men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than women preferred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youthful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women;  more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women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than men preferred mates with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 resources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social stat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7" descr="12673_Myers_Psy_8e_fig"/>
          <p:cNvPicPr/>
          <p:nvPr/>
        </p:nvPicPr>
        <p:blipFill>
          <a:blip r:embed="rId1"/>
          <a:stretch/>
        </p:blipFill>
        <p:spPr>
          <a:xfrm>
            <a:off x="922320" y="2133720"/>
            <a:ext cx="7383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Biopsychosocial Approach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ature</a:t>
            </a: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 And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ur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Picture 5" descr="12673_Myers_Psy_8e_fig"/>
          <p:cNvPicPr/>
          <p:nvPr/>
        </p:nvPicPr>
        <p:blipFill>
          <a:blip r:embed="rId1"/>
          <a:stretch/>
        </p:blipFill>
        <p:spPr>
          <a:xfrm>
            <a:off x="179280" y="1523880"/>
            <a:ext cx="8736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Behavior Gene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Behavior Genetic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tudy of the relative power and limits of our genetic and environmental influences on behavi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Environ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very non-genetic influence, from prenatal nutrition to the people and things around 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Genes: Our Codes for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Chromosom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eadlike structures made of DNA molecules that contain ge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DNA (Deoxyribonucleic Acid)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complex molecule containing the genetic information that makes up the chromosom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Gen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biochemical units of heredity that make up the chromosom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gments of DNA capable of synthesizing a prote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Genom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omplete instructions for making an organ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ists of all the genetic material in that organism’s chromosom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uman DNA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ared with Other Organis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umans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 share much of their DNA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with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ther organisms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cal Twins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10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ents/Children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99.5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ther Humans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99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impanzees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98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uit Fly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6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nana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5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2" descr="http://get-rid-of-pests.com/wp-content/uploads/fruit_fly1.jpg"/>
          <p:cNvPicPr/>
          <p:nvPr/>
        </p:nvPicPr>
        <p:blipFill>
          <a:blip r:embed="rId1"/>
          <a:stretch/>
        </p:blipFill>
        <p:spPr>
          <a:xfrm>
            <a:off x="4802040" y="3581280"/>
            <a:ext cx="43419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Genes: Our Codes for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r DNA and mine are 99% the same.. At the DNA level, we are clearly all part of one big worldwide family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rancis Collins, Human Genome Project director, 200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share half our genes with the banana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volutionary biologist, Robert May, president of Britain’s Royal Society, 200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Identical Vs. Fraternal Tw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dentical Twi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ins who develop from a single fertilized egg that splits in two, creating genetically identical organis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e sex on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Fraternal Twi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ins who develop from separate fertilized eg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tically no closer than brothers and sisters, but they share a fetal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e or opposite s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cal Vs. Fraternal Tw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4" descr="Myers9e_fig_4_02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eparated Tw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dentical twin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o have bee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eparat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nce birth tend to share man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gni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behavior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nd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social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milariti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ith one anothe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more so than fraternal twin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dopted childre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nd to share man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gni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havior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nd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social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milariti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with both thei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op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iological paren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; however, there tend to b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rong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imilarities with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biological paren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Heritabi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eritabili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proportion of variation among individuals that we can attribute to ge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ries, depending on populations and environments being studi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Measured from 0-1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0 [0%]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low heritability)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luenced by environ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[100%]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high heritability)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luenced by ge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: If th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eritabilit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telligenc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a given population/environment i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0%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moderately low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, then genetic influence explains 40% of  differences in intelligence among that specific popul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7-10-10T10:36:26Z</dcterms:modified>
  <cp:revision>295</cp:revision>
  <dc:subject/>
  <dc:title>Chapter 8: Sensation and Perception</dc:title>
</cp:coreProperties>
</file>