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6B43-1F5F-467F-A91B-A52A751F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FF94-C0BA-4F76-BAC3-B3709C74E2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9779-C9AD-4B97-932E-2A19E223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535A-27FD-427D-A1F5-96E2BDE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8C16-93D7-48F1-9B15-CF20505B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CE2F-7B98-4CDD-9642-289968A9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1F62-33F3-43EF-8BA7-E23DDCDF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FAA7-0BF8-4DDD-88F7-1BD9AD3F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A99F-6810-47B4-A884-20FA3157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AAB-AC39-4CB6-916B-B2C9CDF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259-1A88-4D8E-948D-EE7C37AD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4F0-4F8A-499D-B08A-37F77604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7129-2C96-40FE-9500-11892B18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6772-5EE9-45B9-BCD4-CAFE4510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B710-0342-44FF-B939-1709681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A2A5-8BE0-4E1E-96FE-C339820A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28E6-D802-4D37-86B6-D8BAD6A8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1F45-3743-4C22-92AC-F870C6B0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5238-A9EF-465C-979B-8C0A7986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75A6-488C-4467-8294-D792767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5FFF-EAA8-4771-A253-14A3652A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C8CB-922B-427F-A356-CF3E144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AE68-A828-4D8C-ADD7-D913E0FB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EFE9-2995-43E7-896D-35ADE21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E105-1E0F-4340-BF2D-38E2D4F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8F8D-248C-4D5C-B3E9-B63A8907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635-D0DD-4778-9083-2B90953EC4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0DE1-C895-4507-8C83-F71A91799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Behavior Genetics &amp; Evolutionary Psycholog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parated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have bee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para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birth 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one anothe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more so than fraternal twi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dopted childr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ith both 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op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; however, there tend to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ilarities 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eri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eritabil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portion of variation among individuals that we can attribute to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es, depending on populations and environments being stud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easured from 0-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[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low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[10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high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: I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itabi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lligen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a given population/environment i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%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moderately l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hen genetic influence explains 40% of  differences in intelligence among that specific pop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Herit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her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Ability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pa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ature Vs. 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Ge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environment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work together in influencing human thought and behavi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 may predispose individuals to various physical and psychological traits, though one’s environment may affect the extent to which these traits deve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ter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play that occurs when one factor (heredity) affects another factor (environme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Someone with a predisposition to aggression may elicit others to treat them more defens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olecula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29528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lecula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field of biology that studies the molecular structure and function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tom Up” approach to understanding biopsyc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Identifying genes that influence one’s introversion vs. extro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247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volutionary Psycholo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evolution of behavior and the mind using principles of natural se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atural Sele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, among the range of inherited trait variations, those that lead to increased reproduction and survival will most likely be passed on to succeed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t’s all about surviv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sms’ varied offspring compete for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tain biological and behavioral variations increase organisms’ reproductive and survival chances in their particula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fspring that survive are more likely to pass their genes to ensu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ver time, population characteristics ma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u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andom error in gene replication that leads to a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http://nodeju.com/wp-content/uploads/2010/08/dna.jpg"/>
          <p:cNvPicPr/>
          <p:nvPr/>
        </p:nvPicPr>
        <p:blipFill>
          <a:blip r:embed="rId1"/>
          <a:stretch/>
        </p:blipFill>
        <p:spPr>
          <a:xfrm>
            <a:off x="2895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any psychological traits that humans possess today have their roots in ev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od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es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xu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me evolutionary psychologists feel that humans are biologically prepared for a world that no longer ex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981080"/>
          <a:ext cx="8534160" cy="3886200"/>
        </p:xfrm>
        <a:graphic>
          <a:graphicData uri="http://schemas.openxmlformats.org/drawingml/2006/table">
            <a:tbl>
              <a:tblPr/>
              <a:tblGrid>
                <a:gridCol w="5619600"/>
                <a:gridCol w="1535040"/>
                <a:gridCol w="1379520"/>
              </a:tblGrid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Psychological Study on Sexual Preferenc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 a range of cultures studied (indicated by red dots), more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me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an women preferre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youthful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women;  mor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women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than men preferred mates with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resource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social st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7" descr="12673_Myers_Psy_8e_fig"/>
          <p:cNvPicPr/>
          <p:nvPr/>
        </p:nvPicPr>
        <p:blipFill>
          <a:blip r:embed="rId1"/>
          <a:stretch/>
        </p:blipFill>
        <p:spPr>
          <a:xfrm>
            <a:off x="922320" y="2133720"/>
            <a:ext cx="738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ehavio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relative power and limits of our genetic and environmental influences o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viron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ry non-genetic influence, from prenatal nutrition to the people and things around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iopsychosocial Approach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e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And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Picture 5" descr="12673_Myers_Psy_8e_fig"/>
          <p:cNvPicPr/>
          <p:nvPr/>
        </p:nvPicPr>
        <p:blipFill>
          <a:blip r:embed="rId1"/>
          <a:stretch/>
        </p:blipFill>
        <p:spPr>
          <a:xfrm>
            <a:off x="179280" y="1523880"/>
            <a:ext cx="873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hromoso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like structures made of DNA molecules that contain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NA (Deoxyribonucleic Acid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lex molecule containing the genetic information that makes up th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an DNA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d with Other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uman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share much of their DNA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ther organism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cal Twi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ents/Children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uma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mpanzee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uit Fly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nana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2" descr="http://get-rid-of-pests.com/wp-content/uploads/fruit_fly1.jpg"/>
          <p:cNvPicPr/>
          <p:nvPr/>
        </p:nvPicPr>
        <p:blipFill>
          <a:blip r:embed="rId1"/>
          <a:stretch/>
        </p:blipFill>
        <p:spPr>
          <a:xfrm>
            <a:off x="4802040" y="3581280"/>
            <a:ext cx="4341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e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iochemical units of heredity that make up th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gments of DNA capable of synthesizing a prot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eno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te instructions for making an organ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s of all the genetic material in that organism’s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Human Cell &amp;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10" descr="Myers9e_fig_4_01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DNA and mine are 99% the same.. At the DNA level, we are clearly all part of one big worldwide famil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rancis Collins, Human Genome Project director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hare half our genes with the banana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volutionary biologist, Robert May, president of Britain’s Royal Society, 20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a single fertilized egg that splits in two, creating genetically identical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sex on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ratern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separate fertilized eg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no closer than brothers and sisters, but they share a fetal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or opposite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Myers9e_fig_4_02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13T18:43:14Z</dcterms:modified>
  <cp:revision>294</cp:revision>
  <dc:subject/>
  <dc:title>Chapter 8: Sensation and Perception</dc:title>
</cp:coreProperties>
</file>