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5211-651A-459A-90DA-E43B0AEF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CBDA-7ED4-4B3E-8E7F-F1E840DF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2263-DF75-4323-8568-D9A82BC5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A4C5-67D5-4EA1-91B9-D543DAE9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2905-0B8F-4FDC-A466-2676245E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54CD-8899-452B-86D6-5E30C86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3290-FFE6-4C91-9F37-78BB1F4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51E0-73D4-4718-B347-1D0ACFB6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2CDA-3EBE-48BB-9371-D316AF5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711E-695E-4EFF-B4A1-DCAECA2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AF1-78A1-4172-B505-44DD24B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22A1-6FC3-4DC9-BBBB-5123C7D9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C32-8155-4998-8371-4B48708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073-549B-4C8D-B87F-1CF7092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42E4-F99F-4C1B-9879-7229FD4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089D-A8ED-453E-A3E7-A82955D3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3C7-3ABB-4E27-A4D7-E6B040E6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6AD7-B696-4857-BDCB-8460639C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AE76-8E1A-4727-AACE-9DD409E6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1774-1CEB-4BAF-A014-94119BC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9AB8-25FA-4A20-BD5F-BEB00B29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2AE7-40A8-4C9F-99A6-9502C5DA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1DDA-D9C2-4A66-BD4B-9A957A4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D443-56A2-40D7-B124-41A3C35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F223-C22C-4FCF-BDCC-46072D53A1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F83B-AA68-4660-9498-352779E28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Behavior Genetics &amp; Evolutionary Psycholog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ature Vs. 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Ge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environment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work together in influencing human thought and behavi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 may predispose individuals to various physical and psychological traits, though one’s environment may affect the extent to which these traits deve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ter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play that occurs when one factor (heredity) affects another factor (environ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Someone with a predisposition to aggression may elicit others to treat them more defens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olecula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129528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lecula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field of biology that studies the molecular structure and function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tom Up” approach to understanding biopsyc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Identifying genes that influence one’s introversion vs. extro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247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volutionary Psycholo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evolution of behavior and the mind using principles of natural se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atural Sele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, among the range of inherited trait variations, those that lead to increased reproduction and survival will most likely be passed on to succeed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t’s all about surviv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sms’ varied offspring compete for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tain biological and behavioral variations increase organisms’ reproductive and survival chances in their particula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fspring that survive are more likely to pass their genes to ensu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ver time, population characteristics ma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u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andom error in gene replication that leads to a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http://nodeju.com/wp-content/uploads/2010/08/dna.jpg"/>
          <p:cNvPicPr/>
          <p:nvPr/>
        </p:nvPicPr>
        <p:blipFill>
          <a:blip r:embed="rId1"/>
          <a:stretch/>
        </p:blipFill>
        <p:spPr>
          <a:xfrm>
            <a:off x="2895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any psychological traits that humans possess today have their roots in ev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od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es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xu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me evolutionary psychologists feel that humans are biologically prepared for a world that no longer ex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1981080"/>
          <a:ext cx="8534160" cy="3886200"/>
        </p:xfrm>
        <a:graphic>
          <a:graphicData uri="http://schemas.openxmlformats.org/drawingml/2006/table">
            <a:tbl>
              <a:tblPr/>
              <a:tblGrid>
                <a:gridCol w="5619600"/>
                <a:gridCol w="1535040"/>
                <a:gridCol w="1379520"/>
              </a:tblGrid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Psychological Study on Sexual Preferenc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 a range of cultures studied (indicated by red dots), more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e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an women preferre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youthful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women;  mor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women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than men preferred mates with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resource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ocial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7" descr="12673_Myers_Psy_8e_fig"/>
          <p:cNvPicPr/>
          <p:nvPr/>
        </p:nvPicPr>
        <p:blipFill>
          <a:blip r:embed="rId1"/>
          <a:stretch/>
        </p:blipFill>
        <p:spPr>
          <a:xfrm>
            <a:off x="922320" y="2133720"/>
            <a:ext cx="738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iopsychosocial Approach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e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An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5" descr="12673_Myers_Psy_8e_fig"/>
          <p:cNvPicPr/>
          <p:nvPr/>
        </p:nvPicPr>
        <p:blipFill>
          <a:blip r:embed="rId1"/>
          <a:stretch/>
        </p:blipFill>
        <p:spPr>
          <a:xfrm>
            <a:off x="179280" y="1523880"/>
            <a:ext cx="873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ehavio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relative power and limits of our genetic and environmental influences o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viron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 non-genetic influence, from prenatal nutrition to the people and things around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Chromosom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adlike structures made of DNA molecules that contain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NA (Deoxyribonucleic Acid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complex molecule containing the genetic information that makes up the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Gen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iochemical units of heredity that make up the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gments of DNA capable of synthesizing a prote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Genom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omplete instructions for making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sts of all the genetic material in that organism’s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an DNA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d with Other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uman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share much of their DNA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ther organism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cal Twi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ents/Children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uma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mpanzee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uit Fly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nana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http://get-rid-of-pests.com/wp-content/uploads/fruit_fly1.jpg"/>
          <p:cNvPicPr/>
          <p:nvPr/>
        </p:nvPicPr>
        <p:blipFill>
          <a:blip r:embed="rId1"/>
          <a:stretch/>
        </p:blipFill>
        <p:spPr>
          <a:xfrm>
            <a:off x="4802040" y="3581280"/>
            <a:ext cx="4341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DNA and mine are 99% the same.. At the DNA level, we are clearly all part of one big worldwide famil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rancis Collins, Human Genome Project director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hare half our genes with the banan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volutionary biologist, Robert May, president of Britain’s Royal Society, 20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a single fertilized egg that splits in two, creating genetically identical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sex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ratern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separate fertilized eg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no closer than brothers and sisters, but they share a fet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or opposite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Myers9e_fig_4_02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parated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have bee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para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birth 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one anothe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more so than fraternal twi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dopted childr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ith both 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; however, there tend to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ilarities 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eri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eritabil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portion of variation among individuals that we can attribute to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es, depending on populations and environments being stud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easured from 0-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[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low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[10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high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: I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itabi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lligen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a given population/environment i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moderately l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hen genetic influence explains 40% of  differences in intelligence among that specific pop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10-10T10:36:26Z</dcterms:modified>
  <cp:revision>295</cp:revision>
  <dc:subject/>
  <dc:title>Chapter 8: Sensation and Perception</dc:title>
</cp:coreProperties>
</file>