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F4BA8-5B21-44F6-AC32-9638C3E20A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A2B75-AF61-4E9C-8348-D70A1EBE981A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896912-DA0A-4505-A662-562043B8A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7F302B-7636-463D-947C-3C24C41A7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DFB7D3-D07F-4884-9BD1-E6196A4FA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946DF9-084C-4324-8928-AED35B0A1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9F6C7-406E-4D67-B394-F24AF66F6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2DD88-E688-4621-858D-824552BB3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38547-2DDB-4593-8B0C-7489C7161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1FBB1-5053-4C05-88AA-B7C20539D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5E0BC-BDE1-4CF1-A9BA-9C424DB8D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B5E1F-7BD7-412D-96CA-641E84A1C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90178-2F20-47B5-BEA1-646C15699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040643-26D3-453D-BFD6-E3B6DEF8B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5DAF4-90D0-44D8-A3BE-00B5238E5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539C5-EED0-4D3F-B8BA-05A7CA898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01095-4788-4BF2-A2F5-506CA8B5E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A0844-8BF2-43F7-89F1-DE10A0CD3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A28CB-C667-4199-8B68-516193863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023AE7-D86E-4EB7-8EFF-8C2FB3DA0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C5BD96-D61D-45CD-B591-CB5ADB932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A0CCF8-0078-4BA1-A330-0BB5BB55B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9736FA-351B-4F43-8421-5C1248347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2427D3-3202-442E-BF71-34B4A5D4A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65235C-A8AB-4328-BBFC-9225F420D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BE7E09-06E8-4A9E-BD45-6CE90E86D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936E5-3366-4018-BD32-84103D64756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B6C41-92A1-40E7-BB10-E68D4AA5853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s://youtu.be/xweYA-IJTqs" TargetMode="Externa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5e5ff"/>
                </a:solidFill>
                <a:latin typeface="Garamond"/>
              </a:rPr>
              <a:t>Unit 3:</a:t>
            </a:r>
            <a:br>
              <a:rPr sz="5400"/>
            </a:br>
            <a:r>
              <a:rPr b="1" lang="en-US" sz="6600" spc="-1" strike="noStrike">
                <a:solidFill>
                  <a:srgbClr val="ff9900"/>
                </a:solidFill>
                <a:latin typeface="Garamond"/>
              </a:rPr>
              <a:t>Biological Bases </a:t>
            </a:r>
            <a:br>
              <a:rPr sz="6600"/>
            </a:br>
            <a:r>
              <a:rPr b="1" lang="en-US" sz="6600" spc="-1" strike="noStrike">
                <a:solidFill>
                  <a:srgbClr val="ff9900"/>
                </a:solidFill>
                <a:latin typeface="Garamond"/>
              </a:rPr>
              <a:t>of Behavior</a:t>
            </a:r>
            <a:br>
              <a:rPr sz="5200"/>
            </a:br>
            <a:r>
              <a:rPr b="0" i="1" lang="en-US" sz="5200" spc="-1" strike="noStrike">
                <a:solidFill>
                  <a:srgbClr val="ff9900"/>
                </a:solidFill>
                <a:latin typeface="Garamond"/>
              </a:rPr>
              <a:t> (The Neuron)</a:t>
            </a:r>
            <a:endParaRPr b="1" lang="en-US" sz="5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371600" y="4267080"/>
            <a:ext cx="640080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r. Deb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.P. Psycholog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The Firing of a Neur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0" y="837720"/>
            <a:ext cx="914400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Refractory perio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fter the action potential fires, the neuron pumps positively charged sodium ions back out, preparing to fire again.  The action potential/refractory period process repeats hundreds (sometimes thousands) of times a secon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2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20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520" y="33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The Firing of a Neur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9" name="Picture 4" descr="Myers9e_fig_2_03"/>
          <p:cNvPicPr/>
          <p:nvPr/>
        </p:nvPicPr>
        <p:blipFill>
          <a:blip r:embed="rId1"/>
          <a:stretch/>
        </p:blipFill>
        <p:spPr>
          <a:xfrm>
            <a:off x="-47520" y="1038240"/>
            <a:ext cx="9191520" cy="58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Neural Communica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0" y="9907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Action potential is the mechanism for communication WITHIN a single neuro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How do neurons communicate with other neurons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2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2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-16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Neural Communica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0" y="68580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Garamond"/>
              </a:rPr>
              <a:t>Synapse: meeting point between neuron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When an action potential reaches the axis terminal, there is no direct contact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There is a gap of 1 millionth of an inch, known as the synaptic gap or synaptic clef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Garamond"/>
              </a:rPr>
              <a:t>Neurotransmitters (NTs): chemical messengers that communicate between neuron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When an action potential reaches the axis terminal, it triggers the release of chemical messenger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These NTs cross the synaptic gap &amp; unlock channels in the receiving neuron, allowing ions to flow in, either exciting or inhibiting this neuron’s readiness to fir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Garamond"/>
              </a:rPr>
              <a:t>Reuptake: reabsorption of NT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The sending neuron reabsorbs any excess NT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097280" indent="-219240"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3" descr=""/>
          <p:cNvPicPr/>
          <p:nvPr/>
        </p:nvPicPr>
        <p:blipFill>
          <a:blip r:embed="rId1"/>
          <a:stretch/>
        </p:blipFill>
        <p:spPr>
          <a:xfrm>
            <a:off x="152280" y="969840"/>
            <a:ext cx="8839440" cy="573588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-16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Neural Communica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-1684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How Neurotransmitters influence u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7" name="Content Placeholder 2"/>
          <p:cNvSpPr/>
          <p:nvPr/>
        </p:nvSpPr>
        <p:spPr>
          <a:xfrm>
            <a:off x="0" y="685800"/>
            <a:ext cx="9144000" cy="58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Influence of N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Dozens of different kinds of NTs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Many different ways NTs can influence our hunger, thinking, depression, euphoria, addictions, therapy, motions, emotions, etc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**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This unit, we will focus on the influence NTs have on motions/emotions**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2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20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20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20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0" y="-1684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Altering Neurotransmiss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9" name="Content Placeholder 2"/>
          <p:cNvSpPr/>
          <p:nvPr/>
        </p:nvSpPr>
        <p:spPr>
          <a:xfrm>
            <a:off x="0" y="685800"/>
            <a:ext cx="9144000" cy="58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Artificial influenc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NTs are produced INSIDE the bod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Outside influences can impact brain chemistry at the synaps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Drugs &amp; other chemical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20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20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20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-1684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Altering Neurotransmiss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1" name="Content Placeholder 2"/>
          <p:cNvSpPr/>
          <p:nvPr/>
        </p:nvSpPr>
        <p:spPr>
          <a:xfrm>
            <a:off x="0" y="685800"/>
            <a:ext cx="9144000" cy="58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Agon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60960" indent="-25416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Molecules that are similar to NT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60960" indent="-25416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This similarity allows them to mimic it &amp; bind to NT receptors in neurons, replicating it’s affec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017000" indent="-2034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Opiate drugs are agonists and produce a “high” feeling by amplifying normal pleasurable sensation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Antagonis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60960" indent="-25416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Molecules that are similar to NT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60960" indent="-25416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They also bind to NT receptors; instead of replicating the affect of a NT, they block that respons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017000" indent="-2034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Botulin (botox) is an antagonists that blocks the release of a NT (ACh), that controls muscles; thus it temporarily paralyzes those muscl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2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20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20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20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20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2000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2000"/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3" descr=""/>
          <p:cNvPicPr/>
          <p:nvPr/>
        </p:nvPicPr>
        <p:blipFill>
          <a:blip r:embed="rId1"/>
          <a:stretch/>
        </p:blipFill>
        <p:spPr>
          <a:xfrm>
            <a:off x="304920" y="885960"/>
            <a:ext cx="8610480" cy="5972040"/>
          </a:xfrm>
          <a:prstGeom prst="rect">
            <a:avLst/>
          </a:prstGeom>
          <a:ln w="0">
            <a:noFill/>
          </a:ln>
        </p:spPr>
      </p:pic>
      <p:sp>
        <p:nvSpPr>
          <p:cNvPr id="143" name="Title 1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Agonist versus Antagonists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4" descr=""/>
          <p:cNvPicPr/>
          <p:nvPr/>
        </p:nvPicPr>
        <p:blipFill>
          <a:blip r:embed="rId1"/>
          <a:stretch/>
        </p:blipFill>
        <p:spPr>
          <a:xfrm>
            <a:off x="0" y="2057400"/>
            <a:ext cx="9145440" cy="4724280"/>
          </a:xfrm>
          <a:prstGeom prst="rect">
            <a:avLst/>
          </a:prstGeom>
          <a:ln w="0">
            <a:noFill/>
          </a:ln>
        </p:spPr>
      </p:pic>
      <p:sp>
        <p:nvSpPr>
          <p:cNvPr id="145" name="Title 1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Agonist versus Antagonists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The Neur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0" y="10890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Neuron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Nerve cel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asic building block of the nervous system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1" name="Picture 4" descr="colorb1"/>
          <p:cNvPicPr/>
          <p:nvPr/>
        </p:nvPicPr>
        <p:blipFill>
          <a:blip r:embed="rId1"/>
          <a:srcRect l="3639" t="0" r="0" b="0"/>
          <a:stretch/>
        </p:blipFill>
        <p:spPr>
          <a:xfrm>
            <a:off x="582480" y="2743200"/>
            <a:ext cx="7875720" cy="40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The Neur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-15840" y="10666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Types of Neuron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Sensory Neurons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08440" indent="-221400">
              <a:spcBef>
                <a:spcPts val="64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Carry incoming information from sensory receptors to the brain/spinal cord; e.g. Perceiving something as “hot”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spcBef>
                <a:spcPts val="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Motor Neurons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08440" indent="-221400">
              <a:spcBef>
                <a:spcPts val="64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Carry outgoing information from the brain/spinal cord to the muscles/glands; e.g. Clenching a fist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spcBef>
                <a:spcPts val="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Interneurons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08440" indent="-221400">
              <a:spcBef>
                <a:spcPts val="64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Located within the brain/spinal cord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2" marL="1108440" indent="-221400">
              <a:spcBef>
                <a:spcPts val="64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Communicate internally between sensory inputs and motor outputs; e.g. Reflexes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41360" y="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Parts of the Neur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-15840" y="8380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Garamond"/>
              </a:rPr>
              <a:t>Cell Bod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46200" indent="-24840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Cell’s life support center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Garamond"/>
              </a:rPr>
              <a:t>Dendrit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46200" indent="-24840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Bushy extensions that receives messages from outside &amp; conducts impulses towards the cell bod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Garamond"/>
              </a:rPr>
              <a:t>Ax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46200" indent="-24840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Fiber that extends from the neuron; it passes messages through it’s branches to other neurons, muscles, and/or gland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Garamond"/>
              </a:rPr>
              <a:t>Terminal branch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46200" indent="-24840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The ends of axon fibers, they form junctions with other cell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Garamond"/>
              </a:rPr>
              <a:t>Myelin Sheath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46200" indent="-24840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Layer of fatty tissue that encases some axons to help speed neural impuls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The Firing of a Neur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Resting Potential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005840" indent="-200880">
              <a:spcBef>
                <a:spcPts val="7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hen a neuron is not actively conducting an impuls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005840" indent="-200880">
              <a:spcBef>
                <a:spcPts val="64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re is a difference in electrical charges on the outside and inside of the cell membrane </a:t>
            </a:r>
            <a:r>
              <a:rPr b="0" i="1" lang="en-US" sz="2600" spc="-1" strike="noStrike">
                <a:solidFill>
                  <a:srgbClr val="ffffff"/>
                </a:solidFill>
                <a:latin typeface="Garamond"/>
              </a:rPr>
              <a:t>(the charge outside the cell membrane is MORE positive than the charge inside the cell membrane) 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2" marL="1005840" indent="-200880">
              <a:spcBef>
                <a:spcPts val="7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This difference in charge is due to different numbers of potassium ions (K</a:t>
            </a:r>
            <a:r>
              <a:rPr b="0" lang="en-GB" sz="2800" spc="-1" strike="noStrike" baseline="30000">
                <a:solidFill>
                  <a:srgbClr val="ffffff"/>
                </a:solidFill>
                <a:latin typeface="Garamond"/>
              </a:rPr>
              <a:t>+</a:t>
            </a: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) and sodium ions (Na</a:t>
            </a:r>
            <a:r>
              <a:rPr b="0" lang="en-GB" sz="2800" spc="-1" strike="noStrike" baseline="30000">
                <a:solidFill>
                  <a:srgbClr val="ffffff"/>
                </a:solidFill>
                <a:latin typeface="Garamond"/>
              </a:rPr>
              <a:t>+</a:t>
            </a: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) on either side of the membran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005840" indent="-200880">
              <a:spcBef>
                <a:spcPts val="7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The cell’s membrane is selectively permeable; the potassium and sodium ions can’t pass through i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005840" indent="-200880">
              <a:spcBef>
                <a:spcPts val="7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An active transport mechanism moves those ions in/out of the cel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005840" indent="-200880"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marL="1005840" indent="-200880"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The Firing of a Neur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Sodium-potassium pump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051560" indent="-210240">
              <a:spcBef>
                <a:spcPts val="7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ellular mechanism that actively transports (PUMPS) sodium ions outside the neuron’s cell bod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051560" indent="-210240">
              <a:spcBef>
                <a:spcPts val="7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imultaneously transports (PUMPS) potassium ions into the neuron’s cell bod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051560" indent="-210240">
              <a:spcBef>
                <a:spcPts val="7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3 sodium ions are pumped out for every 2 potassium ions that are pumped i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051560" indent="-210240">
              <a:spcBef>
                <a:spcPts val="7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is serves to keep the inside of the neuron negatively charged, compared to the outside (3 positive ions leave, 2 positive ions enter)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051560" indent="-210240" algn="ctr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00"/>
                </a:solidFill>
                <a:uFillTx/>
                <a:latin typeface="Garamond"/>
                <a:hlinkClick r:id="rId1"/>
              </a:rPr>
              <a:t>video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The Firing of a Neur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-27000" y="837720"/>
            <a:ext cx="914400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Garamond"/>
              </a:rPr>
              <a:t>Threshold: Level of stimulation required to trigger an action potential 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lvl="2" marL="1028520" indent="-205560">
              <a:spcBef>
                <a:spcPts val="64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Neurons are constantly receiving thousands of signals from other neurons: they can be excitatory or inhibitory 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2" marL="1028520" indent="-205560">
              <a:spcBef>
                <a:spcPts val="64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Excitation: excitatory signals “push the neuron’s accelerator”-they try to make the neuron fire off an action potential 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2" marL="1028520" indent="-205560">
              <a:spcBef>
                <a:spcPts val="64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Inhibition: inhibitory signals “push the neuron’s brakes”-they try to prevent the neuron from firing off an action potential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2" marL="1028520" indent="-205560">
              <a:spcBef>
                <a:spcPts val="64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When the excitatory signals a neuron is receiving exceeds the inhibitory signals by a minimum intensity, the threshold has been achieved and a brief change in the electrical charge within the cell occurs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2" marL="1028520" indent="-205560">
              <a:spcBef>
                <a:spcPts val="64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The Firing of a Neur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0" y="91440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Action Potentia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4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When the threshold is achieved, the electrical charge within the cell changes-Depolarization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4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Depolarization leads to gates in the cell membrane opening up, allowing positive ions to flow into the cell 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4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A brief electrical charge travels down an axon-ACTION POTENTIAL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4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As this action potential travels down the axon sections, each axon section depolarizes in turn, further moving the action potential towards the axon terminals 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2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20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20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20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20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The Firing of a Neur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0" y="91440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Action Potentia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ll-or-None”-If the threshold is achieved, the action potential will occur; if it is not achieved, the action potential will not occu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Increasing/decreasing the stimuli doesn’t matter; either the stimulus reaches the threshold &amp; the neuron fires, or it doesn’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2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20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4T04:12:01Z</dcterms:created>
  <dc:creator>Philip S. McCormick</dc:creator>
  <dc:description/>
  <dc:language>en-US</dc:language>
  <cp:lastModifiedBy>Debes John</cp:lastModifiedBy>
  <cp:lastPrinted>2015-10-22T12:14:09Z</cp:lastPrinted>
  <dcterms:modified xsi:type="dcterms:W3CDTF">2016-09-12T12:54:05Z</dcterms:modified>
  <cp:revision>202</cp:revision>
  <dc:subject/>
  <dc:title>Chapter 8: Sensation and Perception</dc:title>
</cp:coreProperties>
</file>