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487-1736-48E6-851F-9219332C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1BC-69E9-4D97-BF5A-EAEE9E466B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C3EA-B3C9-49E1-AFF1-995E1FD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409E-23C9-457F-B596-A2C643CF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DAE1-8718-4BE4-AB7D-22A6825B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B8ED-3E2F-4C80-A7AC-8F42ACDF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36F-70AD-4C74-AE9A-A3553AC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1850-65B0-4C85-81D8-898EE61F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5D85-2DCC-4108-A7EC-502A98C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EF0B-E781-465C-BAAF-A48988A6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6DD2-B1AF-422A-958A-263E6C4C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EEBB-A9CF-4FDA-B8B7-5093C28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3ED5-3068-4F5B-853F-E731E91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D742-A0EC-470B-A59D-6F1FB730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71DB-7A43-4533-8040-83E16F6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F47-B26F-4831-8B99-A14CA15D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827B-E76D-4BBA-BD34-04DEE28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A1E6-28A1-452C-9337-8E77A6EF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3FC-DE85-4AF1-9A6A-AF06B068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8C1B-353B-45AB-9A84-DF7BC8C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B7B4-67F7-4B51-8E02-6391823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295B-427F-4167-960D-F290C33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46F2-0285-4586-A1DA-969EFAB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0C8B-46D8-49A3-912E-FFD4E2E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6488-6FCC-4028-959F-82DC6888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FB83-7493-408D-8DE9-4D99B47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F486-7744-45C1-9393-D0699E8F3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E463-823A-41DE-A31C-677253A82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xweYA-IJTq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Biological Bases 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of Behavior</a:t>
            </a:r>
            <a:br>
              <a:rPr sz="5200"/>
            </a:br>
            <a:r>
              <a:rPr b="0" i="1" lang="en-US" sz="5200" spc="-1" strike="noStrike">
                <a:solidFill>
                  <a:srgbClr val="ff9900"/>
                </a:solidFill>
                <a:latin typeface="Garamond"/>
              </a:rPr>
              <a:t> (The Neuron)</a:t>
            </a:r>
            <a:endParaRPr b="1" lang="en-US" sz="5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fractory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the action potential fires, the neuron pumps positively charged sodium ions back out, preparing to fire again.  The action potential/refractory period process repeats hundreds (sometimes thousands) of times a seco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 is the mechanism for communication WITHIN a single neur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do neurons communicate with other neuron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napse: meeting point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there is no direct conta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is a gap of 1 millionth of an inch, known as the synaptic gap or synaptic cl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eurotransmitters (NTs): chemical messengers that communicate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it triggers the release of chemical me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NTs cross the synaptic gap &amp; unlock channels in the receiving neuron, allowing ions to flow in, either exciting or inhibiting this neuron’s readiness to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euptake: reabsorption of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sending neuron reabsorbs any excess 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ow Neurotransmitters influence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luence of 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zens of different kinds of 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different ways NTs can influence our hunger, thinking, depression, euphoria, addictions, therapy, motions, emotion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*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s unit, we will focus on the influence NTs have on motions/emotions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rtificial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Ts are produced INSIDE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side influences can impact brain chemistry at the synap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ugs &amp; other chem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similarity allows them to mimic it &amp; bind to NT receptors in neurons, replicating it’s aff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iate drugs are agonists and produce a “high” feeling by amplifying normal pleasurable sens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lso bind to NT receptors; instead of replicating the affect of a NT, they block that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tulin (botox) is an antagonists that blocks the release of a NT (ACh), that controls muscles; thus it temporarily paralyzes those mus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544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rv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building block of the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colorb1"/>
          <p:cNvPicPr/>
          <p:nvPr/>
        </p:nvPicPr>
        <p:blipFill>
          <a:blip r:embed="rId1"/>
          <a:srcRect l="3639" t="0" r="0" b="0"/>
          <a:stretch/>
        </p:blipFill>
        <p:spPr>
          <a:xfrm>
            <a:off x="582480" y="2743200"/>
            <a:ext cx="7875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584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sory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incoming information from sensory receptors to the brain/spinal cord; e.g. Perceiving something as “hot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tor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outgoing information from the brain/spinal cord to the muscles/glands; e.g. Clenching a fi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cated within the brain/spinal cor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 internally between sensory inputs and motor outputs; e.g. Reflex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136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arts of 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1584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ll’s life support ce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shy extensions that receives messages from outside &amp; conducts impulses towards the cell 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ber that extends from the neuron; it passes messages through it’s branches to other neurons, muscles, and/or gla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nds of axon fibers, they form junctions with other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yer of fatty tissue that encases some axons to help speed neural impul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ting Potent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 neuron is not actively conducting an impu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difference in electrical charges on the outside and inside of the cell membran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the charge outside the cell membrane is MORE positive than the charge inside the cell membrane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is difference in charge is due to different numbers of potassium ions (K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and sodium ions (N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on either side of the membra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cell’s membrane is selectively permeable; the potassium and sodium ions can’t pass through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n active transport mechanism moves those ions in/out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dium-potassium pum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ar mechanism that actively transports (PUMPS) sodium ions outside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ultaneously transports (PUMPS) potassium ions into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sodium ions are pumped out for every 2 potassium ions that are pumped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erves to keep the inside of the neuron negatively charged, compared to the outside (3 positive ions leave, 2 positive ions ente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2700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Threshold: Level of stimulation required to trigger an action potential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urons are constantly receiving thousands of signals from other neurons: they can be excitatory or inhibitor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xcitation: excitatory signals “push the neuron’s accelerator”-they try to make the neuron fire off an action potential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hibition: inhibitory signals “push the neuron’s brakes”-they try to prevent the neuron from firing off an action pot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excitatory signals a neuron is receiving exceeds the inhibitory signals by a minimum intensity, the threshold has been achieved and a brief change in the electrical charge within the cell occu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threshold is achieved, the electrical charge within the cell changes-Depolariz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polarization leads to gates in the cell membrane opening up, allowing positive ions to flow into the cell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brief electrical charge travels down an axon-ACTION POT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this action potential travels down the axon sections, each axon section depolarizes in turn, further moving the action potential towards the axon terminal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-or-None”-If the threshold is achieved, the action potential will occur; if it is not achieved, the action potential will not occ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/decreasing the stimuli doesn’t matter; either the stimulus reaches the threshold &amp; the neuron fires, or it doesn’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2T12:14:09Z</cp:lastPrinted>
  <dcterms:modified xsi:type="dcterms:W3CDTF">2016-09-12T12:54:05Z</dcterms:modified>
  <cp:revision>202</cp:revision>
  <dc:subject/>
  <dc:title>Chapter 8: Sensation and Perception</dc:title>
</cp:coreProperties>
</file>