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D91-F0E3-42E3-B888-26B63577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9C7-AE3F-43EC-9297-CAA99C7345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6517-DCEE-4E0C-8609-774B38A3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0DFB-698E-41BB-9003-D0EB600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9534-CA02-41CC-8E8E-35B22BF1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D92E-DF3B-444D-B7F9-70C7F04B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0FCE-7DAF-42BD-BCAA-DCC64196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13FD-14D8-40EE-B49F-7ADCB074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98C1-205C-4695-92E0-8C430B7F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BA2-EE2F-48F8-8909-9E20D136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C21A-142C-465C-97AD-798FE4A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F60A-C411-4AC6-9D51-83D9B78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46F-D4C2-4433-A85A-A4BFFAD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18FE-A19D-4095-A690-0D2A703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8FB4-8C07-4B9E-A1D0-7AC48B0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5C7-8871-440F-99CC-0E2F86C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2F6-BE08-458B-AFB8-3E5FEB6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6798-9FDD-40AC-A2FC-CEA62D0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A504-A761-4CFF-94AB-E24601E0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3200-11AE-434B-99D2-ACEF55A3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D581-77DF-4C10-B399-C0B4B87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C24E-38C1-44EA-94D1-E55EA832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C6D2-030A-4AE6-AB75-E58DA62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DF31-C13F-4EF7-BB69-1D9CC65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5F60-476C-4803-AE4A-1BE32D4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3B88-040A-4CA7-B8B8-01E3B64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28D5-9EC1-4687-AACF-2EDE97499C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34B5-1C72-4D04-84AA-92094881FD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xweYA-IJTq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Biological Bases 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of Behavior</a:t>
            </a:r>
            <a:br>
              <a:rPr sz="5200"/>
            </a:br>
            <a:r>
              <a:rPr b="0" i="1" lang="en-US" sz="5200" spc="-1" strike="noStrike">
                <a:solidFill>
                  <a:srgbClr val="ff9900"/>
                </a:solidFill>
                <a:latin typeface="Garamond"/>
              </a:rPr>
              <a:t> (The Neuron)</a:t>
            </a:r>
            <a:endParaRPr b="1" lang="en-US" sz="5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fractory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the action potential fires, the neuron pumps positively charged sodium ions back out, preparing to fire again.  The action potential/refractory period process repeats hundreds (sometimes thousands) of times a seco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 is the mechanism for communication WITHIN a single neur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do neurons communicate with other neuron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napse: meeting point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there is no direct conta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is a gap of 1 millionth of an inch, known as the synaptic gap or synaptic cl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eurotransmitters (NTs): chemical messengers that communicate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it triggers the release of chemical me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NTs cross the synaptic gap &amp; unlock channels in the receiving neuron, allowing ions to flow in, either exciting or inhibiting this neuron’s readiness to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euptake: reabsorption of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sending neuron reabsorbs any excess 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ow Neurotransmitters influence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luence of 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zens of different kinds of 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different ways NTs can influence our hunger, thinking, depression, euphoria, addictions, therapy, motions, emotion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*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s unit, we will focus on the influence NTs have on motions/emotions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rtificial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Ts are produced INSIDE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side influences can impact brain chemistry at the synap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ugs &amp; other chem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similarity allows them to mimic it &amp; bind to NT receptors in neurons, replicating it’s aff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iate drugs are agonists and produce a “high” feeling by amplifying normal pleasurable sens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lso bind to NT receptors; instead of replicating the affect of a NT, they block that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ulin (botox) is an antagonists that blocks the release of a NT (ACh), that controls muscles; thus it temporarily paralyzes those mus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544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building block of the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colorb1"/>
          <p:cNvPicPr/>
          <p:nvPr/>
        </p:nvPicPr>
        <p:blipFill>
          <a:blip r:embed="rId1"/>
          <a:srcRect l="3639" t="0" r="0" b="0"/>
          <a:stretch/>
        </p:blipFill>
        <p:spPr>
          <a:xfrm>
            <a:off x="582480" y="2743200"/>
            <a:ext cx="7875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84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sory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incoming information from sensory receptors to the brain/spinal cord; e.g. Perceiving something as “hot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tor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outgoing information from the brain/spinal cord to the muscles/glands; e.g. Clenching a fi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cated within the brain/spinal cor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 internally between sensory inputs and motor outputs; e.g. Reflex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136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arts of 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584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ll’s life support ce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shy extensions that receives messages from outside &amp; conducts impulses towards the cell 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ber that extends from the neuron; it passes messages through it’s branches to other neurons, muscles, and/or gla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nds of axon fibers, they form junctions with other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yer of fatty tissue that encases some axons to help speed neural impul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ting Potent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 neuron is not actively conducting an impu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difference in electrical charges on the outside and inside of the cell membran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the charge outside the cell membrane is MORE positive than the charge inside the cell membrane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is difference in charge is due to different numbers of potassium ions (K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and sodium ions (N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on either side of the membr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cell’s membrane is selectively permeable; the potassium and sodium ions can’t pass through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n active transport mechanism moves those ions in/out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dium-potassium pum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ar mechanism that actively transports (PUMPS) sodium ions outside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ultaneously transports (PUMPS) potassium ions into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sodium ions are pumped out for every 2 potassium ions that are pumped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erves to keep the inside of the neuron negatively charged, compared to the outside (3 positive ions leave, 2 positive ions ente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2700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Threshold: Level of stimulation required to trigger an action potential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urons are constantly receiving thousands of signals from other neurons: they can be excitatory or inhibitor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xcitation: excitatory signals “push the neuron’s accelerator”-they try to make the neuron fire off an action potentia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hibition: inhibitory signals “push the neuron’s brakes”-they try to prevent the neuron from firing off an 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excitatory signals a neuron is receiving exceeds the inhibitory signals by a minimum intensity, the threshold has been achieved and a brief change in the electrical charge within the cell occu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threshold is achieved, the electrical charge within the cell changes-Depolariz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polarization leads to gates in the cell membrane opening up, allowing positive ions to flow into the cel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brief electrical charge travels down an axon-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this action potential travels down the axon sections, each axon section depolarizes in turn, further moving the action potential towards the axon termina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-or-None”-If the threshold is achieved, the action potential will occur; if it is not achieved, the action potential will not occ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/decreasing the stimuli doesn’t matter; either the stimulus reaches the threshold &amp; the neuron fires, or it doesn’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2T12:14:09Z</cp:lastPrinted>
  <dcterms:modified xsi:type="dcterms:W3CDTF">2016-09-12T12:54:05Z</dcterms:modified>
  <cp:revision>202</cp:revision>
  <dc:subject/>
  <dc:title>Chapter 8: Sensation and Perception</dc:title>
</cp:coreProperties>
</file>