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5C7E-6649-4B60-B539-6062C318A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A360-6A25-44F5-83EB-A4BA95683A1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61C50-5605-4A0A-8390-1D7A92C4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EACB4-0C64-464D-9E38-30215C3C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BB50C-6150-43B2-A537-8FBEF8A0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73C6A-B4F9-4CB1-A6A2-1242B7EB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9439-F698-4A2E-85FA-737E9D67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32B4-C999-4979-9CC2-8738E0F4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241E-52DE-4CD0-849C-3C0080B6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8DD4-8887-4026-B6BD-B70B6E14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1421-EAF7-4A28-AF9A-622FDE75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9C8E-0396-4789-AD1C-ECAD3393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1AC4-7C91-42F7-9706-3B2DC443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B1F8D-9A20-470E-B09B-3DE76276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8713-299A-4297-8652-D2EE6B28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273A-2715-495E-8F96-05D58D49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2355-CA98-44CD-823A-9A2B90A2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3B19-ECA0-442A-8B42-7E299D12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14CA-D578-4E82-A9E4-C1C422D7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82B69-D4DF-4EFE-8F9A-2D3C3617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F2C07-FDE3-478A-B05F-89C2EF11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7FBDF-B795-42BE-A988-386273B9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9D320-869F-4356-A178-81833C70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0448E-6F7E-4101-A884-21BA8369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8242B-ACD7-4AB5-80F7-B0AD7A19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7FD86-877A-4FB7-A1EB-B756D653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F4AC-158B-4FF0-8DE9-3E89BABC75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6D2D-DB2D-4E5B-BBB5-07225A6D6C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youtu.be/xweYA-IJTqs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3:</a:t>
            </a:r>
            <a:br>
              <a:rPr sz="5400"/>
            </a:br>
            <a:r>
              <a:rPr b="1" lang="en-US" sz="6600" spc="-1" strike="noStrike">
                <a:solidFill>
                  <a:srgbClr val="ff9900"/>
                </a:solidFill>
                <a:latin typeface="Garamond"/>
              </a:rPr>
              <a:t>Biological Bases </a:t>
            </a:r>
            <a:br>
              <a:rPr sz="6600"/>
            </a:br>
            <a:r>
              <a:rPr b="1" lang="en-US" sz="6600" spc="-1" strike="noStrike">
                <a:solidFill>
                  <a:srgbClr val="ff9900"/>
                </a:solidFill>
                <a:latin typeface="Garamond"/>
              </a:rPr>
              <a:t>of Behavior</a:t>
            </a:r>
            <a:br>
              <a:rPr sz="5200"/>
            </a:br>
            <a:r>
              <a:rPr b="0" i="1" lang="en-US" sz="5200" spc="-1" strike="noStrike">
                <a:solidFill>
                  <a:srgbClr val="ff9900"/>
                </a:solidFill>
                <a:latin typeface="Garamond"/>
              </a:rPr>
              <a:t>3-A (The Neuron)</a:t>
            </a:r>
            <a:endParaRPr b="1" lang="en-US" sz="5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Picture 4" descr="Myers9e_fig_2_03"/>
          <p:cNvPicPr/>
          <p:nvPr/>
        </p:nvPicPr>
        <p:blipFill>
          <a:blip r:embed="rId1"/>
          <a:stretch/>
        </p:blipFill>
        <p:spPr>
          <a:xfrm>
            <a:off x="-47520" y="1038240"/>
            <a:ext cx="9191520" cy="58197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3048120" y="2895480"/>
            <a:ext cx="609588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066680" y="6095880"/>
            <a:ext cx="3962520" cy="59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Picture 4" descr="Myers9e_fig_2_03"/>
          <p:cNvPicPr/>
          <p:nvPr/>
        </p:nvPicPr>
        <p:blipFill>
          <a:blip r:embed="rId1"/>
          <a:stretch/>
        </p:blipFill>
        <p:spPr>
          <a:xfrm>
            <a:off x="-47520" y="1038240"/>
            <a:ext cx="9191520" cy="58197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6324480" y="4114800"/>
            <a:ext cx="281952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295280" y="6262560"/>
            <a:ext cx="5105520" cy="59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2604960" y="2827440"/>
            <a:ext cx="5105520" cy="11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8" name="Picture 4" descr="Myers9e_fig_2_03"/>
          <p:cNvPicPr/>
          <p:nvPr/>
        </p:nvPicPr>
        <p:blipFill>
          <a:blip r:embed="rId1"/>
          <a:stretch/>
        </p:blipFill>
        <p:spPr>
          <a:xfrm>
            <a:off x="-47520" y="1038240"/>
            <a:ext cx="9191520" cy="5819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6324480" y="4114800"/>
            <a:ext cx="281952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295280" y="6262560"/>
            <a:ext cx="5105520" cy="59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Picture 4" descr="Myers9e_fig_2_03"/>
          <p:cNvPicPr/>
          <p:nvPr/>
        </p:nvPicPr>
        <p:blipFill>
          <a:blip r:embed="rId1"/>
          <a:stretch/>
        </p:blipFill>
        <p:spPr>
          <a:xfrm>
            <a:off x="-47520" y="1038240"/>
            <a:ext cx="9191520" cy="58197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1295280" y="6172200"/>
            <a:ext cx="6934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553080" y="3957480"/>
            <a:ext cx="2590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Picture 4" descr="Myers9e_fig_2_03"/>
          <p:cNvPicPr/>
          <p:nvPr/>
        </p:nvPicPr>
        <p:blipFill>
          <a:blip r:embed="rId1"/>
          <a:stretch/>
        </p:blipFill>
        <p:spPr>
          <a:xfrm>
            <a:off x="-47520" y="1038240"/>
            <a:ext cx="9191520" cy="58197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1295280" y="6172200"/>
            <a:ext cx="6934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4" descr="Myers9e_fig_2_03"/>
          <p:cNvPicPr/>
          <p:nvPr/>
        </p:nvPicPr>
        <p:blipFill>
          <a:blip r:embed="rId1"/>
          <a:stretch/>
        </p:blipFill>
        <p:spPr>
          <a:xfrm>
            <a:off x="-47520" y="1038240"/>
            <a:ext cx="91915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3164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7160" y="685440"/>
            <a:ext cx="8610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at is a </a:t>
            </a: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neuro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ifferentiat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tween th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ypes of </a:t>
            </a: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neuro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Sensory Neur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Motor Neur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Interneur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scuss th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unctio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f the following parts of the </a:t>
            </a: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neuro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Dendri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Ax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Myelin Sheat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Terminal Branch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at causes </a:t>
            </a: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neuro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ir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eural Commun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ction potential is the mechanism for communication WITHIN a single neu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How do neurons communicate with other neuron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16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eural Commun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Synapse: meeting point between neur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hen an action potential reaches the axis terminal, there is no direct contac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re is a gap of 1 millionth of an inch, known as the synaptic gap or synaptic clef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Neurotransmitters (NTs): chemical messengers that communicate between neur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hen an action potential reaches the axis terminal, it triggers the release of chemical me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se NTs cross the synaptic gap &amp; unlock channels in the receiving neuron, allowing ions to flow in, either exciting or inhibiting this neuron’s readiness to fi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Reuptake: reabsorption of 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sending neuron reabsorbs any excess 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52280" y="969840"/>
            <a:ext cx="8839440" cy="57358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16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eural Commun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0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eur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rve ce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sic building block of the nervous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4" descr="colorb1"/>
          <p:cNvPicPr/>
          <p:nvPr/>
        </p:nvPicPr>
        <p:blipFill>
          <a:blip r:embed="rId1"/>
          <a:srcRect l="3639" t="0" r="0" b="0"/>
          <a:stretch/>
        </p:blipFill>
        <p:spPr>
          <a:xfrm>
            <a:off x="582480" y="2743200"/>
            <a:ext cx="787572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52280" y="969840"/>
            <a:ext cx="8839440" cy="57358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16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eural Commun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52280" y="976320"/>
            <a:ext cx="8839440" cy="57294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16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eural Commun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152280" y="969840"/>
            <a:ext cx="8839440" cy="57358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16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eural Commun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152280" y="969840"/>
            <a:ext cx="8839440" cy="57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16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eural Commun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168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How Neurotransmitters influence 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nfluence of 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ozens of different kinds of 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any different ways NTs can influence our hunger, thinking, depression, euphoria, addictions, therapy, motions, emotions, et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*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his unit, we will focus on the influence NTs have on motions/emotions**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168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Altering Neurotransmis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rtificial influ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Ts are produced INSIDE the bo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utside influences can impact brain chemistry at the synap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rugs &amp; other chemic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168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Altering Neurotransmis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Content Placeholder 2"/>
          <p:cNvSpPr/>
          <p:nvPr/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gon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lecules that are similar to 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is similarity allows them to mimic it &amp; bind to NT receptors in neurons, replicating it’s aff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piate drugs are agonists and produce a “high” feeling by amplifying normal pleasurable sens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ntagoni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lecules that are similar to 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also bind to NT receptors; instead of replicating the affect of a NT, they block that respon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otulin (botox) is an antagonists that blocks the release of a NT (ACh), that controls muscles; thus it temporarily paralyzes those musc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04920" y="885960"/>
            <a:ext cx="8610480" cy="5972040"/>
          </a:xfrm>
          <a:prstGeom prst="rect">
            <a:avLst/>
          </a:prstGeom>
          <a:ln w="0">
            <a:noFill/>
          </a:ln>
        </p:spPr>
      </p:pic>
      <p:sp>
        <p:nvSpPr>
          <p:cNvPr id="173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gonist versus Antagonis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04920" y="885960"/>
            <a:ext cx="8610480" cy="5972040"/>
          </a:xfrm>
          <a:prstGeom prst="rect">
            <a:avLst/>
          </a:prstGeom>
          <a:ln w="0">
            <a:noFill/>
          </a:ln>
        </p:spPr>
      </p:pic>
      <p:sp>
        <p:nvSpPr>
          <p:cNvPr id="175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gonist versus Antagonis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304920" y="885960"/>
            <a:ext cx="8610480" cy="5972040"/>
          </a:xfrm>
          <a:prstGeom prst="rect">
            <a:avLst/>
          </a:prstGeom>
          <a:ln w="0">
            <a:noFill/>
          </a:ln>
        </p:spPr>
      </p:pic>
      <p:sp>
        <p:nvSpPr>
          <p:cNvPr id="177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gonist versus Antagonis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15840" y="10666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ypes of Neur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nsory Neuron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arry incoming information from sensory receptors to the brain/spinal cord; e.g. Perceiving something as “hot”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tor Neuron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arry outgoing information from the brain/spinal cord to the muscles/glands; e.g. Clenching a fis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terneuron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Located within the brain/spinal cord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ommunicate internally between sensory inputs and motor outputs; e.g. Reflexe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9139320" cy="4724280"/>
          </a:xfrm>
          <a:prstGeom prst="rect">
            <a:avLst/>
          </a:prstGeom>
          <a:ln w="0">
            <a:noFill/>
          </a:ln>
        </p:spPr>
      </p:pic>
      <p:sp>
        <p:nvSpPr>
          <p:cNvPr id="179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gonist versus Antagonis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9139320" cy="4724280"/>
          </a:xfrm>
          <a:prstGeom prst="rect">
            <a:avLst/>
          </a:prstGeom>
          <a:ln w="0">
            <a:noFill/>
          </a:ln>
        </p:spPr>
      </p:pic>
      <p:sp>
        <p:nvSpPr>
          <p:cNvPr id="181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gonist versus Antagonis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9139320" cy="4724280"/>
          </a:xfrm>
          <a:prstGeom prst="rect">
            <a:avLst/>
          </a:prstGeom>
          <a:ln w="0">
            <a:noFill/>
          </a:ln>
        </p:spPr>
      </p:pic>
      <p:sp>
        <p:nvSpPr>
          <p:cNvPr id="183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gonist versus Antagonis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9139320" cy="4724280"/>
          </a:xfrm>
          <a:prstGeom prst="rect">
            <a:avLst/>
          </a:prstGeom>
          <a:ln w="0">
            <a:noFill/>
          </a:ln>
        </p:spPr>
      </p:pic>
      <p:sp>
        <p:nvSpPr>
          <p:cNvPr id="185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gonist versus Antagonis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5440" cy="4724280"/>
          </a:xfrm>
          <a:prstGeom prst="rect">
            <a:avLst/>
          </a:prstGeom>
          <a:ln w="0">
            <a:noFill/>
          </a:ln>
        </p:spPr>
      </p:pic>
      <p:sp>
        <p:nvSpPr>
          <p:cNvPr id="187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gonist versus Antagonis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9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2860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ain how neurons communicate with other neur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ain how NTs influence behavi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ain how drugs and other chemicals can influence neurotransmission.  (make sure to differentiate between agonists &amp; antagonis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136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arts of the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1584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Cell Bo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ell’s life support cen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Dendri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ushy extensions that receives messages from outside &amp; conducts impulses towards the cell bod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Ax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iber that extends from the neuron; it passes messages through it’s branches to other neurons, muscles, and/or glan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Terminal branch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ends of axon fibers, they form junctions with other cel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Myelin She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ayer of fatty tissue that encases some axons to help speed neural impul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esting Potenti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a neuron is not actively conducting an impul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erence in electrical charges on the outside and inside of the cell membrane (positive charge outside &amp; negative charge inside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his difference in charge is due to different numbers of potassium ions (K</a:t>
            </a:r>
            <a:r>
              <a:rPr b="0" lang="en-GB" sz="28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) and sodium ions (Na</a:t>
            </a:r>
            <a:r>
              <a:rPr b="0" lang="en-GB" sz="28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) on either side of the membra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odium-potassium pump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llular mechanism that actively transports (PUMPS) sodium ions outside the neuron’s cell bo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multaneously transports (PUMPS) potassium ions into the neuron’s cell bo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sodium ions are pumped out for every 2 potassium ions that are pumped 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serves to keep the inside of the neuron negatively charged, compared to the outside (3 positive ions leave, 2 positive ions enter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vide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hreshold: Level of stimulation required to trigger an action potenti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urons are constantly receiving hundreds of signals from other neur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me signals are excitatory, some signals inhibitor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itatory signals “push the neuron’s accelerator,” while inhibitory signals “push the neuron’s brakes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the excitatory signals a neuron is receiving exceeds the inhibitory signals by a minimum intensity, the threshold has been achieved and a brief change in the electrical charge within the cell occu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ction Potent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When the threshold is achieved, the electrical charge within the cell changes-Depolarization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Brief electrical charge that travels down an ax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s this action potential travels down the axon sections, each axon section depolarizes in turn, further moving the action potential towards the axon terminals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ll-or-None”-action potential either occurs or does not. 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efractory peri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fter the action potential fires, the neuron pumps positively charged sodium ions back out, preparing to fire again.  The action potential/refractory period process repeats hundreds (sometimes thousands) of times a second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4" descr="Myers9e_fig_2_03"/>
          <p:cNvPicPr/>
          <p:nvPr/>
        </p:nvPicPr>
        <p:blipFill>
          <a:blip r:embed="rId1"/>
          <a:stretch/>
        </p:blipFill>
        <p:spPr>
          <a:xfrm>
            <a:off x="-47520" y="1038240"/>
            <a:ext cx="9191520" cy="5819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"/>
          <p:cNvSpPr/>
          <p:nvPr/>
        </p:nvSpPr>
        <p:spPr>
          <a:xfrm>
            <a:off x="3048120" y="2895480"/>
            <a:ext cx="609588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80880" y="5181480"/>
            <a:ext cx="3962520" cy="15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cp:lastPrinted>2015-10-22T12:14:09Z</cp:lastPrinted>
  <dcterms:modified xsi:type="dcterms:W3CDTF">2015-10-23T10:44:31Z</dcterms:modified>
  <cp:revision>192</cp:revision>
  <dc:subject/>
  <dc:title>Chapter 8: Sensation and Perception</dc:title>
</cp:coreProperties>
</file>