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9EAD-C376-4332-B14C-0C77049C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4C20-80DC-4C28-9D11-08B1231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0B2E-B4D7-43DC-B473-5559E3B1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BA6A-C6E5-4BB9-B1AE-7E120B77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392-A478-466C-BD1D-CF5A712D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82D-7779-44D3-BF99-D559808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69C7-7219-4B50-8878-FDEAFE3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DFC-1493-4895-9ADC-235A73F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8CB7-7C22-491C-88B6-AFE764B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7C94-2F60-412E-9D98-83CC366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8F7E-DF6E-408C-AD12-083C194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7B96-9781-4688-9425-59002FE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966-F660-40A9-91E8-26E4D97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ABAD-1A65-4E6F-ADED-CA1A181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3827-B522-43D8-95D5-571CFE7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C62-EE9F-4D84-BAC7-D49FAC2F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080-2ABB-4E96-AC2E-D4B92EC7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39C7-AC4F-406E-A7F8-6582D2F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D50D-0070-42AE-BABE-088ADEBC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0DE6-5B82-48FF-B89C-53E7250D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7BE2-09DC-44F4-91C2-5FAA338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C102-547F-4F8A-8896-C0B9EAD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FEF8-529B-43DC-BBE3-F6D21F6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9D2A-D882-49E5-8A23-BCF503C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48E-3329-4A8F-9976-46E6DF391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ABA-CE87-4355-88BF-39D02CB178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The Nervous System &amp; Endocrine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636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5" descr="MyersPEL1e_fig_02_06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3549960" y="6488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ge 90 in tex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ody’s speedy, electrochemical communic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s of central and peripheral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rv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d axons that form neural “cables” connecting the central nervous system with muscles, glands, and sense org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entral Nervous System (CNS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 and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urons communicate in the spinal cord (reflex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eripheral Nervous System (PNS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ensory and motor neurons that connect the central nervous system with the rest of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584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NS has two components: Somatic nervous system &amp; the autonomic nervous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matic nervous system-enables voluntary control of our skeletal muscl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utonomic nervous system (ANS)-controls our glands &amp; muscles of internal orga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operates on its own (auto-pilo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S has two parts/functio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tivated during emergenci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ecome alert, vigilant, aroused, activated &amp; prepared for ac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s the neurochemicals epinephrine (also called adrenaline) and norepinephrine (also called noradrenaline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"fight or flight" stress respons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lms the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motes routine activities like digesting your foo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s the neurochemical acetylcholine (ACh), which leads to relax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t &amp; digest” stress respons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Autonomic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3" descr="Myers9e_fig_2_08"/>
          <p:cNvPicPr/>
          <p:nvPr/>
        </p:nvPicPr>
        <p:blipFill>
          <a:blip r:embed="rId1"/>
          <a:stretch/>
        </p:blipFill>
        <p:spPr>
          <a:xfrm>
            <a:off x="990720" y="1143000"/>
            <a:ext cx="70866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403440" y="64850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ge 88 in textboo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docrine Syst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ody’s “slow” chemical communication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t of glands that secrete hormones into the bloodstr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rm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messengers that are manufactured by the endocrin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vel through the blood stream; affect other t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Testosterone; Estro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mones are delivered via the bloodstream (as opposed to along nerves like the nervous syst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ffects of the hormones last longer than neural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&amp; personality are linked to the ebb &amp; flow of hormones in the bloodstr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lands of 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8377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renal Glan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pair of endocrine glands that sit just above the kidney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 hormones (Epinephrine and Norepinephrine) that help arouse the body in times of stres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se hormones, when released, provide us with a surge of energy-the “fight-or-flight” response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ituitary Gl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endocrine system’s most influential gla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fluenced by Hypothalamu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gulates grow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ntrols other endocrine glands-“master gland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9T13:47:24Z</cp:lastPrinted>
  <dcterms:modified xsi:type="dcterms:W3CDTF">2015-10-29T18:37:13Z</dcterms:modified>
  <cp:revision>206</cp:revision>
  <dc:subject/>
  <dc:title>Chapter 8: Sensation and Perception</dc:title>
</cp:coreProperties>
</file>