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8804A-AC97-4110-ADA6-CDEE996B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31E2F-3B79-4E45-B7D1-98DDA7B9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038E7-9A75-4455-B6B2-2A84AC1C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D5DC9-D989-4180-B329-0C81F99E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ED21-F329-4768-8570-65DF6B2C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E38C-3A6B-418B-A8E2-7E051514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EE5B-41DF-4D17-8297-91B54D74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3206-73C8-4BBC-8B3B-4E4ADFCA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CFF7-9C3D-46D3-AAA3-FDBB6E9C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00D7-F9B3-4C0B-8F35-3361D497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40EB-4075-4FE0-83FC-ACBEA74A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3CCF7-5CA9-4302-8730-601CF38E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4A68-CCD0-45C8-BEBD-5148910A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E0C7-2A84-4CDC-85B7-5DE3AB56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6B11-03BD-447C-BC12-B00AF5BE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A8BF-F137-4847-B720-C0378D6A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BB29-55F7-4F1D-89B9-49F74D857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CFD5B-C71E-42CC-B9CB-721E2B35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788B8-EAAF-432F-A820-DEA5B080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C5D54-0C8D-4575-9666-A0F80F6F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A01E4-4C25-4F94-B15A-7E648B5D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43CCD-113B-45ED-97D3-C1417970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D78BD-73A7-48B0-B2DA-269803A4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672D4-8EF5-443A-8C85-EE72BCCC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7D0C-47ED-4953-87FA-C1CFBB7472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247B-A594-4A63-9CA2-A5CB5A72DC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3: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The Nervous System &amp; Endocrine System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6360" y="-3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Endocrine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Picture 5" descr="MyersPEL1e_fig_02_06"/>
          <p:cNvPicPr/>
          <p:nvPr/>
        </p:nvPicPr>
        <p:blipFill>
          <a:blip r:embed="rId1"/>
          <a:stretch/>
        </p:blipFill>
        <p:spPr>
          <a:xfrm>
            <a:off x="152280" y="914400"/>
            <a:ext cx="8686800" cy="55627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3549960" y="648828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Page 90 in tex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Nervous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Nervous System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ody’s speedy, electrochemical communication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sts of central and peripheral nervous 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Nerv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ndled axons that form neural “cables” connecting the central nervous system with muscles, glands, and sense orga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Nervous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entral Nervous System (CNS)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rain and spinal co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rneurons communicate in the spinal cord (reflex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Peripheral Nervous System (PNS)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ensory and motor neurons that connect the central nervous system with the rest of the bo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Nervous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1584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PNS has two components: Somatic nervous system &amp; the autonomic nervous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omatic nervous system-enables voluntary control of our skeletal muscle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utonomic nervous system (ANS)-controls our glands &amp; muscles of internal organ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-1828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ually operates on its own (auto-pilo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NS has two parts/functions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-1828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ympathetic nervous 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-1828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asympathetic nervous 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Nervous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6858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Sympathetic nervous 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-2113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ctivated during emergencie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-2113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become alert, vigilant, aroused, activated &amp; prepared for act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-2113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ecretes the neurochemicals epinephrine (also called adrenaline) and norepinephrine (also called noradrenaline)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-2113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"fight or flight" stress respons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Parasympathetic nervous 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-2113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alms the bod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-2113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romotes routine activities like digesting your food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-2113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ecretes the neurochemical acetylcholine (ACh), which leads to relaxat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-2113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rest &amp; digest” stress respons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Autonomic Nervous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3" descr="Myers9e_fig_2_08"/>
          <p:cNvPicPr/>
          <p:nvPr/>
        </p:nvPicPr>
        <p:blipFill>
          <a:blip r:embed="rId1"/>
          <a:stretch/>
        </p:blipFill>
        <p:spPr>
          <a:xfrm>
            <a:off x="990720" y="1143000"/>
            <a:ext cx="7086600" cy="53341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3403440" y="648504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Page 88 in textboo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Endocrine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2193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Endocrine System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ody’s “slow” chemical communication 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et of glands that secrete hormones into the bloodstre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Hormon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emical messengers that are manufactured by the endocrine 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vel through the blood stream; affect other tiss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 Testosterone; Estrog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Endocrine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12193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Behavio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rmones are delivered via the bloodstream (as opposed to along nerves like the nervous syste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effects of the hormones last longer than neural effe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havior &amp; personality are linked to the ebb &amp; flow of hormones in the bloodstre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Glands of the Endocrine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8377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Adrenal Gland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 pair of endocrine glands that sit just above the kidney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ecrete hormones (Epinephrine and Norepinephrine) that help arouse the body in times of stres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These hormones, when released, provide us with a surge of energy-the “fight-or-flight” response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Pituitary Gland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The endocrine system’s most influential gland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nfluenced by Hypothalamu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Regulates growth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ontrols other endocrine glands-“master gland”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And oth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cp:lastPrinted>2015-10-29T13:47:24Z</cp:lastPrinted>
  <dcterms:modified xsi:type="dcterms:W3CDTF">2015-10-29T18:37:13Z</dcterms:modified>
  <cp:revision>206</cp:revision>
  <dc:subject/>
  <dc:title>Chapter 8: Sensation and Perception</dc:title>
</cp:coreProperties>
</file>