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1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7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14.png" ContentType="image/png"/>
  <Override PartName="/ppt/media/image11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5BA-665B-4863-AE0B-287DF0F0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A99-A3B8-46CB-9A08-F467256B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AA0C1-17E9-42F1-99C8-8CA5442C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35D5B-3290-4461-939F-476A5506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C46EF-308A-45BF-AB12-D96281E7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0044E-E7A6-4973-9C94-4D7BEC42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928A5-D9B4-4005-BD8B-129AE4C3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83522-A351-48CC-8810-A1E17B3A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B3F4D-9D9D-4981-9B02-D380102C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B8D21-849B-48BB-A72D-CA291812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650C6-6DC3-4209-9CCD-4F480EE3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49465-6EE8-46F4-8BA6-24AC7030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4B5-8403-4E98-B867-B7C8D6C7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D76A3-1D66-46C2-B0D0-AC75E299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D2A09-3057-4525-8FB0-F105762D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961C1-50F9-4517-9CF7-94729D98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585C0-ECBC-4E5E-9348-B3AA9638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CF69B-B55A-4840-A4C9-42DF168B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FAA96-893A-448E-9804-3B1EA7F7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785B5-B7CB-42B5-893A-02FADB80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9F7BB-389E-4D5D-AD61-ECC17409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408ED-442A-4B1D-A1EF-09488A33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97852-F8F4-4F58-99FC-E0BC136C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E1A-4CEA-43E1-91D2-444C9DE2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024D3-144E-4F2E-913F-CFDA36A5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91526-C987-484D-BC26-886D4284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10E84-8B5F-4A9F-87D6-B5052D56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CFBBD-9AAC-4007-BD32-E6D4CF7F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5ABA6-FBA7-45F1-8158-BFC99BA1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977D7-6486-4579-A904-02465063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DB954-05FF-4F47-A6D8-1B92A29F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BB006-6C43-4FA8-8C49-E8F2400A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F6F73-F7B7-4A70-9C0E-771FED70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677E8-B73D-485C-A511-5403C413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5FCB-CDB7-4779-91ED-B572612F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6AF0C-69C6-4894-A958-0C3A7D52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253CC-2F07-48A5-A8DD-BFFFF538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45A96-BC83-4A13-862C-057F379D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C3256-2FEF-4AF5-9F7B-91E92239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933E0-627C-4377-A39C-54169D28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1D0B9-A7BC-46AE-9C71-4F266C9B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00BC8-AF08-4D47-886E-82C6B757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869FD-479F-4617-8F2F-4FF05300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10B01-6D06-40FE-98C6-A3E78133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1FC3D-9B8E-46C4-BB02-B2815584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A54F-44FA-445C-B1EF-27C7B866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D544D-AE2E-4E05-AF46-DE3CF531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9D0AE-1195-41B4-B400-9F2081CB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882DC-67D9-45EE-AB35-3DC19832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1E40D-B3E9-4F2D-999C-870D88B6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44CE6-6C42-48F9-B8A2-F6CE9501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CB46-0AAA-447E-9B2D-35D19CCA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6DDE-B062-4AE1-8C76-9BBEA5D2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E65D-6A80-4DD4-89C2-BF46076C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37EA-5BBD-479F-8E61-3CB63F3D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1388-4D51-42B7-986E-10028417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FAF-302F-4ECB-B27E-4AC7EE0A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5B14-738A-4BC7-90E9-B00075E3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E223-0597-46EA-BA4E-D52629F6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EBA8-0DFD-4C2D-A188-A02BFCD9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BC36-12F3-4D2C-ABD7-CA901A4D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ACDA-BE5E-4C56-894E-41107D85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2076E-6E42-49A2-8761-FBD13D22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BAA8B-504C-4751-8E76-D7D614BB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EEF1-65F7-4CE8-ADF0-1B7A8EB6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ED6EE-D5BD-432C-B32C-254C6525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091CD-9E18-47BF-81D6-48D2D516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6F8-9951-4056-819F-0A67C7E2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C3FC-C1FC-4E2D-A21E-E46A5421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B447B-72E1-4BDC-AE90-7B8F8ECC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9359-7AC8-4D2B-9013-DF7B53C9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245F-4C4F-41B7-8777-64F075E0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5C02E-51BE-492D-A025-0006D0B7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7F75F-BEBE-4C62-957E-03D258E7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DED25-08FE-4689-8EF0-9F10CE9F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8EFED-A23D-4B16-B8B8-C33B51AB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96E45-9052-49D1-8389-91904250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FC913-751F-4980-8D8E-13EEA696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3C7-1C2F-43C1-8775-92F5FDDB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80C72-3C6C-43FA-A898-89486DAD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65A49-E56C-4D38-85B5-B4112E51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0862B-A37C-4B69-B188-DCA4911E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325C3-F56D-4102-991E-C5F64979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D3D9C-2D98-4E95-9AAE-69583891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085A0-A174-4CB4-B4B3-1D0E782F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53CFA-C795-47F5-B909-B9942BDA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D1629-48EE-4837-A85A-1DEA39FC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383B3-5FB9-4BEB-92AA-E73AB54C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9600F-007E-406E-9A8A-CF8FA8A2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DC0-3764-4A13-BBBB-5A33D337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053AE-A016-4183-B076-4603BDD9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5A79A-60DE-41A2-9E48-ECC5060E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E6D20-D55F-4082-867B-CA619C9C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0BCA6-04E1-4A15-9EA8-183DFE8F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2276B-4BAE-4932-9215-476B8E55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42ABA-567B-41EB-9682-C08E6AC1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717F5-294F-49F2-95FE-9BF1D29B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933B3-8D11-4DA9-9D9E-DCDC93D9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19098-F7C9-4A11-9477-E3085DCD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4A33E-AF76-420B-9C35-612A4645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699-976A-4756-A414-7C7DC6EB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16376-01D1-4935-848B-B786FCD5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0FA89-CEC7-433E-B6A7-73E87CA0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668DC-FAF8-44C9-9CA4-05787029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0BFE8-8C5D-48FC-A52D-0E5C63DC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6240E-CC4C-4975-8E20-D9300497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75CE5-3330-456A-A84C-876C6E2C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E6069-120E-425F-A0DC-93DCAA05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13F23-B3F3-4FE0-B6F7-AFB25195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A3B10-3E15-440D-A47E-BF39189F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76231-2D8B-4BCD-BDC4-FA03A936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FEB-772C-4832-8B70-E3FD682A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D5172-BF02-4D08-9971-300EEDE7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7F373-9683-4F88-92D6-8EB63B4B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98DD5-F452-4B57-B479-225B071E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AD52D-FDA9-4C45-B8AE-EFDF132A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C7C24-5BEE-4B88-8EA5-99DBA0C5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7C902-FB44-414D-94D5-08911E1B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A9301-3225-4D26-9D4B-D155503F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27AC5-597B-4ECF-9DD7-5A35503A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BB5A2-4FF6-41ED-97BC-FBE67D4C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2679E-315C-4768-BC60-DD1974B7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C16-A62E-455A-BF5B-BD9C28E7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7E551-B9C5-42CB-BBDC-890662EE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EC013-1C2F-49C3-94CC-0F3AAB33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2A3E9-D965-41B5-82C8-66DFDC23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BD1D7-08C1-4D34-8F7A-07C3377A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4CCBF-9CE1-4C12-8FA5-E2A998AA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A4BD0-B560-4E71-A59F-480AF078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F2867-B9F7-4604-8A56-00D20EA5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3898F-FC34-46AB-B588-5D41B150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BC682-A704-4859-996E-07B95009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9C001-B5DA-41AE-8429-1EBF1536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34B-B878-4B12-ABDA-CE00F340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06BB3-8B35-458E-815B-1E6126AE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32BA8-EA85-4F60-B945-7D30AAEC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EB208-3F16-4DC1-9D5A-F3B8DA32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C65DE-CF81-4FD6-AE07-90BF70F9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35800-0580-4965-8CA8-E46ADCB9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99F36-C71A-44E2-8978-2D0FB4E7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52E57-8D1F-4C5C-8614-4EAE3A83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E3652-5E5B-4814-B2DE-8E5D42DE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16A0A-EFA7-4D18-AB6A-6BA4E28B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81C61-4500-427A-9929-F2FC87DB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30B3-600B-46A3-8A24-C1E89DF51BD4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3280-A86D-463F-A472-D7DB1A538B3A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9E1B-2D5F-46BA-8B23-07ECA6618E9F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6FEF-C04C-4261-B264-F86F5045EE1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5c4cb"/>
              </a:gs>
              <a:gs pos="100000">
                <a:srgbClr val="f0a7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CB42-2567-4A1C-8A5D-7A8A3C9C4FB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BBF9-57E8-4DA5-884D-CEE7BD7C315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fe193"/>
              </a:gs>
              <a:gs pos="100000">
                <a:srgbClr val="ffd2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BD53-0B77-49B6-9A71-2302E372261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A0ED-958C-470B-A7C9-F5F2469A83AF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DA86-9A56-4C0D-8FA6-492CF9ADFE5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948F-957F-4275-9E51-FE3E4683454B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e66c7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AB7F-A3DA-4658-9CCA-BD4E55AA793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f0ad0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0000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8D60-5FB8-4B53-A29A-AE1316431EE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ZXOp5PopIA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hyperlink" Target="http://www.youtube.com/watch?v=fPz6uvIbWZE" TargetMode="External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1680" y="-29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OBSERVATIO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9" name="Picture 3" descr="nerd_carrying_books_w_apple_hg_clr.gif"/>
          <p:cNvPicPr/>
          <p:nvPr/>
        </p:nvPicPr>
        <p:blipFill>
          <a:blip r:embed="rId1"/>
          <a:stretch/>
        </p:blipFill>
        <p:spPr>
          <a:xfrm>
            <a:off x="0" y="0"/>
            <a:ext cx="2381400" cy="37148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boy_playing_video_games_hg_clr.gif"/>
          <p:cNvPicPr/>
          <p:nvPr/>
        </p:nvPicPr>
        <p:blipFill>
          <a:blip r:embed="rId2"/>
          <a:stretch/>
        </p:blipFill>
        <p:spPr>
          <a:xfrm>
            <a:off x="3505320" y="1295280"/>
            <a:ext cx="2219040" cy="33339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female_music_teacher_and_student_hg_clr.gif"/>
          <p:cNvPicPr/>
          <p:nvPr/>
        </p:nvPicPr>
        <p:blipFill>
          <a:blip r:embed="rId3"/>
          <a:stretch/>
        </p:blipFill>
        <p:spPr>
          <a:xfrm>
            <a:off x="6172200" y="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cutie_learning_to_walk_hg_clr.gif"/>
          <p:cNvPicPr/>
          <p:nvPr/>
        </p:nvPicPr>
        <p:blipFill>
          <a:blip r:embed="rId4"/>
          <a:stretch/>
        </p:blipFill>
        <p:spPr>
          <a:xfrm>
            <a:off x="380880" y="3524400"/>
            <a:ext cx="2219400" cy="33336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8" descr="coach_cathy_with_softball_player_hg_clr.gif"/>
          <p:cNvPicPr/>
          <p:nvPr/>
        </p:nvPicPr>
        <p:blipFill>
          <a:blip r:embed="rId5"/>
          <a:stretch/>
        </p:blipFill>
        <p:spPr>
          <a:xfrm>
            <a:off x="6172200" y="3048120"/>
            <a:ext cx="2971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280" y="3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COGNITIVE LEAR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75960" y="10666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335880" indent="-2674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ultan was not the only animal to demonstrate cognitive learning. When rats were put into a maze with multiple routes to the reinforcer, the rats would repeatedly attempt the shortest rout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f their preferred route was blocked, they would chose the next shortest route to the reward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  <a:ea typeface="ＭＳ Ｐゴシック"/>
              </a:rPr>
              <a:t>Cognition Ma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A mental representation of a plac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ATENT LEARNING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6840" y="156960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oleman’s study, rats were allowed to wander around a maze, without reinforcements, for several hours. It was formerly thought that reinforcements were essential for learning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owever, the rats later were able to negotiate the maze for food more quickly than rats that had never seen the maze befor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Gill Sans MT"/>
                <a:ea typeface="ＭＳ Ｐゴシック"/>
              </a:rPr>
              <a:t>Latent learning:</a:t>
            </a:r>
            <a:r>
              <a:rPr b="0" lang="en-US" sz="2400" spc="-1" strike="noStrike">
                <a:solidFill>
                  <a:srgbClr val="0000ff"/>
                </a:solidFill>
                <a:latin typeface="Gill Sans MT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earning that occu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but is not apparent until the learn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as an incentive to demonstrate i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4" name="Picture 2" descr="http://t0.gstatic.com/images?q=tbn:ANd9GcSckazy1N-TCt2Ce5eq0v4-A-MWTcRMPG6YSOrvSxSAvHDW4yrn:www.appsychology.com/Book/Behavior/Latentpics/mousemaze.gif"/>
          <p:cNvPicPr/>
          <p:nvPr/>
        </p:nvPicPr>
        <p:blipFill>
          <a:blip r:embed="rId1"/>
          <a:stretch/>
        </p:blipFill>
        <p:spPr>
          <a:xfrm>
            <a:off x="6248520" y="3809880"/>
            <a:ext cx="2019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LEMAN’S EXPERIMEN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228600" y="914400"/>
            <a:ext cx="87631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dward Toleman studied latent learning by using rats and showing us that learning can occur but may not be immediately evid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leman had three groups of rats run through a maze on a series of tri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One group (Group A) got a reward each time it completed the maze, and the performance of these rats improved steadily over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Another group of rats (Group B) never got a reward, and their performance improved only slightly over the course of the experi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A third group of rats (Group C) was not rewarded during the first half of the experiment, but was given a reward during the second half of the experi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Not surprisingly, during the first half of the trials, Group C was very similar to the group that never received a reward (Group 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The interesting finding, however, was t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Group C's performance improved dramatically and suddenly once it began to be rewarded for finishing the maze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 In fact, Group C's performance almost caught up to Group A's performance even though Group A was rewarded through the whole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OLEMAN’S EXPERIMEN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75960" y="1295280"/>
            <a:ext cx="87627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4000"/>
          </a:bodyPr>
          <a:p>
            <a:pPr marL="253800" indent="-20196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leman came to the conclusion that these rats must have learned their way around the maze during the first half of the experimen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ir performance did not improve because they had no reason to run the maze quickly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leman believed that their dramatic improvement in maze-running time was due to latent learning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 suggested they made a mental representation, or cognitive map, of the maze during the first half of the experiment and displayed this knowledge once they were rewarde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0196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AP: CRASH COURSE_BOBO BEATDOW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52280" y="16002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98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98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98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98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ww.youtube.com/watch?v=128Ts5r9N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98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1" name="Picture 7" descr="http://media-cache-ec0.pinimg.com/236x/a8/3f/24/a83f246eff904a278c57492c0860ec17.jpg"/>
          <p:cNvPicPr/>
          <p:nvPr/>
        </p:nvPicPr>
        <p:blipFill>
          <a:blip r:embed="rId1"/>
          <a:stretch/>
        </p:blipFill>
        <p:spPr>
          <a:xfrm>
            <a:off x="5867280" y="3581280"/>
            <a:ext cx="2860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OBSERVATIONAL LEAR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You can think of observational learning as an extension of operant conditioning, in which we observe someone else getting rewarded but act as thought we had also received the rewar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  <a:ea typeface="ＭＳ Ｐゴシック"/>
              </a:rPr>
              <a:t>Observational learn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Learning in which new responses are acquired after other’s behavior and the consequences of their behavior are observe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BSERVATIONAL LEAR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bert Bandura and his BoBo Do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 learn through modeling behavior from othe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servational learning + Operant Conditioning =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ocial Learning The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8" name="Content Placeholder 8" descr="bobo_do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981080"/>
            <a:ext cx="3733920" cy="3141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0" descr="punch_doll_lg_clr.gif"/>
          <p:cNvPicPr/>
          <p:nvPr/>
        </p:nvPicPr>
        <p:blipFill>
          <a:blip r:embed="rId3"/>
          <a:stretch/>
        </p:blipFill>
        <p:spPr>
          <a:xfrm>
            <a:off x="7620120" y="152280"/>
            <a:ext cx="1272960" cy="1714680"/>
          </a:xfrm>
          <a:prstGeom prst="rect">
            <a:avLst/>
          </a:prstGeom>
          <a:ln w="0">
            <a:noFill/>
          </a:ln>
        </p:spPr>
      </p:pic>
      <p:sp>
        <p:nvSpPr>
          <p:cNvPr id="590" name="TextBox 11"/>
          <p:cNvSpPr/>
          <p:nvPr/>
        </p:nvSpPr>
        <p:spPr>
          <a:xfrm>
            <a:off x="4617720" y="525780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lick to see some observational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BSERVATIONAL LEARNING- BOBO DOLL 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17080" y="1527120"/>
            <a:ext cx="8588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fter observing adults seeming to enjoy punching, hitting and kicking an inflated doll called Bobo, the children later showed similar aggressive behavior toward the dol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ignificantly, these children were more aggressive than those in a control condition who did not witness the adult’s violenc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MEDIA AND VIOLEN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5228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oes violence on TV/movies/video games have an impact on the learning of childre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orrelation evidence from over 50 studies shows that observing violence is associated with violent behavi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 addition, experiment evidence shows that viewers of media violence show a reduction in emotional arousal and distress when they subsequently observe violent acts-a condition known as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sychic numbing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5" name="Picture 5" descr="http://graphics8.nytimes.com/packages/images/opinion/Letters/0127LETTERSvuillemin600.gif"/>
          <p:cNvPicPr/>
          <p:nvPr/>
        </p:nvPicPr>
        <p:blipFill>
          <a:blip r:embed="rId1"/>
          <a:stretch/>
        </p:blipFill>
        <p:spPr>
          <a:xfrm>
            <a:off x="5791320" y="4572000"/>
            <a:ext cx="3079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INSIGH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ometimes we have “flashes of insight” when dealing with a problem where we have been experiencing trial and erro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his type of learning is called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ognitive learn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, which is explained as changes in mental processes, rather than as changes in behavior alo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6324480" y="4114800"/>
            <a:ext cx="21877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WOLFGANG KOHLER AND SULTA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Kohler believed that chimps could solve complex problems by combining simpler behaviors they had previously learned separatel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Kohler taught Sultan the chimp how to stack boxes to obtain bananas that were over his head and how to use a stick to obtain something that was out of his reach. He taught Sultan these skills in separate situatio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ill Sans MT"/>
                <a:ea typeface="ＭＳ Ｐゴシック"/>
              </a:rPr>
              <a:t>SULTAN’S SITU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228240" y="13431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When Sultan was put in a situation where the bananas were still out of his reach after stacking the boxes, Sultan became frustrated. He threw the stick and kicked the wall before sitting down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uddenly, he jumped up and dragged the boxes and stick under the bananas. He then climbed up the boxes and whacked the fruit down with the stic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0ad00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his suggested to Kohler that the animals were not mindlessly using conditioned behavior, but were learning by reorganizing their perceptions of problem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7315200" y="5029200"/>
            <a:ext cx="1581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ULTAN THE CHIMP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05" name="Group 1"/>
          <p:cNvGrpSpPr/>
          <p:nvPr/>
        </p:nvGrpSpPr>
        <p:grpSpPr>
          <a:xfrm>
            <a:off x="-12600" y="858960"/>
            <a:ext cx="9144000" cy="4572000"/>
            <a:chOff x="-12600" y="858960"/>
            <a:chExt cx="9144000" cy="4572000"/>
          </a:xfrm>
        </p:grpSpPr>
        <p:pic>
          <p:nvPicPr>
            <p:cNvPr id="606" name="Picture 4" descr=""/>
            <p:cNvPicPr/>
            <p:nvPr/>
          </p:nvPicPr>
          <p:blipFill>
            <a:blip r:embed="rId1"/>
            <a:stretch/>
          </p:blipFill>
          <p:spPr>
            <a:xfrm>
              <a:off x="-12600" y="858960"/>
              <a:ext cx="292104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5" descr=""/>
            <p:cNvPicPr/>
            <p:nvPr/>
          </p:nvPicPr>
          <p:blipFill>
            <a:blip r:embed="rId2"/>
            <a:stretch/>
          </p:blipFill>
          <p:spPr>
            <a:xfrm>
              <a:off x="2376360" y="858960"/>
              <a:ext cx="269244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6" descr=""/>
            <p:cNvPicPr/>
            <p:nvPr/>
          </p:nvPicPr>
          <p:blipFill>
            <a:blip r:embed="rId3"/>
            <a:srcRect l="0" t="0" r="8584" b="0"/>
            <a:stretch/>
          </p:blipFill>
          <p:spPr>
            <a:xfrm>
              <a:off x="5070600" y="858960"/>
              <a:ext cx="4060800" cy="45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Title 1"/>
          <p:cNvSpPr/>
          <p:nvPr/>
        </p:nvSpPr>
        <p:spPr>
          <a:xfrm>
            <a:off x="51444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168bba"/>
                </a:solidFill>
                <a:uFillTx/>
                <a:latin typeface="Gill Sans MT"/>
                <a:ea typeface="Arial"/>
                <a:hlinkClick r:id="rId4"/>
              </a:rPr>
              <a:t>VIDEO OF INSIGHT LEA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37:28Z</dcterms:created>
  <dc:creator>Heath</dc:creator>
  <dc:description/>
  <dc:language>en-US</dc:language>
  <cp:lastModifiedBy>Debes John</cp:lastModifiedBy>
  <cp:lastPrinted>2016-11-23T13:59:22Z</cp:lastPrinted>
  <dcterms:modified xsi:type="dcterms:W3CDTF">2016-11-23T14:10:33Z</dcterms:modified>
  <cp:revision>272</cp:revision>
  <dc:subject/>
  <dc:title>Learning</dc:title>
</cp:coreProperties>
</file>