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1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7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4.png" ContentType="image/png"/>
  <Override PartName="/ppt/media/image11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170-5FE7-4AA0-A1D8-0CD249D1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819-7F5F-410C-BB59-D07F704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FFF78-03C8-420E-96FC-EE0A2920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408DE-EE1E-4571-966D-241DF12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2A4EE-1230-419F-85FF-DC3EDDA9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625B8-CB86-48F7-BB18-7F667AE6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6761-1BD2-456F-9C16-77365DC4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86A1F-FAD7-49ED-B10F-4822E35D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107D7-39E8-4C77-9B09-B5536BCF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D7826-3530-4E0C-9C0D-1786C2FF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36ACE-F0EC-4E82-905B-35ACE9E5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57041-1051-40B8-B8CF-C63345F8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A08-0762-4058-88D8-58D4C350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65C1E-BCB6-4CCD-A7AC-ADD8FB81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B9148-CB0E-4B76-9E49-4935AC19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1F395-BF30-4A4D-924E-3786DE2C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F5840-9D73-49B6-B401-D062C6B8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18EF1-92AD-49A9-9E92-73FA4017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C424A-D31D-4F46-858E-70761E0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D64C2-8FFD-429D-B4DC-0D1230A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9D51D-DEBF-4732-8F52-B30F489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A2413-4CC8-41CF-8F50-5D16DEE8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B4EB6-918D-4ADB-81AC-D156F921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31E-EDAE-408B-BA83-F26C6B65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1E8C1-CC4D-45C0-BE54-C0A49B92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57FEF-55BE-4694-B098-8C35EE64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EE874-3839-4769-8C98-03F64249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97BD9-292B-4D00-ACFE-360FB079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64A39-8172-4A01-A499-2C807B8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60724-210F-4ABA-A78D-D7D57B9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E1AF1-BFC1-4124-9B1E-4B11DA55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BE49-C0B1-4366-BEE1-FE3F7CD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EC7F8-EF74-4E31-B6F9-D9D71286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9CAD-EC99-4FE4-A5B9-56D6C64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E72-5828-4C08-B878-98360F5B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9C7B1-7DBF-46F8-B1B7-FF8423DD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8AE21-0834-4F50-9485-AFA0A8CC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CDA8E-6877-41E6-B8A1-46A25878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DFC3A-EB32-4481-A045-D37606D7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E9335-CA9C-4766-BCE8-96768AC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A16C4-9BF6-4500-9800-92FB0E2A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0629D-04FF-46F4-95AF-2744AB32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4EAFA-9548-48B2-8DB2-4EEDD9BC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17C3B-BAC8-427D-B756-584EEC9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5B60D-D174-4D51-9063-9EC34680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3586-6B36-43D5-99B5-0D2FFBB4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795A8-4CE9-4B60-8E9B-F8A56D5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DC3F0-12FA-4015-9DF3-A50F840A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24955-7B8B-4F0C-A6B1-F8D15B8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8C0DA-A483-4A5E-8849-B3997EB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F1FB4-08AE-4AF6-BE4F-7195F1B5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D036-EDCA-4B4A-9D46-6191E45C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F17F-3B10-458F-8930-0894C088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9A5D-5A11-4D5B-ACA3-1EB87D3E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5321-5A73-4E02-B846-A63D7949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A55-C717-47A0-A70C-1A931A1D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EE6-0582-4207-B1DF-D3DA2760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84C3-2799-448B-AEA3-6932FFA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6ACA-84D6-46A0-827F-7AC3F3E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582C-D5B1-4CF0-81A5-22DE9FD7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F441-E8F9-442E-922C-08E80CED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6161-8B5F-47D6-9DAD-8DDE6ADC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9A33-72EF-4B29-9AA2-99181BC1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0494-D72C-4542-805B-AAA6D682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E2E3-B1B3-4343-A021-625FC82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932CC-E6B9-4500-BD97-FB5CD935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3E16-EAB8-480B-BAC0-0D962C62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816-5D4A-437C-AAAA-D6D1047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967C-4034-43B1-A89C-D63C3B10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DDA6-0211-4836-8FE4-BE76327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AC26-6394-4B9D-874F-6BF74B1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5CEF-4385-4CFC-8F30-6E842843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248B-636D-486A-8543-01CA300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5DF6-BCCB-4BB3-A5FC-6A2D9224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947A-0A04-4BBB-8D5C-4756F969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42C1-E93E-4B74-B40C-C49E04E3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397E-370C-4481-A356-FC570C61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EB72-0572-4454-8520-D494C61F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978-7594-4166-A638-CFBC6098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1599-D52C-4B13-AD0E-FDA934AB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DBF3-D651-4C58-BE02-709EE9FB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DB20-B10E-44A7-9869-B95F28FF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7F9A-566A-411D-896D-005530E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5940-7922-41CD-ABC6-918C5E4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1408-F5A3-4403-8D03-E5F3B7C9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6206-8CB3-4437-9646-16C06676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D5A6-289B-4DC2-97AC-FC47DEC5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4E46-CE94-496A-AFC9-9DBD166D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6229F-04DE-41FE-ACCF-03BACCFE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D42-635D-435C-87DB-78ED774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8F7ED-0DA6-41ED-AB7F-552F5AAA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3C69-8F4B-4046-BEE2-7EC9F744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60056-582D-44D0-B135-58A3DF1E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78E9-E40E-4AD5-83E2-482E5C4F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0A74-012F-4A6E-938D-DA5D22E6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95451-E86A-49D6-8515-4B80BFF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056A-7D38-436A-B53B-ECFCAB4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132B-8589-4A96-9590-F8E4222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72D98-BCC4-4A54-98E3-1D6C417D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5D00-24AA-414A-B6CF-C8F49071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FBF-A721-48E8-AF03-CBD67B94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DBCB-168B-4F3A-8C16-D58CAE10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54A8E-40EE-4E16-8907-8F345098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8C7C-FE92-4B7E-941F-AFD0F97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EDE2-48D4-40C9-8B45-E2536C3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F06BA-0287-4166-A27E-4F5B7A2C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E442-0CD5-4D71-B4FA-AD0CBDCA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10D68-A593-44C9-AD30-1B8FC22A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F24F1-BF33-4516-A664-E083C6D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AF80E-41E8-4526-BADF-F7C3DD0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D408-8F87-4517-9FE1-9E01CFC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1FB-385F-4F75-9E65-D377450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D1CD6-41EB-440A-8287-65774F97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3322-469C-44D9-9AF7-E3F79DE3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B4C0-6454-4206-B58B-E910EB9C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FD32-8985-4DC5-874E-1FC44354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3DB1-42FF-43FC-9CD7-9D6FD21B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C354-253C-48BB-AD7C-B651152B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CA70-FD42-4150-8AA5-FF8B0085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6C41-5F54-4855-AA67-187A97F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119E7-75F7-44CC-9A27-9D56CADA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3715-8CBA-41AF-89D8-830836A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A88-9FF6-44DE-9F5C-410371C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2D8BE-D992-485C-B50E-F72AD57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FF72-8421-4489-834C-575D542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7201-76A8-44FF-999D-DBAE9D56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7FA5B-7243-4609-9BFB-FE987941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31DD-35BD-4690-B1DD-677F57E4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E2DA3-3970-412A-AE58-7AF58B67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E4E36-CBE0-4B10-9987-CD8B4386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8F58B-8CBF-456F-B93D-0E9C10D3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1D2C-8113-459C-B605-75A4104C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A61B1-C285-4749-9B4C-0D3EDA7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13E-BC4E-42D8-8A97-106DA30E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C871C-4BE2-461F-A79A-1481CC62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17E8-A908-4C99-9163-C28979F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C2495-EA6F-4AB0-9434-64C3E859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DA7FA-75D9-4843-B86C-C51AAE02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F610-DE05-4795-A2C2-DAE2266E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71C7-B8B3-4216-B688-35F3BAA1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7F1EF-B6C3-4AFA-B16A-2F76A49A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E7841-CFED-43BC-A11C-6CED3267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4DA74-C0F2-45E7-8DDC-2569FFE1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6CE0C-1CE1-4C19-803F-7AC67097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277C-93C3-4B2E-A277-59D7B58E8BD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EB3-3D41-495B-BB5E-122143BDF62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C9EA-BB10-41A1-8E7A-97709620658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C05D-09AF-44E9-85C2-B5345585D8D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5c4cb"/>
              </a:gs>
              <a:gs pos="100000">
                <a:srgbClr val="f0a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DC0B-5C3B-45EF-A16C-6806BF15AB0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26E7-09E8-45DA-AF2B-76E1BDAB5CF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fe193"/>
              </a:gs>
              <a:gs pos="100000">
                <a:srgbClr val="ffd2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9825-0217-4231-9930-0BBC2FC7926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4E5E-4000-4B06-8356-95FDECBBA8B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667D-DA5D-4742-BB72-4029815C8E7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DC2-B2A0-4D5D-AB4E-457662C65B8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DC66-7938-4A1A-B3BB-6A57C176C2C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236E-1C65-416B-86FF-C93963BC368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ZXOp5PopIA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youtube.com/watch?v=fPz6uvIbWZE" TargetMode="Externa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1680" y="-29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OBSERVATIO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9" name="Picture 3" descr="nerd_carrying_books_w_apple_hg_clr.gif"/>
          <p:cNvPicPr/>
          <p:nvPr/>
        </p:nvPicPr>
        <p:blipFill>
          <a:blip r:embed="rId1"/>
          <a:stretch/>
        </p:blipFill>
        <p:spPr>
          <a:xfrm>
            <a:off x="0" y="0"/>
            <a:ext cx="2381400" cy="37148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boy_playing_video_games_hg_clr.gif"/>
          <p:cNvPicPr/>
          <p:nvPr/>
        </p:nvPicPr>
        <p:blipFill>
          <a:blip r:embed="rId2"/>
          <a:stretch/>
        </p:blipFill>
        <p:spPr>
          <a:xfrm>
            <a:off x="3505320" y="1295280"/>
            <a:ext cx="2219040" cy="3333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female_music_teacher_and_student_hg_clr.gif"/>
          <p:cNvPicPr/>
          <p:nvPr/>
        </p:nvPicPr>
        <p:blipFill>
          <a:blip r:embed="rId3"/>
          <a:stretch/>
        </p:blipFill>
        <p:spPr>
          <a:xfrm>
            <a:off x="617220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cutie_learning_to_walk_hg_clr.gif"/>
          <p:cNvPicPr/>
          <p:nvPr/>
        </p:nvPicPr>
        <p:blipFill>
          <a:blip r:embed="rId4"/>
          <a:stretch/>
        </p:blipFill>
        <p:spPr>
          <a:xfrm>
            <a:off x="380880" y="3524400"/>
            <a:ext cx="2219400" cy="3333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coach_cathy_with_softball_player_hg_clr.gif"/>
          <p:cNvPicPr/>
          <p:nvPr/>
        </p:nvPicPr>
        <p:blipFill>
          <a:blip r:embed="rId5"/>
          <a:stretch/>
        </p:blipFill>
        <p:spPr>
          <a:xfrm>
            <a:off x="6172200" y="3048120"/>
            <a:ext cx="2971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COGNITIVE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5960" y="10666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ltan was not the only animal to demonstrate cognitive learning. When rats were put into a maze with multiple routes to the reinforcer, the rats would repeatedly attempt the shortest rou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f their preferred route was blocked, they would chose the next shortest route to the rewar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Cognition Ma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A mental representation of a plac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TENT LEARNING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15696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oleman’s study, rats were allowed to wander around a maze, without reinforcements, for several hours. It was formerly thought that reinforcements were essential for learnin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wever, the rats later were able to negotiate the maze for food more quickly than rats that had never seen the maze befor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Gill Sans MT"/>
                <a:ea typeface="ＭＳ Ｐゴシック"/>
              </a:rPr>
              <a:t>Latent learning: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arning that occu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ut is not apparent until the learn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as an incentive to demonstrate 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4" name="Picture 2" descr="http://t0.gstatic.com/images?q=tbn:ANd9GcSckazy1N-TCt2Ce5eq0v4-A-MWTcRMPG6YSOrvSxSAvHDW4yrn:www.appsychology.com/Book/Behavior/Latentpics/mousemaze.gif"/>
          <p:cNvPicPr/>
          <p:nvPr/>
        </p:nvPicPr>
        <p:blipFill>
          <a:blip r:embed="rId1"/>
          <a:stretch/>
        </p:blipFill>
        <p:spPr>
          <a:xfrm>
            <a:off x="6248520" y="38098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’S EXPERI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228600" y="914400"/>
            <a:ext cx="8763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dward Toleman studied latent learning by using rats and showing us that learning can occur but may not be immediately evid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leman had three groups of rats run through a maze on a series of tr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One group (Group A) got a reward each time it completed the maze, and the performance of these rats improved steadily over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nother group of rats (Group B) never got a reward, and their performance improved only slightly over the course of the experi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 third group of rats (Group C) was not rewarded during the first half of the experiment, but was given a reward during the second half of the experi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Not surprisingly, during the first half of the trials, Group C was very similar to the group that never received a reward (Group 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he interesting finding, however, was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Group C's performance improved dramatically and suddenly once it began to be rewarded for finishing the maze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In fact, Group C's performance almost caught up to Group A's performance even though Group A was rewarded through the whole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LEMAN’S EXPERI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75960" y="1295280"/>
            <a:ext cx="87627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4000"/>
          </a:bodyPr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 came to the conclusion that these rats must have learned their way around the maze during the first half of the experime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ir performance did not improve because they had no reason to run the maze quickl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 believed that their dramatic improvement in maze-running time was due to latent learnin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 suggested they made a mental representation, or cognitive map, of the maze during the first half of the experiment and displayed this knowledge once they were reward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AP: CRASH COURSE_BOBO BEATDOW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28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youtube.com/watch?v=128Ts5r9N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1" name="Picture 7" descr="http://media-cache-ec0.pinimg.com/236x/a8/3f/24/a83f246eff904a278c57492c0860ec17.jpg"/>
          <p:cNvPicPr/>
          <p:nvPr/>
        </p:nvPicPr>
        <p:blipFill>
          <a:blip r:embed="rId1"/>
          <a:stretch/>
        </p:blipFill>
        <p:spPr>
          <a:xfrm>
            <a:off x="5867280" y="3581280"/>
            <a:ext cx="286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OBSERVATIONAL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You can think of observational learning as an extension of operant conditioning, in which we observe someone else getting rewarded but act as thought we had also received the rewar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Observational learn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Learning in which new responses are acquired after other’s behavior and the consequences of their behavior are observ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ATIONAL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bert Bandura and his BoBo D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learn through modeling behavior from oth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ational learning + Operant Conditioning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ocial Learning The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8" name="Content Placeholder 8" descr="bobo_do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3141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punch_doll_lg_clr.gif"/>
          <p:cNvPicPr/>
          <p:nvPr/>
        </p:nvPicPr>
        <p:blipFill>
          <a:blip r:embed="rId3"/>
          <a:stretch/>
        </p:blipFill>
        <p:spPr>
          <a:xfrm>
            <a:off x="7620120" y="152280"/>
            <a:ext cx="1272960" cy="17146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1"/>
          <p:cNvSpPr/>
          <p:nvPr/>
        </p:nvSpPr>
        <p:spPr>
          <a:xfrm>
            <a:off x="4617720" y="525780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ck to see some observational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BSERVATIONAL LEARNING- BOBO DOLL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17080" y="1527120"/>
            <a:ext cx="8588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fter observing adults seeming to enjoy punching, hitting and kicking an inflated doll called Bobo, the children later showed similar aggressive behavior toward the dol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ignificantly, these children were more aggressive than those in a control condition who did not witness the adult’s violenc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MEDIA AND VIOLE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522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oes violence on TV/movies/video games have an impact on the learning of childre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rrelation evidence from over 50 studies shows that observing violence is associated with violent behavi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 addition, experiment evidence shows that viewers of media violence show a reduction in emotional arousal and distress when they subsequently observe violent acts-a condition known as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sychic numb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5" name="Picture 5" descr="http://graphics8.nytimes.com/packages/images/opinion/Letters/0127LETTERSvuillemin600.gif"/>
          <p:cNvPicPr/>
          <p:nvPr/>
        </p:nvPicPr>
        <p:blipFill>
          <a:blip r:embed="rId1"/>
          <a:stretch/>
        </p:blipFill>
        <p:spPr>
          <a:xfrm>
            <a:off x="5791320" y="4572000"/>
            <a:ext cx="307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INSIGH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ometimes we have “flashes of insight” when dealing with a problem where we have been experiencing trial and erro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is type of learning is called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gnitive learn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, which is explained as changes in mental processes, rather than as changes in behavior al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187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WOLFGANG KOHLER AND SULTA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ohler believed that chimps could solve complex problems by combining simpler behaviors they had previously learned separate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ohler taught Sultan the chimp how to stack boxes to obtain bananas that were over his head and how to use a stick to obtain something that was out of his reach. He taught Sultan these skills in separate situ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SULTAN’S SITU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28240" y="13431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When Sultan was put in a situation where the bananas were still out of his reach after stacking the boxes, Sultan became frustrated. He threw the stick and kicked the wall before sitting dow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ddenly, he jumped up and dragged the boxes and stick under the bananas. He then climbed up the boxes and whacked the fruit down with the stic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is suggested to Kohler that the animals were not mindlessly using conditioned behavior, but were learning by reorganizing their perceptions of probl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581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LTAN THE CHIMP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05" name="Group 1"/>
          <p:cNvGrpSpPr/>
          <p:nvPr/>
        </p:nvGrpSpPr>
        <p:grpSpPr>
          <a:xfrm>
            <a:off x="-12600" y="858960"/>
            <a:ext cx="9144000" cy="4572000"/>
            <a:chOff x="-12600" y="858960"/>
            <a:chExt cx="9144000" cy="4572000"/>
          </a:xfrm>
        </p:grpSpPr>
        <p:pic>
          <p:nvPicPr>
            <p:cNvPr id="606" name="Picture 4" descr=""/>
            <p:cNvPicPr/>
            <p:nvPr/>
          </p:nvPicPr>
          <p:blipFill>
            <a:blip r:embed="rId1"/>
            <a:stretch/>
          </p:blipFill>
          <p:spPr>
            <a:xfrm>
              <a:off x="-12600" y="858960"/>
              <a:ext cx="292104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" descr=""/>
            <p:cNvPicPr/>
            <p:nvPr/>
          </p:nvPicPr>
          <p:blipFill>
            <a:blip r:embed="rId2"/>
            <a:stretch/>
          </p:blipFill>
          <p:spPr>
            <a:xfrm>
              <a:off x="2376360" y="858960"/>
              <a:ext cx="269244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6" descr=""/>
            <p:cNvPicPr/>
            <p:nvPr/>
          </p:nvPicPr>
          <p:blipFill>
            <a:blip r:embed="rId3"/>
            <a:srcRect l="0" t="0" r="8584" b="0"/>
            <a:stretch/>
          </p:blipFill>
          <p:spPr>
            <a:xfrm>
              <a:off x="5070600" y="858960"/>
              <a:ext cx="406080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Title 1"/>
          <p:cNvSpPr/>
          <p:nvPr/>
        </p:nvSpPr>
        <p:spPr>
          <a:xfrm>
            <a:off x="5144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68bba"/>
                </a:solidFill>
                <a:uFillTx/>
                <a:latin typeface="Gill Sans MT"/>
                <a:ea typeface="Arial"/>
                <a:hlinkClick r:id="rId4"/>
              </a:rPr>
              <a:t>VIDEO OF INSIGHT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37:28Z</dcterms:created>
  <dc:creator>Heath</dc:creator>
  <dc:description/>
  <dc:language>en-US</dc:language>
  <cp:lastModifiedBy>Debes John</cp:lastModifiedBy>
  <cp:lastPrinted>2016-11-23T13:59:22Z</cp:lastPrinted>
  <dcterms:modified xsi:type="dcterms:W3CDTF">2016-11-23T14:10:33Z</dcterms:modified>
  <cp:revision>272</cp:revision>
  <dc:subject/>
  <dc:title>Learning</dc:title>
</cp:coreProperties>
</file>