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9.gif" ContentType="image/gif"/>
  <Override PartName="/ppt/media/image8.gif" ContentType="image/gif"/>
  <Override PartName="/ppt/media/image18.jpeg" ContentType="image/jpeg"/>
  <Override PartName="/ppt/media/image12.gif" ContentType="image/gif"/>
  <Override PartName="/ppt/media/image15.png" ContentType="image/png"/>
  <Override PartName="/ppt/media/image19.jpeg" ContentType="image/jpeg"/>
  <Override PartName="/ppt/media/image1.jpeg" ContentType="image/jpeg"/>
  <Override PartName="/ppt/media/image17.png" ContentType="image/png"/>
  <Override PartName="/ppt/media/image16.png" ContentType="image/png"/>
  <Override PartName="/ppt/media/image7.gif" ContentType="image/gif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media/image6.gif" ContentType="image/gif"/>
  <Override PartName="/ppt/media/image10.jpeg" ContentType="image/jpeg"/>
  <Override PartName="/ppt/media/image14.png" ContentType="image/png"/>
  <Override PartName="/ppt/media/image11.gif" ContentType="image/gi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C17B-5180-4085-86DC-0B2D7C656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6AD4-C4DA-4003-AE52-F3D6996F9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D7C618-0082-4389-80F4-037C7FC46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546E8D-7566-4FFA-B5AC-E1EE9B251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B6D242-592F-4C10-AA20-0F39392BB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891E99-2F0A-4FB9-A97D-386F734E7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D8CD2E-CE7A-482E-8AFD-3897ABEAE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4968AF-A079-4CEF-91EB-6F6440AF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E0BDF5-2B17-4DBE-A8B3-C640A9BA2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BEF9A1-62FB-49F7-888F-A2AC98D46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0A5475-3A10-4038-A0A7-92E5BD7BA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D45AA4-89B6-4DED-AC44-8816826F8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37E9-FE81-4F2B-82D3-8B510EECF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C5C16E-058A-4D08-84A5-BF15A1A36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FF419B-B96C-4605-9234-884F2717F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468DC3-0CB0-4AFD-BA21-0BAC44D87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37CEEB-87CB-4823-B4F7-D4CEEB231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E496D2-79D9-44BF-91ED-7276FAB22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D1C80E-A4D4-4299-BD31-717B68698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14F1BE-D853-4E4E-9985-A2097F3A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302ADB-95A7-4C97-B75B-975A07D0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B7C01F-6AC4-4712-8B5D-31A1E3537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9AECB4-4954-4F43-A284-48AB477E8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D405-5561-46C8-B125-9ABC3831F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D57E9A-E664-4C56-82B8-EC18FFA92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33F6DA-9570-4B79-922C-4E6AFA9D5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65C023-08B1-41B1-975D-172523056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7A1F91-A770-4B79-9EA8-6B48566C8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E280D8-328F-4246-9D02-D2CF9BBA6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586A7D-6EBA-4BE6-BC0E-BB2FAC380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4974EE-A1BF-4133-8F01-038C08E2A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D1C8AD-CD41-4FB8-BF8B-BD77D57D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3EE52A-37D4-4546-A4A3-89CDB8B6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B073A9-8151-4BD3-951F-A766E0687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5BB59-2E54-4C5D-BD03-7A4C0FA44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D9B4BC-FDE7-4601-8EC1-EFB9D98CC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D26842-EFAD-488A-99A8-FE4364B8A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BDD8DD-1632-44E3-80A2-4A0C650EB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8B0514-10FF-4BB9-BAF7-41D82361C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547672-8E0A-439A-9385-C65D24C1A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CD01BF-0FC4-4727-ACA2-F336ABA1D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97E147-8B89-4977-A4E2-009053DF5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85D833-FE73-4963-B90F-6C09FCBB1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6BE6B3-4581-43AB-A765-2461B72F5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3F38D1-DE5C-4791-8834-1BBE36C3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6A562-ED16-44B6-A557-6BB1E80AE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139038-79E1-40DD-8E5D-183215F7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598B69-8152-4848-B3AE-54810AB2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73E16E-C094-43C8-A575-242F07C57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48C469-BDD7-476B-B148-C44F7AAC7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CD21CC-832F-4FA7-A409-807B8CD9A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694CA-645D-4EAB-B2A9-81B17BB1A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608E3-1ED2-447E-AFB6-D3EDBA8D5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BDBC3-0650-41AA-B401-363ACBEC4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0B6FC-1C6E-42A7-862B-A1191FE15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45627-21F7-4D0D-A6CD-3096FF27B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FBA2-6AC9-4DFA-A212-D27EB7A6D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3BACB-C375-4242-A930-65F3C6AF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5F2E2-700E-4B78-921F-81F0E0506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8F889-E863-43C1-A8E9-2F83398CF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03DB9-B847-4BEB-8BE2-3CD40C107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26A4F-6A8D-42B5-8FE5-6082FFF62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0A8E8-6565-4BF7-B5E4-AECD62742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E0CDF-B9C9-49D0-85A6-30A67B5B4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B99DE-CF18-4756-92D7-992FB0072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A2C5E-8CAC-4B18-8381-1C1D9F61C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00079-7F9D-4590-BB48-25A4A16DE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D86F-C3F1-4A3B-B431-B7F6354D9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EE4BE-70EA-49D8-AC84-D542AB0BF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60DF1-5010-4A9B-A8F8-02F22C284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C117A-5614-4411-AEE1-B9DBBE6C0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B77FF-8DAF-4CC9-9CFE-F71047082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639FC-E343-425B-8F58-2B717BEE1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05AA2-DCF5-47D5-835F-E4C033DE0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E9C60-3C7D-4972-B331-4BEC5BF81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BD254-F5BF-4354-B22B-F16AACACF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F42D9-7DFD-4DD2-B85B-BC29552E1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143F4-8D0F-4366-B82F-DFE3063BF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3175-E41F-4352-A828-9C93F9495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96400-B70F-45A0-9EB7-337DC541D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67C0E-9BA6-4CE9-AD6F-242339D97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22794-8FA6-4FDA-96B0-BAA1D1F14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EFBEE-3379-4C6E-9DCA-DF40B321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B0184-ABD1-4D51-9B9C-273E479C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FD707-35F1-4091-9104-885462F12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F391C-E5CB-4B35-A6BF-0A78B57D2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101E0-4181-49BD-8F5B-19CBC4F4C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C4996-E3BD-4C0D-B28E-9BC508D31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2E11C-B83C-4A2B-9A5E-83C024BC8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06C4-C03A-4E47-8590-302A5F723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CBC246-3F28-420F-BAE5-7A96B7E36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54A560-6202-4B6B-B32B-CEDD0ADEA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83357-3E15-40B6-9951-A6257B4F7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9031A-F008-403B-AFEC-4AFA40A2F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5F98BE-07BE-4E43-923A-97CAAA298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866BD4-C478-4471-A790-0926F55B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74286A-F91C-445E-B913-F6B16D180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4D72A8-D459-407B-BA89-7C3B6F55A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F76D31-783C-4DC1-9B78-17984056B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20E079-B62E-4C87-BE25-FCA7EB6A4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5EE6-A074-4C3E-8E40-AD81CF4F4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6CB79-597D-4D43-995F-867182615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6A4BF9-0F44-4F45-A28B-0DEEFFD3C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60CADF-3FFD-4D00-8FA0-52B5D4BB7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CB17DB-1B83-49DF-8F6F-0CC0ACB6F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BB203F-1D8F-4C0B-BB28-F8248B4FD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F8A57C-4994-4C68-92AA-DA0D0018F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EAB431-258A-4960-95A0-43289D5EF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E2E43B-FAEC-4E81-AE01-4864F34F4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81CF74-FE34-4A2E-AB08-1C3ADC4EB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DD071F-A388-4FD9-AB8A-EB1EC034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07A9-F3B4-4829-AF97-CA3E8ED76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1C20E1-ECF5-486A-9204-2FFD11BB5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03D03-89B3-4DA6-A7F1-5EA8AC10B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C6E8BD-F288-4053-8281-346B0DE9D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ECCA98-DFD9-4A79-A6B7-B87CF9363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7D648F-C220-4B8E-B4AE-DD12DC9C8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B75320-CD68-43AD-8C04-771BABDB5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05AA0D-D088-4BF9-82B7-36CC72E5E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7F84E4-0689-4864-8237-CFE0D69FA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D15199-E369-4B20-BDAA-E219EA272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1ED5A8-565C-42B9-858D-505F4ED16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D167-E6E5-416D-A998-46358D61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A6C956-8F5E-4921-8001-815EC443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546749-9DF4-4EDA-BE0F-60A2D7DD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638F05-05C8-41D2-A99B-1C477C62D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FF3787-8320-48E4-BC61-9571C25D1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6F147F-79B3-45E6-B8F1-223DE6F39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DDED6B-F0E0-4BF3-B925-167692E94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BAB6B4-01B9-46AB-ABB8-CB2708C2C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4B0AA3-7CBB-4B0C-953C-9E0A4B1AC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152FC6-F67B-4B09-BF3A-F9FDB9572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05A9F0-DEFF-4719-8E3F-45EF3852C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D9EC-C6D8-4B0A-A7B8-715811CE3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E6382D-89C5-4748-AB0D-CCAC5731E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19C8E3-C2CB-4678-B8A5-161385C0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226E2E-D103-49E0-857F-03144D1E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2BA620-99E9-4DA9-BC69-9A7EFAE0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84614B-2440-412E-AB66-AC77B2009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7DFBE0-A116-413C-BC7B-F7504E4D1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CF1E5F-4A44-40FB-9D5A-E57B1AF2A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C2CE44-5C3A-408B-89EA-2166D5DBC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D895E4-746D-4ADD-A576-FE3AC2779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613E60-5EB8-42F0-8706-8501638C8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0000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0000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Gill Sans MT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FD39F-0270-47BC-A7A7-F93AD90E3161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35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Freeform 8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f0ad00"/>
              </a:gs>
              <a:gs pos="100000">
                <a:srgbClr val="f0ad00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Freeform 9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e66c7d"/>
              </a:gs>
              <a:gs pos="100000">
                <a:srgbClr val="e66c7d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Freeform 10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11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0000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0000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28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Gill Sans MT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9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0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89473-A1CA-44D8-82AD-D103D8366E79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83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Freeform 8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0ad00"/>
              </a:gs>
              <a:gs pos="100000">
                <a:srgbClr val="f0ad00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Freeform 9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e66c7d"/>
              </a:gs>
              <a:gs pos="100000">
                <a:srgbClr val="e66c7d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Freeform 10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Freeform 11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0000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0000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31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Gill Sans MT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32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33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ACE7D-625A-4551-9503-A9102EE52600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31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" name="Freeform 8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0ad00"/>
              </a:gs>
              <a:gs pos="100000">
                <a:srgbClr val="f0ad00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Freeform 9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e66c7d"/>
              </a:gs>
              <a:gs pos="100000">
                <a:srgbClr val="e66c7d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Freeform 10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reeform 11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0000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0000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34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Gill Sans MT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35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36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05DF6-0A22-4248-B7B1-188E0DA80681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Freeform 8"/>
          <p:cNvSpPr/>
          <p:nvPr/>
        </p:nvSpPr>
        <p:spPr>
          <a:xfrm>
            <a:off x="0" y="5292720"/>
            <a:ext cx="9144000" cy="1442880"/>
          </a:xfrm>
          <a:custGeom>
            <a:avLst/>
            <a:gdLst/>
            <a:ahLst/>
            <a:rect l="l" t="t" r="r" b="b"/>
            <a:pathLst>
              <a:path w="9089556" h="1443038">
                <a:moveTo>
                  <a:pt x="57" y="7145"/>
                </a:moveTo>
                <a:lnTo>
                  <a:pt x="9089556" y="0"/>
                </a:lnTo>
                <a:cubicBezTo>
                  <a:pt x="9087979" y="82550"/>
                  <a:pt x="9088768" y="172243"/>
                  <a:pt x="9087191" y="254793"/>
                </a:cubicBezTo>
                <a:lnTo>
                  <a:pt x="6260746" y="1443038"/>
                </a:lnTo>
                <a:lnTo>
                  <a:pt x="0" y="366713"/>
                </a:lnTo>
                <a:lnTo>
                  <a:pt x="57" y="7145"/>
                </a:lnTo>
                <a:close/>
              </a:path>
            </a:pathLst>
          </a:custGeom>
          <a:gradFill rotWithShape="0">
            <a:gsLst>
              <a:gs pos="0">
                <a:srgbClr val="f0ad00"/>
              </a:gs>
              <a:gs pos="100000">
                <a:srgbClr val="f0ad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Freeform 9"/>
          <p:cNvGrpSpPr/>
          <p:nvPr/>
        </p:nvGrpSpPr>
        <p:grpSpPr>
          <a:xfrm>
            <a:off x="0" y="5291280"/>
            <a:ext cx="9144000" cy="1444320"/>
            <a:chOff x="0" y="5291280"/>
            <a:chExt cx="9144000" cy="1444320"/>
          </a:xfrm>
        </p:grpSpPr>
        <p:pic>
          <p:nvPicPr>
            <p:cNvPr id="49" name="Freeform 9" descr=""/>
            <p:cNvPicPr/>
            <p:nvPr/>
          </p:nvPicPr>
          <p:blipFill>
            <a:blip r:embed="rId4"/>
            <a:stretch/>
          </p:blipFill>
          <p:spPr>
            <a:xfrm>
              <a:off x="0" y="5291280"/>
              <a:ext cx="9144000" cy="14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0" y="5292720"/>
              <a:ext cx="9144000" cy="14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Freeform 10"/>
          <p:cNvSpPr/>
          <p:nvPr/>
        </p:nvSpPr>
        <p:spPr>
          <a:xfrm>
            <a:off x="0" y="5546880"/>
            <a:ext cx="9147240" cy="1312560"/>
          </a:xfrm>
          <a:custGeom>
            <a:avLst/>
            <a:gdLst/>
            <a:ahLst/>
            <a:rect l="l" t="t" r="r" b="b"/>
            <a:pathLst>
              <a:path w="9117860" h="1314449">
                <a:moveTo>
                  <a:pt x="0" y="130968"/>
                </a:moveTo>
                <a:lnTo>
                  <a:pt x="6305550" y="1197768"/>
                </a:lnTo>
                <a:lnTo>
                  <a:pt x="9113111" y="0"/>
                </a:lnTo>
                <a:lnTo>
                  <a:pt x="9117860" y="1314449"/>
                </a:lnTo>
                <a:lnTo>
                  <a:pt x="0" y="1312068"/>
                </a:lnTo>
                <a:lnTo>
                  <a:pt x="0" y="130968"/>
                </a:lnTo>
                <a:close/>
              </a:path>
            </a:pathLst>
          </a:custGeom>
          <a:gradFill rotWithShape="0">
            <a:gsLst>
              <a:gs pos="0">
                <a:srgbClr val="f5c4cb"/>
              </a:gs>
              <a:gs pos="100000">
                <a:srgbClr val="f0a7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0" y="526248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2"/>
          <p:cNvSpPr/>
          <p:nvPr/>
        </p:nvSpPr>
        <p:spPr>
          <a:xfrm>
            <a:off x="0" y="5502240"/>
            <a:ext cx="9144000" cy="1271520"/>
          </a:xfrm>
          <a:custGeom>
            <a:avLst/>
            <a:gdLst/>
            <a:ahLst/>
            <a:rect l="l" t="t" r="r" b="b"/>
            <a:pathLst>
              <a:path w="9144066" h="1271150">
                <a:moveTo>
                  <a:pt x="2252" y="121494"/>
                </a:moveTo>
                <a:lnTo>
                  <a:pt x="6307948" y="1194321"/>
                </a:lnTo>
                <a:lnTo>
                  <a:pt x="9144066" y="0"/>
                </a:lnTo>
                <a:cubicBezTo>
                  <a:pt x="9143272" y="26405"/>
                  <a:pt x="9142477" y="52809"/>
                  <a:pt x="9141683" y="79214"/>
                </a:cubicBezTo>
                <a:lnTo>
                  <a:pt x="6315286" y="1271150"/>
                </a:lnTo>
                <a:lnTo>
                  <a:pt x="65" y="200706"/>
                </a:lnTo>
                <a:cubicBezTo>
                  <a:pt x="0" y="172714"/>
                  <a:pt x="2317" y="149486"/>
                  <a:pt x="2252" y="12149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0000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0000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Gill Sans MT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42F6A-2DC7-45A9-A80F-8B7B3772AD88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96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Freeform 8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0ad00"/>
              </a:gs>
              <a:gs pos="100000">
                <a:srgbClr val="f0ad00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9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e66c7d"/>
              </a:gs>
              <a:gs pos="100000">
                <a:srgbClr val="e66c7d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10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1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0000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0000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Gill Sans MT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48850-3464-4A7B-A46E-899DB4417703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4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Freeform 8"/>
          <p:cNvSpPr/>
          <p:nvPr/>
        </p:nvSpPr>
        <p:spPr>
          <a:xfrm>
            <a:off x="0" y="5546880"/>
            <a:ext cx="9147240" cy="1312560"/>
          </a:xfrm>
          <a:custGeom>
            <a:avLst/>
            <a:gdLst/>
            <a:ahLst/>
            <a:rect l="l" t="t" r="r" b="b"/>
            <a:pathLst>
              <a:path w="9117860" h="1314449">
                <a:moveTo>
                  <a:pt x="0" y="130968"/>
                </a:moveTo>
                <a:lnTo>
                  <a:pt x="6305550" y="1197768"/>
                </a:lnTo>
                <a:lnTo>
                  <a:pt x="9113111" y="0"/>
                </a:lnTo>
                <a:lnTo>
                  <a:pt x="9117860" y="1314449"/>
                </a:lnTo>
                <a:lnTo>
                  <a:pt x="0" y="1312068"/>
                </a:lnTo>
                <a:lnTo>
                  <a:pt x="0" y="130968"/>
                </a:lnTo>
                <a:close/>
              </a:path>
            </a:pathLst>
          </a:custGeom>
          <a:gradFill rotWithShape="0">
            <a:gsLst>
              <a:gs pos="0">
                <a:srgbClr val="ffe193"/>
              </a:gs>
              <a:gs pos="100000">
                <a:srgbClr val="ffd25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9"/>
          <p:cNvSpPr/>
          <p:nvPr/>
        </p:nvSpPr>
        <p:spPr>
          <a:xfrm>
            <a:off x="0" y="5292720"/>
            <a:ext cx="9144000" cy="1442880"/>
          </a:xfrm>
          <a:custGeom>
            <a:avLst/>
            <a:gdLst/>
            <a:ahLst/>
            <a:rect l="l" t="t" r="r" b="b"/>
            <a:pathLst>
              <a:path w="9089556" h="1443038">
                <a:moveTo>
                  <a:pt x="57" y="7145"/>
                </a:moveTo>
                <a:lnTo>
                  <a:pt x="9089556" y="0"/>
                </a:lnTo>
                <a:cubicBezTo>
                  <a:pt x="9087979" y="82550"/>
                  <a:pt x="9088768" y="172243"/>
                  <a:pt x="9087191" y="254793"/>
                </a:cubicBezTo>
                <a:lnTo>
                  <a:pt x="6260746" y="1443038"/>
                </a:lnTo>
                <a:lnTo>
                  <a:pt x="0" y="366713"/>
                </a:lnTo>
                <a:lnTo>
                  <a:pt x="57" y="7145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Freeform 10"/>
          <p:cNvGrpSpPr/>
          <p:nvPr/>
        </p:nvGrpSpPr>
        <p:grpSpPr>
          <a:xfrm>
            <a:off x="0" y="5291280"/>
            <a:ext cx="9144000" cy="1444320"/>
            <a:chOff x="0" y="5291280"/>
            <a:chExt cx="9144000" cy="1444320"/>
          </a:xfrm>
        </p:grpSpPr>
        <p:pic>
          <p:nvPicPr>
            <p:cNvPr id="149" name="Freeform 10" descr=""/>
            <p:cNvPicPr/>
            <p:nvPr/>
          </p:nvPicPr>
          <p:blipFill>
            <a:blip r:embed="rId4"/>
            <a:stretch/>
          </p:blipFill>
          <p:spPr>
            <a:xfrm>
              <a:off x="0" y="5291280"/>
              <a:ext cx="9144000" cy="14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0" y="5292720"/>
              <a:ext cx="9144000" cy="14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Rectangle 11"/>
          <p:cNvSpPr/>
          <p:nvPr/>
        </p:nvSpPr>
        <p:spPr>
          <a:xfrm>
            <a:off x="0" y="526248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2"/>
          <p:cNvSpPr/>
          <p:nvPr/>
        </p:nvSpPr>
        <p:spPr>
          <a:xfrm>
            <a:off x="0" y="5502240"/>
            <a:ext cx="9144000" cy="1271520"/>
          </a:xfrm>
          <a:custGeom>
            <a:avLst/>
            <a:gdLst/>
            <a:ahLst/>
            <a:rect l="l" t="t" r="r" b="b"/>
            <a:pathLst>
              <a:path w="9144066" h="1271150">
                <a:moveTo>
                  <a:pt x="2252" y="121494"/>
                </a:moveTo>
                <a:lnTo>
                  <a:pt x="6307948" y="1194321"/>
                </a:lnTo>
                <a:lnTo>
                  <a:pt x="9144066" y="0"/>
                </a:lnTo>
                <a:cubicBezTo>
                  <a:pt x="9143272" y="26405"/>
                  <a:pt x="9142477" y="52809"/>
                  <a:pt x="9141683" y="79214"/>
                </a:cubicBezTo>
                <a:lnTo>
                  <a:pt x="6315286" y="1271150"/>
                </a:lnTo>
                <a:lnTo>
                  <a:pt x="65" y="200706"/>
                </a:lnTo>
                <a:cubicBezTo>
                  <a:pt x="0" y="172714"/>
                  <a:pt x="2317" y="149486"/>
                  <a:pt x="2252" y="12149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0000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0000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Gill Sans MT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DABAD-E6BB-479B-8167-03CD6B1B0E38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95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Freeform 8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e66c7d"/>
              </a:gs>
              <a:gs pos="100000">
                <a:srgbClr val="e66c7d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9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0ad00"/>
              </a:gs>
              <a:gs pos="100000">
                <a:srgbClr val="f0ad00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10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11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0000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0000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Gill Sans MT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C8CDA-E5B3-4BE3-AB79-B662B4518A3C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43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Freeform 8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f0ad00"/>
              </a:gs>
              <a:gs pos="100000">
                <a:srgbClr val="f0ad00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9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e66c7d"/>
              </a:gs>
              <a:gs pos="100000">
                <a:srgbClr val="e66c7d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10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11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0000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0000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6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Gill Sans MT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7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8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81D5C-27F6-46F3-9300-2ED324352AA1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91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Freeform 8"/>
          <p:cNvSpPr/>
          <p:nvPr/>
        </p:nvSpPr>
        <p:spPr>
          <a:xfrm>
            <a:off x="0" y="5010120"/>
            <a:ext cx="7439040" cy="1571760"/>
          </a:xfrm>
          <a:custGeom>
            <a:avLst/>
            <a:gdLst/>
            <a:ahLst/>
            <a:rect l="l" t="t" r="r" b="b"/>
            <a:pathLst>
              <a:path w="7415827" h="1571625">
                <a:moveTo>
                  <a:pt x="0" y="0"/>
                </a:moveTo>
                <a:lnTo>
                  <a:pt x="7415827" y="866775"/>
                </a:lnTo>
                <a:lnTo>
                  <a:pt x="0" y="157162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reeform 9"/>
          <p:cNvSpPr/>
          <p:nvPr/>
        </p:nvSpPr>
        <p:spPr>
          <a:xfrm>
            <a:off x="0" y="5730840"/>
            <a:ext cx="9147240" cy="1127160"/>
          </a:xfrm>
          <a:custGeom>
            <a:avLst/>
            <a:gdLst/>
            <a:ahLst/>
            <a:rect l="l" t="t" r="r" b="b"/>
            <a:pathLst>
              <a:path w="9128161" h="1068407">
                <a:moveTo>
                  <a:pt x="20" y="818007"/>
                </a:moveTo>
                <a:lnTo>
                  <a:pt x="9124990" y="0"/>
                </a:lnTo>
                <a:cubicBezTo>
                  <a:pt x="9124198" y="354630"/>
                  <a:pt x="9128161" y="713777"/>
                  <a:pt x="9127369" y="1068407"/>
                </a:cubicBezTo>
                <a:lnTo>
                  <a:pt x="0" y="1065657"/>
                </a:lnTo>
                <a:cubicBezTo>
                  <a:pt x="7" y="983107"/>
                  <a:pt x="13" y="900557"/>
                  <a:pt x="20" y="818007"/>
                </a:cubicBezTo>
                <a:close/>
              </a:path>
            </a:pathLst>
          </a:custGeom>
          <a:gradFill rotWithShape="0">
            <a:gsLst>
              <a:gs pos="0">
                <a:srgbClr val="f0ad00"/>
              </a:gs>
              <a:gs pos="100000">
                <a:srgbClr val="f0ad00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reeform 10"/>
          <p:cNvSpPr/>
          <p:nvPr/>
        </p:nvSpPr>
        <p:spPr>
          <a:xfrm>
            <a:off x="0" y="4973760"/>
            <a:ext cx="7675560" cy="928440"/>
          </a:xfrm>
          <a:custGeom>
            <a:avLst/>
            <a:gdLst/>
            <a:ahLst/>
            <a:rect l="l" t="t" r="r" b="b"/>
            <a:pathLst>
              <a:path w="7674867" h="928299">
                <a:moveTo>
                  <a:pt x="194" y="0"/>
                </a:moveTo>
                <a:cubicBezTo>
                  <a:pt x="129" y="24947"/>
                  <a:pt x="65" y="49893"/>
                  <a:pt x="0" y="74840"/>
                </a:cubicBezTo>
                <a:lnTo>
                  <a:pt x="7298289" y="928299"/>
                </a:lnTo>
                <a:lnTo>
                  <a:pt x="7674867" y="897731"/>
                </a:lnTo>
                <a:lnTo>
                  <a:pt x="19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11"/>
          <p:cNvSpPr/>
          <p:nvPr/>
        </p:nvSpPr>
        <p:spPr>
          <a:xfrm>
            <a:off x="-3240" y="5695920"/>
            <a:ext cx="9147240" cy="930240"/>
          </a:xfrm>
          <a:custGeom>
            <a:avLst/>
            <a:gdLst/>
            <a:ahLst/>
            <a:rect l="l" t="t" r="r" b="b"/>
            <a:pathLst>
              <a:path w="9155715" h="930294">
                <a:moveTo>
                  <a:pt x="9155715" y="0"/>
                </a:moveTo>
                <a:lnTo>
                  <a:pt x="0" y="855842"/>
                </a:lnTo>
                <a:cubicBezTo>
                  <a:pt x="795" y="884628"/>
                  <a:pt x="1589" y="901508"/>
                  <a:pt x="2384" y="930294"/>
                </a:cubicBezTo>
                <a:lnTo>
                  <a:pt x="9155715" y="74452"/>
                </a:lnTo>
                <a:lnTo>
                  <a:pt x="915571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0000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0000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19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Gill Sans MT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20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1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B5999-42AD-4C55-BA20-F99B9DD2297C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39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Freeform 8"/>
          <p:cNvSpPr/>
          <p:nvPr/>
        </p:nvSpPr>
        <p:spPr>
          <a:xfrm>
            <a:off x="0" y="5730840"/>
            <a:ext cx="9147240" cy="1127160"/>
          </a:xfrm>
          <a:custGeom>
            <a:avLst/>
            <a:gdLst/>
            <a:ahLst/>
            <a:rect l="l" t="t" r="r" b="b"/>
            <a:pathLst>
              <a:path w="9128161" h="1068407">
                <a:moveTo>
                  <a:pt x="20" y="818007"/>
                </a:moveTo>
                <a:lnTo>
                  <a:pt x="9124990" y="0"/>
                </a:lnTo>
                <a:cubicBezTo>
                  <a:pt x="9124198" y="354630"/>
                  <a:pt x="9128161" y="713777"/>
                  <a:pt x="9127369" y="1068407"/>
                </a:cubicBezTo>
                <a:lnTo>
                  <a:pt x="0" y="1065657"/>
                </a:lnTo>
                <a:cubicBezTo>
                  <a:pt x="7" y="983107"/>
                  <a:pt x="13" y="900557"/>
                  <a:pt x="20" y="818007"/>
                </a:cubicBezTo>
                <a:close/>
              </a:path>
            </a:pathLst>
          </a:custGeom>
          <a:gradFill rotWithShape="0">
            <a:gsLst>
              <a:gs pos="0">
                <a:srgbClr val="e66c7d"/>
              </a:gs>
              <a:gs pos="100000">
                <a:srgbClr val="e66c7d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9"/>
          <p:cNvSpPr/>
          <p:nvPr/>
        </p:nvSpPr>
        <p:spPr>
          <a:xfrm>
            <a:off x="0" y="5381640"/>
            <a:ext cx="3286080" cy="1208160"/>
          </a:xfrm>
          <a:custGeom>
            <a:avLst/>
            <a:gdLst/>
            <a:ahLst/>
            <a:rect l="l" t="t" r="r" b="b"/>
            <a:pathLst>
              <a:path w="7227290" h="1207294">
                <a:moveTo>
                  <a:pt x="0" y="0"/>
                </a:moveTo>
                <a:lnTo>
                  <a:pt x="7227290" y="885825"/>
                </a:lnTo>
                <a:lnTo>
                  <a:pt x="0" y="120729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reeform 10"/>
          <p:cNvSpPr/>
          <p:nvPr/>
        </p:nvSpPr>
        <p:spPr>
          <a:xfrm>
            <a:off x="-3240" y="5695920"/>
            <a:ext cx="9147240" cy="930240"/>
          </a:xfrm>
          <a:custGeom>
            <a:avLst/>
            <a:gdLst/>
            <a:ahLst/>
            <a:rect l="l" t="t" r="r" b="b"/>
            <a:pathLst>
              <a:path w="9155715" h="930294">
                <a:moveTo>
                  <a:pt x="9155715" y="0"/>
                </a:moveTo>
                <a:lnTo>
                  <a:pt x="0" y="855842"/>
                </a:lnTo>
                <a:cubicBezTo>
                  <a:pt x="795" y="884628"/>
                  <a:pt x="1589" y="901508"/>
                  <a:pt x="2384" y="930294"/>
                </a:cubicBezTo>
                <a:lnTo>
                  <a:pt x="9155715" y="74452"/>
                </a:lnTo>
                <a:lnTo>
                  <a:pt x="915571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11"/>
          <p:cNvSpPr/>
          <p:nvPr/>
        </p:nvSpPr>
        <p:spPr>
          <a:xfrm>
            <a:off x="0" y="5346720"/>
            <a:ext cx="3425760" cy="944640"/>
          </a:xfrm>
          <a:custGeom>
            <a:avLst/>
            <a:gdLst/>
            <a:ahLst/>
            <a:rect l="l" t="t" r="r" b="b"/>
            <a:pathLst>
              <a:path w="3426231" h="944725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3204530" y="944725"/>
                </a:lnTo>
                <a:lnTo>
                  <a:pt x="3426231" y="923877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0000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0000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2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Gill Sans MT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3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4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CF8FA-2816-4E5A-91CC-8841156C991B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87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Freeform 8"/>
          <p:cNvSpPr/>
          <p:nvPr/>
        </p:nvSpPr>
        <p:spPr>
          <a:xfrm>
            <a:off x="0" y="5010120"/>
            <a:ext cx="7439040" cy="1571760"/>
          </a:xfrm>
          <a:custGeom>
            <a:avLst/>
            <a:gdLst/>
            <a:ahLst/>
            <a:rect l="l" t="t" r="r" b="b"/>
            <a:pathLst>
              <a:path w="7415827" h="1571625">
                <a:moveTo>
                  <a:pt x="0" y="0"/>
                </a:moveTo>
                <a:lnTo>
                  <a:pt x="7415827" y="866775"/>
                </a:lnTo>
                <a:lnTo>
                  <a:pt x="0" y="157162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reeform 9"/>
          <p:cNvSpPr/>
          <p:nvPr/>
        </p:nvSpPr>
        <p:spPr>
          <a:xfrm>
            <a:off x="0" y="5730840"/>
            <a:ext cx="9147240" cy="1127160"/>
          </a:xfrm>
          <a:custGeom>
            <a:avLst/>
            <a:gdLst/>
            <a:ahLst/>
            <a:rect l="l" t="t" r="r" b="b"/>
            <a:pathLst>
              <a:path w="9128161" h="1068407">
                <a:moveTo>
                  <a:pt x="20" y="818007"/>
                </a:moveTo>
                <a:lnTo>
                  <a:pt x="9124990" y="0"/>
                </a:lnTo>
                <a:cubicBezTo>
                  <a:pt x="9124198" y="354630"/>
                  <a:pt x="9128161" y="713777"/>
                  <a:pt x="9127369" y="1068407"/>
                </a:cubicBezTo>
                <a:lnTo>
                  <a:pt x="0" y="1065657"/>
                </a:lnTo>
                <a:cubicBezTo>
                  <a:pt x="7" y="983107"/>
                  <a:pt x="13" y="900557"/>
                  <a:pt x="20" y="818007"/>
                </a:cubicBezTo>
                <a:close/>
              </a:path>
            </a:pathLst>
          </a:custGeom>
          <a:gradFill rotWithShape="0">
            <a:gsLst>
              <a:gs pos="0">
                <a:srgbClr val="f0ad00"/>
              </a:gs>
              <a:gs pos="100000">
                <a:srgbClr val="f0ad00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reeform 10"/>
          <p:cNvSpPr/>
          <p:nvPr/>
        </p:nvSpPr>
        <p:spPr>
          <a:xfrm>
            <a:off x="0" y="4973760"/>
            <a:ext cx="7675560" cy="928440"/>
          </a:xfrm>
          <a:custGeom>
            <a:avLst/>
            <a:gdLst/>
            <a:ahLst/>
            <a:rect l="l" t="t" r="r" b="b"/>
            <a:pathLst>
              <a:path w="7674867" h="928299">
                <a:moveTo>
                  <a:pt x="194" y="0"/>
                </a:moveTo>
                <a:cubicBezTo>
                  <a:pt x="129" y="24947"/>
                  <a:pt x="65" y="49893"/>
                  <a:pt x="0" y="74840"/>
                </a:cubicBezTo>
                <a:lnTo>
                  <a:pt x="7298289" y="928299"/>
                </a:lnTo>
                <a:lnTo>
                  <a:pt x="7674867" y="897731"/>
                </a:lnTo>
                <a:lnTo>
                  <a:pt x="19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reeform 11"/>
          <p:cNvSpPr/>
          <p:nvPr/>
        </p:nvSpPr>
        <p:spPr>
          <a:xfrm>
            <a:off x="-3240" y="5695920"/>
            <a:ext cx="9147240" cy="930240"/>
          </a:xfrm>
          <a:custGeom>
            <a:avLst/>
            <a:gdLst/>
            <a:ahLst/>
            <a:rect l="l" t="t" r="r" b="b"/>
            <a:pathLst>
              <a:path w="9155715" h="930294">
                <a:moveTo>
                  <a:pt x="9155715" y="0"/>
                </a:moveTo>
                <a:lnTo>
                  <a:pt x="0" y="855842"/>
                </a:lnTo>
                <a:cubicBezTo>
                  <a:pt x="795" y="884628"/>
                  <a:pt x="1589" y="901508"/>
                  <a:pt x="2384" y="930294"/>
                </a:cubicBezTo>
                <a:lnTo>
                  <a:pt x="9155715" y="74452"/>
                </a:lnTo>
                <a:lnTo>
                  <a:pt x="915571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0000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0000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Gill Sans MT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B9F18-CAAE-43D2-8516-61FD514BD935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8ZXOp5PopIA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hyperlink" Target="http://www.youtube.com/watch?v=fPz6uvIbWZE" TargetMode="External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71680" y="-2937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dobe Song Std L"/>
                <a:ea typeface="Adobe Song Std L"/>
              </a:rPr>
              <a:t>OBSERVATIO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dobe Song Std L"/>
                <a:ea typeface="Adobe Song Std L"/>
              </a:rPr>
              <a:t>LEARNING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79" name="Picture 3" descr="nerd_carrying_books_w_apple_hg_clr.gif"/>
          <p:cNvPicPr/>
          <p:nvPr/>
        </p:nvPicPr>
        <p:blipFill>
          <a:blip r:embed="rId1"/>
          <a:stretch/>
        </p:blipFill>
        <p:spPr>
          <a:xfrm>
            <a:off x="0" y="0"/>
            <a:ext cx="2381400" cy="371484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4" descr="boy_playing_video_games_hg_clr.gif"/>
          <p:cNvPicPr/>
          <p:nvPr/>
        </p:nvPicPr>
        <p:blipFill>
          <a:blip r:embed="rId2"/>
          <a:stretch/>
        </p:blipFill>
        <p:spPr>
          <a:xfrm>
            <a:off x="3505320" y="1295280"/>
            <a:ext cx="2219040" cy="333396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5" descr="female_music_teacher_and_student_hg_clr.gif"/>
          <p:cNvPicPr/>
          <p:nvPr/>
        </p:nvPicPr>
        <p:blipFill>
          <a:blip r:embed="rId3"/>
          <a:stretch/>
        </p:blipFill>
        <p:spPr>
          <a:xfrm>
            <a:off x="6172200" y="0"/>
            <a:ext cx="3333600" cy="333360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6" descr="cutie_learning_to_walk_hg_clr.gif"/>
          <p:cNvPicPr/>
          <p:nvPr/>
        </p:nvPicPr>
        <p:blipFill>
          <a:blip r:embed="rId4"/>
          <a:stretch/>
        </p:blipFill>
        <p:spPr>
          <a:xfrm>
            <a:off x="380880" y="3524400"/>
            <a:ext cx="2219400" cy="333360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8" descr="coach_cathy_with_softball_player_hg_clr.gif"/>
          <p:cNvPicPr/>
          <p:nvPr/>
        </p:nvPicPr>
        <p:blipFill>
          <a:blip r:embed="rId5"/>
          <a:stretch/>
        </p:blipFill>
        <p:spPr>
          <a:xfrm>
            <a:off x="6172200" y="3048120"/>
            <a:ext cx="297180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52280" y="31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b9899"/>
                </a:solidFill>
                <a:latin typeface="Gill Sans MT"/>
                <a:ea typeface="ＭＳ Ｐゴシック"/>
              </a:rPr>
              <a:t>COGNITIVE LEARNING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75960" y="106668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8000"/>
          </a:bodyPr>
          <a:p>
            <a:pPr marL="335880" indent="-26748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Sultan was not the only animal to demonstrate cognitive learning. When rats were put into a maze with multiple routes to the reinforcer, the rats would repeatedly attempt the shortest route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26748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26748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If their preferred route was blocked, they would chose the next shortest route to the reward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26748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26748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 MT"/>
                <a:ea typeface="ＭＳ Ｐゴシック"/>
              </a:rPr>
              <a:t>Cognition Map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 A mental representation of a plac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LATENT LEARNING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456840" y="1569600"/>
            <a:ext cx="84582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Toleman’s study, rats were allowed to wander around a maze, without reinforcements, for several hours. It was formerly thought that reinforcements were essential for learning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However, the rats later were able to negotiate the maze for food more quickly than rats that had never seen the maze befor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Gill Sans MT"/>
                <a:ea typeface="ＭＳ Ｐゴシック"/>
              </a:rPr>
              <a:t>Latent learning:</a:t>
            </a:r>
            <a:r>
              <a:rPr b="0" lang="en-US" sz="2400" spc="-1" strike="noStrike">
                <a:solidFill>
                  <a:srgbClr val="0000ff"/>
                </a:solidFill>
                <a:latin typeface="Gill Sans MT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Learning that occur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but is not apparent until the learner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has an incentive to demonstrate it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14" name="Picture 2" descr="http://t0.gstatic.com/images?q=tbn:ANd9GcSckazy1N-TCt2Ce5eq0v4-A-MWTcRMPG6YSOrvSxSAvHDW4yrn:www.appsychology.com/Book/Behavior/Latentpics/mousemaze.gif"/>
          <p:cNvPicPr/>
          <p:nvPr/>
        </p:nvPicPr>
        <p:blipFill>
          <a:blip r:embed="rId1"/>
          <a:stretch/>
        </p:blipFill>
        <p:spPr>
          <a:xfrm>
            <a:off x="6248520" y="3809880"/>
            <a:ext cx="201924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LEMAN’S EXPERIMENT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6" name="Rectangle 3"/>
          <p:cNvSpPr/>
          <p:nvPr/>
        </p:nvSpPr>
        <p:spPr>
          <a:xfrm>
            <a:off x="228600" y="914400"/>
            <a:ext cx="87631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Edward Toleman studied latent learning by using rats and showing us that learning can occur but may not be immediately evide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oleman had three groups of rats run through a maze on a series of trial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Arial"/>
              </a:rPr>
              <a:t>One group (Group A) got a reward each time it completed the maze, and the performance of these rats improved steadily over ti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Arial"/>
              </a:rPr>
              <a:t>Another group of rats (Group B) never got a reward, and their performance improved only slightly over the course of the experime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Arial"/>
              </a:rPr>
              <a:t>A third group of rats (Group C) was not rewarded during the first half of the experiment, but was given a reward during the second half of the experime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Arial"/>
              </a:rPr>
              <a:t>Not surprisingly, during the first half of the trials, Group C was very similar to the group that never received a reward (Group B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Arial"/>
              </a:rPr>
              <a:t>The interesting finding, however, was tha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Gill Sans MT"/>
                <a:ea typeface="Arial"/>
              </a:rPr>
              <a:t>Group C's performance improved dramatically and suddenly once it began to be rewarded for finishing the maze.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Arial"/>
              </a:rPr>
              <a:t> In fact, Group C's performance almost caught up to Group A's performance even though Group A was rewarded through the whole experi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OLEMAN’S EXPERIMEN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75960" y="1295280"/>
            <a:ext cx="876276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74000"/>
          </a:bodyPr>
          <a:p>
            <a:pPr marL="253800" indent="-20196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leman came to the conclusion that these rats must have learned their way around the maze during the first half of the experiment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3800" indent="-201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3800" indent="-20196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eir performance did not improve because they had no reason to run the maze quickly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3800" indent="-201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3800" indent="-20196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leman believed that their dramatic improvement in maze-running time was due to latent learning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3800" indent="-201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3800" indent="-20196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e suggested they made a mental representation, or cognitive map, of the maze during the first half of the experiment and displayed this knowledge once they were rewarded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3800" indent="-20196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CAP: CRASH COURSE_BOBO BEATDOWN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152280" y="1600200"/>
            <a:ext cx="830592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6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698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698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698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698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ttp://www.youtube.com/watch?v=128Ts5r9NR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698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21" name="Picture 7" descr="http://media-cache-ec0.pinimg.com/236x/a8/3f/24/a83f246eff904a278c57492c0860ec17.jpg"/>
          <p:cNvPicPr/>
          <p:nvPr/>
        </p:nvPicPr>
        <p:blipFill>
          <a:blip r:embed="rId1"/>
          <a:stretch/>
        </p:blipFill>
        <p:spPr>
          <a:xfrm>
            <a:off x="5867280" y="3581280"/>
            <a:ext cx="28609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b9899"/>
                </a:solidFill>
                <a:latin typeface="Gill Sans MT"/>
                <a:ea typeface="ＭＳ Ｐゴシック"/>
              </a:rPr>
              <a:t>OBSERVATIONAL LEARNING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You can think of observational learning as an extension of operant conditioning, in which we observe someone else getting rewarded but act as thought we had also received the reward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 MT"/>
                <a:ea typeface="ＭＳ Ｐゴシック"/>
              </a:rPr>
              <a:t>Observational learning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 Learning in which new responses are acquired after other’s behavior and the consequences of their behavior are observed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OBSERVATIONAL LEARNING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2282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bert Bandura and his BoBo Dol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e learn through modeling behavior from other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bservational learning + Operant Conditioning =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Social Learning Theor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88" name="Content Placeholder 8" descr="bobo_do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24280" y="1981080"/>
            <a:ext cx="3733920" cy="314172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10" descr="punch_doll_lg_clr.gif"/>
          <p:cNvPicPr/>
          <p:nvPr/>
        </p:nvPicPr>
        <p:blipFill>
          <a:blip r:embed="rId3"/>
          <a:stretch/>
        </p:blipFill>
        <p:spPr>
          <a:xfrm>
            <a:off x="7620120" y="152280"/>
            <a:ext cx="1272960" cy="1714680"/>
          </a:xfrm>
          <a:prstGeom prst="rect">
            <a:avLst/>
          </a:prstGeom>
          <a:ln w="0">
            <a:noFill/>
          </a:ln>
        </p:spPr>
      </p:pic>
      <p:sp>
        <p:nvSpPr>
          <p:cNvPr id="590" name="TextBox 11"/>
          <p:cNvSpPr/>
          <p:nvPr/>
        </p:nvSpPr>
        <p:spPr>
          <a:xfrm>
            <a:off x="4617720" y="5257800"/>
            <a:ext cx="396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lick to see some observational lear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OBSERVATIONAL LEARNING- BOBO DOLL </a:t>
            </a:r>
            <a:endParaRPr b="0" lang="en-US" sz="3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217080" y="1527120"/>
            <a:ext cx="8588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After observing adults seeming to enjoy punching, hitting and kicking an inflated doll called Bobo, the children later showed similar aggressive behavior toward the dol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Significantly, these children were more aggressive than those in a control condition who did not witness the adult’s violence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b9899"/>
                </a:solidFill>
                <a:latin typeface="Gill Sans MT"/>
                <a:ea typeface="ＭＳ Ｐゴシック"/>
              </a:rPr>
              <a:t>MEDIA AND VIOLENC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152280" y="1143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Does violence on TV/movies/video games have an impact on the learning of children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Correlation evidence from over 50 studies shows that observing violence is associated with violent behavio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In addition, experiment evidence shows that viewers of media violence show a reduction in emotional arousal and distress when they subsequently observe violent acts-a condition known as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psychic numbing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.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95" name="Picture 5" descr="http://graphics8.nytimes.com/packages/images/opinion/Letters/0127LETTERSvuillemin600.gif"/>
          <p:cNvPicPr/>
          <p:nvPr/>
        </p:nvPicPr>
        <p:blipFill>
          <a:blip r:embed="rId1"/>
          <a:stretch/>
        </p:blipFill>
        <p:spPr>
          <a:xfrm>
            <a:off x="5791320" y="4572000"/>
            <a:ext cx="30798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7b9899"/>
                </a:solidFill>
                <a:latin typeface="Gill Sans MT"/>
                <a:ea typeface="ＭＳ Ｐゴシック"/>
              </a:rPr>
              <a:t>INSIGHT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Sometimes we have “flashes of insight” when dealing with a problem where we have been experiencing trial and error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This type of learning is called </a:t>
            </a:r>
            <a:r>
              <a:rPr b="1" i="1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cognitive learning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, which is explained as changes in mental processes, rather than as changes in behavior alon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98" name="Picture 2" descr=""/>
          <p:cNvPicPr/>
          <p:nvPr/>
        </p:nvPicPr>
        <p:blipFill>
          <a:blip r:embed="rId1"/>
          <a:stretch/>
        </p:blipFill>
        <p:spPr>
          <a:xfrm>
            <a:off x="6324480" y="4114800"/>
            <a:ext cx="21877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b9899"/>
                </a:solidFill>
                <a:latin typeface="Gill Sans MT"/>
                <a:ea typeface="ＭＳ Ｐゴシック"/>
              </a:rPr>
              <a:t>WOLFGANG KOHLER AND SULTAN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Kohler believed that chimps could solve complex problems by combining simpler behaviors they had previously learned separately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Kohler taught Sultan the chimp how to stack boxes to obtain bananas that were over his head and how to use a stick to obtain something that was out of his reach. He taught Sultan these skills in separate situation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b9899"/>
                </a:solidFill>
                <a:latin typeface="Gill Sans MT"/>
                <a:ea typeface="ＭＳ Ｐゴシック"/>
              </a:rPr>
              <a:t>SULTAN’S SITUATION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228240" y="134316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When Sultan was put in a situation where the bananas were still out of his reach after stacking the boxes, Sultan became frustrated. He threw the stick and kicked the wall before sitting down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Suddenly, he jumped up and dragged the boxes and stick under the bananas. He then climbed up the boxes and whacked the fruit down with the stick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This suggested to Kohler that the animals were not mindlessly using conditioned behavior, but were learning by reorganizing their perceptions of problem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03" name="Picture 2" descr=""/>
          <p:cNvPicPr/>
          <p:nvPr/>
        </p:nvPicPr>
        <p:blipFill>
          <a:blip r:embed="rId1"/>
          <a:stretch/>
        </p:blipFill>
        <p:spPr>
          <a:xfrm>
            <a:off x="7315200" y="5029200"/>
            <a:ext cx="158112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SULTAN THE CHIMP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605" name="Group 1"/>
          <p:cNvGrpSpPr/>
          <p:nvPr/>
        </p:nvGrpSpPr>
        <p:grpSpPr>
          <a:xfrm>
            <a:off x="-12600" y="858960"/>
            <a:ext cx="9144000" cy="4572000"/>
            <a:chOff x="-12600" y="858960"/>
            <a:chExt cx="9144000" cy="4572000"/>
          </a:xfrm>
        </p:grpSpPr>
        <p:pic>
          <p:nvPicPr>
            <p:cNvPr id="606" name="Picture 4" descr=""/>
            <p:cNvPicPr/>
            <p:nvPr/>
          </p:nvPicPr>
          <p:blipFill>
            <a:blip r:embed="rId1"/>
            <a:stretch/>
          </p:blipFill>
          <p:spPr>
            <a:xfrm>
              <a:off x="-12600" y="858960"/>
              <a:ext cx="2921040" cy="45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7" name="Picture 5" descr=""/>
            <p:cNvPicPr/>
            <p:nvPr/>
          </p:nvPicPr>
          <p:blipFill>
            <a:blip r:embed="rId2"/>
            <a:stretch/>
          </p:blipFill>
          <p:spPr>
            <a:xfrm>
              <a:off x="2376360" y="858960"/>
              <a:ext cx="2692440" cy="45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6" descr=""/>
            <p:cNvPicPr/>
            <p:nvPr/>
          </p:nvPicPr>
          <p:blipFill>
            <a:blip r:embed="rId3"/>
            <a:srcRect l="0" t="0" r="8584" b="0"/>
            <a:stretch/>
          </p:blipFill>
          <p:spPr>
            <a:xfrm>
              <a:off x="5070600" y="858960"/>
              <a:ext cx="4060800" cy="457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9" name="Title 1"/>
          <p:cNvSpPr/>
          <p:nvPr/>
        </p:nvSpPr>
        <p:spPr>
          <a:xfrm>
            <a:off x="514440" y="571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168bba"/>
                </a:solidFill>
                <a:uFillTx/>
                <a:latin typeface="Gill Sans MT"/>
                <a:ea typeface="Arial"/>
                <a:hlinkClick r:id="rId4"/>
              </a:rPr>
              <a:t>VIDEO OF INSIGHT LEARN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5:37:28Z</dcterms:created>
  <dc:creator>Heath</dc:creator>
  <dc:description/>
  <dc:language>en-US</dc:language>
  <cp:lastModifiedBy>Debes John</cp:lastModifiedBy>
  <cp:lastPrinted>2016-11-23T13:59:22Z</cp:lastPrinted>
  <dcterms:modified xsi:type="dcterms:W3CDTF">2016-11-23T14:10:33Z</dcterms:modified>
  <cp:revision>272</cp:revision>
  <dc:subject/>
  <dc:title>Learning</dc:title>
</cp:coreProperties>
</file>