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94E5-2951-4690-B4B1-BA7FFA6B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0085-3930-441A-A4A2-A4DB64F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643B-48C2-4C50-B407-857D20EF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6B90-598A-4ACD-997B-9516AFA3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361-B864-4525-8406-6EC88041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9947-3542-4B7A-8C4C-E99F8A0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173-78E0-4607-B597-42900E7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9E37-59F0-4E25-BDD6-FDDE15A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2C1-F24D-49F4-8516-852EDB77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E979-2501-4CC6-8761-4EB001D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A68-5538-46A6-A0BF-9DBDA86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622C-0FB7-45B7-89CD-527530BC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82A0-DA48-42DC-9803-D4A8FA3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763D-7BC4-45D5-9E36-73A3A69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D29B-BC84-4946-9DA1-B1AAA78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8396-9D35-484B-B2D3-9EB2774E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CC4-B626-45B6-96C1-11ED7267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C7D8-255D-47B4-941B-F1C9508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71BC-CA17-41E1-AD50-D8AFD72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8010-45A7-46E5-9212-9E463A44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646C-DB62-4349-9BD1-794CDDA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2283-7F74-4AE1-AC8A-268194B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E5D3-AC75-4359-BA14-6E29A1A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56A2-3835-4579-A0A6-E57DC63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8EF3-A6AC-4D6C-8E33-371B386E9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E67B-22D3-4F62-AC89-C3AC9ED8E0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6 (Mod 27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mmediate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results in instantaneous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lay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is not rewarded immediate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lab experiments, rats do not respond to reinforcers that are delayed more than 30 sec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s DO respond to delayed reinforcers: weekly paychecks, end of term grad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tern that defines how often a desired response will be reinfor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tinuous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after EVERY desired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rtial reinforce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ment occurs only part of th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quisition is s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resistance to exti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00" y="990720"/>
            <a:ext cx="91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Buy 10 coffees, get one f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Rati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response after an unpredictable number of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Slot mach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ixed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only after a specified time has elap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your mailbox more frequently the closer it gets to its’ normal deliver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Variable-Interv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forces a response at unpredictable time interv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 checking text messages frequently when waiting for a text, although no designated time for said text has been establ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8520" cy="434340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38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lassical Vs. 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640" y="914400"/>
            <a:ext cx="820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assical Conditio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s associations between stimuli (CS and 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de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                         an association between                                  behaviors and the resulting                                   ev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perant Behavi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030" descr="ClassOperant"/>
          <p:cNvPicPr/>
          <p:nvPr/>
        </p:nvPicPr>
        <p:blipFill>
          <a:blip r:embed="rId1"/>
          <a:stretch/>
        </p:blipFill>
        <p:spPr>
          <a:xfrm>
            <a:off x="5257800" y="2819520"/>
            <a:ext cx="381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885816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0" y="-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hedules of Reinforc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-23760" y="48769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inforcement linked to a number of responses (a ratio schedule) produces a higher response rate than reinforcement linked to amount of time elapsed (an interval schedu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dictability is important too: unpredictable (variable) schedules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produced more consistent responses than predictable (fixed) schedule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0" y="7621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 event that tends to (or is meant to) decrease the behavior that precedes i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Studies of punishment have revealed a few important points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ed behavior is suppressed, not era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t’s a temporary, negative reinforcement of the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teaches discrimination among situa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spanking likely doesn’t prevent the child from swearing, but it might stop him/her from swearing around his/he paren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unishment can teach fea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ild might associate fear not just with the swearing that causes the punishment, but also with the punisher or place of punishm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320400" indent="-169560">
              <a:spcBef>
                <a:spcPts val="64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aramond"/>
              </a:rPr>
              <a:t>Physical punishment may increase aggres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hysical punishment may model aggression as a way to cope with problem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245160" indent="-11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13040" indent="-113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unish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8" descr="Punishment"/>
          <p:cNvPicPr/>
          <p:nvPr/>
        </p:nvPicPr>
        <p:blipFill>
          <a:blip r:embed="rId1"/>
          <a:stretch/>
        </p:blipFill>
        <p:spPr>
          <a:xfrm>
            <a:off x="228600" y="990720"/>
            <a:ext cx="8589960" cy="52578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3"/>
          <p:cNvSpPr/>
          <p:nvPr/>
        </p:nvSpPr>
        <p:spPr>
          <a:xfrm>
            <a:off x="457200" y="3276720"/>
            <a:ext cx="106668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Straight Connector 5"/>
          <p:cNvSpPr/>
          <p:nvPr/>
        </p:nvSpPr>
        <p:spPr>
          <a:xfrm>
            <a:off x="2362320" y="3276720"/>
            <a:ext cx="1447560" cy="0"/>
          </a:xfrm>
          <a:prstGeom prst="line">
            <a:avLst/>
          </a:prstGeom>
          <a:ln w="3207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Straight Connector 6"/>
          <p:cNvSpPr/>
          <p:nvPr/>
        </p:nvSpPr>
        <p:spPr>
          <a:xfrm>
            <a:off x="457200" y="4343400"/>
            <a:ext cx="121932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2362320" y="4343400"/>
            <a:ext cx="1295280" cy="0"/>
          </a:xfrm>
          <a:prstGeom prst="line">
            <a:avLst/>
          </a:prstGeom>
          <a:ln w="320760">
            <a:solidFill>
              <a:srgbClr val="92d0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perant Conditio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perant Condition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ype of learning in which behavior is strengthened if followed by a reinforcer or diminished by a punis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124080" y="3522600"/>
            <a:ext cx="28195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.F. Skinner’s experiments extend Edward Thorndike’s 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law of eff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rndike’s law of effect-states that rewarded behavior is likely to occur again &amp; behaviors that are followed by undesirable consequences will happen less oft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80" y="914400"/>
            <a:ext cx="914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Operant Cha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mber that contained a bar/key that an animal can manipulate to obtain a food/water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ar or key is connected to devices that record the animal’s respo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known as a “Skinner Box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9" descr="12673_MyersPsy8e_fig"/>
          <p:cNvPicPr/>
          <p:nvPr/>
        </p:nvPicPr>
        <p:blipFill>
          <a:blip r:embed="rId1"/>
          <a:stretch/>
        </p:blipFill>
        <p:spPr>
          <a:xfrm>
            <a:off x="500040" y="3962520"/>
            <a:ext cx="8143920" cy="2666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kinner’s Experi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ha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6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hap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operant conditioning procedure in which reinforcers guide behavior towards the desired target behavior through successive approxim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12673_MyersPsy8e_8UN11"/>
          <p:cNvPicPr/>
          <p:nvPr/>
        </p:nvPicPr>
        <p:blipFill>
          <a:blip r:embed="rId1"/>
          <a:stretch/>
        </p:blipFill>
        <p:spPr>
          <a:xfrm>
            <a:off x="1339920" y="3414600"/>
            <a:ext cx="16858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2673_MyersPsy8e_8UN12"/>
          <p:cNvPicPr/>
          <p:nvPr/>
        </p:nvPicPr>
        <p:blipFill>
          <a:blip r:embed="rId2"/>
          <a:stretch/>
        </p:blipFill>
        <p:spPr>
          <a:xfrm>
            <a:off x="4356000" y="3413160"/>
            <a:ext cx="3775320" cy="2516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095480" y="5929200"/>
            <a:ext cx="69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rat shaped to sniff mines. A manatee shaped to discriminate objects of different shapes, colors and siz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inforc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1145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inforcement </a:t>
            </a:r>
            <a:r>
              <a:rPr b="1" i="1" lang="en-US" sz="3200" spc="-1" strike="noStrike">
                <a:solidFill>
                  <a:srgbClr val="ff9900"/>
                </a:solidFill>
                <a:latin typeface="Garamond"/>
              </a:rPr>
              <a:t>(reinforcers)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event that strengthen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reinforces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havior it foll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inforcement is a rew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324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Reinforcement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Reinforc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16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rimary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innately reinforcing stimu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satisfies a biological n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Pizz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ditioned Reinforc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timulus that gains its reinforcing power through its association with a primary rein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known as a </a:t>
            </a:r>
            <a:r>
              <a:rPr b="0" i="1" lang="en-US" sz="2800" spc="-1" strike="noStrike">
                <a:solidFill>
                  <a:srgbClr val="ff9900"/>
                </a:solidFill>
                <a:latin typeface="Garamond"/>
              </a:rPr>
              <a:t>secondary reinfor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E.g. Mone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6-11-23T13:59:10Z</cp:lastPrinted>
  <dcterms:modified xsi:type="dcterms:W3CDTF">2016-12-06T13:58:20Z</dcterms:modified>
  <cp:revision>200</cp:revision>
  <dc:subject/>
  <dc:title>Chapter 8: Sensation and Perception</dc:title>
</cp:coreProperties>
</file>