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123AA-D37E-4E8E-B9D1-A3CC0633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3E07A-A8BA-4D90-BB7E-A2727F34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0BA93-09D4-440E-B2EA-5EF78B13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90682-29C9-4011-A273-D377A125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AE02-2564-4F03-AEB4-F8F9001D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799D-696F-4F1F-99BE-CA11B644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CE68-25A3-4FC4-AF7A-3A41E000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2235-111B-41AC-AC5A-EE5FC233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AA91-5B44-488B-A37B-1F0F2740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9465-00BE-49A5-8D6E-A120FF42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4CFB-EC75-4211-8E4C-AAB2EDE5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5E21-4D1E-4DB7-A6D1-23F96BBD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1C3E-AFF0-496F-8F1F-17AE6A59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F4FE-5FE8-40E0-8AEE-26FAAB9E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92F3-2970-4C79-A694-2F0A2714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1A68-D791-4B02-8A88-24052E89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C68D-0F66-4631-B855-6B0764CA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1D4BD-3E57-483A-AFE0-FDF2220F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BAD51-10A2-43FD-9FA9-D1497BF9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417C-553E-41C5-9A5C-DBF120E7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6F53-74F0-4023-94CE-EB0752E8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F89ED-3C5A-4574-992B-A67BE6E7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D668-F6DC-451F-B8F7-9CDA8F8A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98D58-C609-431D-AC78-68C44738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FF04-79D8-48DF-B2AE-B2FB33B248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32B8-AB84-43DC-86D6-2E4F69E26E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6 (Mod 27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Operant Condition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ypes of Reinforc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685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mmediate Reinforc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havior results in instantaneous rewa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elayed Reinforc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havior is not rewarded immediatel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lab experiments, rats do not respond to reinforcers that are delayed more than 30 seco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mans DO respond to delayed reinforcers: weekly paychecks, end of term grades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400" y="990720"/>
            <a:ext cx="91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einforcement sche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tern that defines how often a desired response will be reinforc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ontinuous reinforce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nforcement occurs after EVERY desired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artial reinforce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nforcement occurs only part of the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quisition is slow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eater resistance to extin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400" y="990720"/>
            <a:ext cx="91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Fixed-Rati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nforces a response only after a specified number of respon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Buy 10 coffees, get one fr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Variable-Rati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nforces response after an unpredictable number of respon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Slot mach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Fixed-Interv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nforces a response only after a specified time has elap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Checking your mailbox more frequently the closer it gets to its’ normal delivery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Variable-Interv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nforces a response at unpredictable time interv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checking text messages frequently when waiting for a text, although no designated time for said text has been establish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58520" cy="4343400"/>
          </a:xfrm>
          <a:prstGeom prst="rect">
            <a:avLst/>
          </a:prstGeom>
          <a:ln w="0">
            <a:noFill/>
          </a:ln>
        </p:spPr>
      </p:pic>
      <p:sp>
        <p:nvSpPr>
          <p:cNvPr id="134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8858160" cy="4343400"/>
          </a:xfrm>
          <a:prstGeom prst="rect">
            <a:avLst/>
          </a:prstGeom>
          <a:ln w="0">
            <a:noFill/>
          </a:ln>
        </p:spPr>
      </p:pic>
      <p:sp>
        <p:nvSpPr>
          <p:cNvPr id="136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8858160" cy="4343400"/>
          </a:xfrm>
          <a:prstGeom prst="rect">
            <a:avLst/>
          </a:prstGeom>
          <a:ln w="0">
            <a:noFill/>
          </a:ln>
        </p:spPr>
      </p:pic>
      <p:sp>
        <p:nvSpPr>
          <p:cNvPr id="138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8858160" cy="4343400"/>
          </a:xfrm>
          <a:prstGeom prst="rect">
            <a:avLst/>
          </a:prstGeom>
          <a:ln w="0">
            <a:noFill/>
          </a:ln>
        </p:spPr>
      </p:pic>
      <p:sp>
        <p:nvSpPr>
          <p:cNvPr id="140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8858160" cy="4343400"/>
          </a:xfrm>
          <a:prstGeom prst="rect">
            <a:avLst/>
          </a:prstGeom>
          <a:ln w="0">
            <a:noFill/>
          </a:ln>
        </p:spPr>
      </p:pic>
      <p:sp>
        <p:nvSpPr>
          <p:cNvPr id="142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8858160" cy="4343400"/>
          </a:xfrm>
          <a:prstGeom prst="rect">
            <a:avLst/>
          </a:prstGeom>
          <a:ln w="0">
            <a:noFill/>
          </a:ln>
        </p:spPr>
      </p:pic>
      <p:sp>
        <p:nvSpPr>
          <p:cNvPr id="144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-23760" y="48769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inforcement linked to a number of responses (a ratio schedule) produces a higher response rate than reinforcement linked to amount of time elapsed (an interval schedul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lassical Vs. Operant Conditio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6640" y="914400"/>
            <a:ext cx="820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assical Condition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ms associations between stimuli (CS and U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espondent Behavior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perant conditioning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s                          an association between                                  behaviors and the resulting                                   ev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Operant Behavior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030" descr="ClassOperant"/>
          <p:cNvPicPr/>
          <p:nvPr/>
        </p:nvPicPr>
        <p:blipFill>
          <a:blip r:embed="rId1"/>
          <a:stretch/>
        </p:blipFill>
        <p:spPr>
          <a:xfrm>
            <a:off x="5257800" y="2819520"/>
            <a:ext cx="3811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8858160" cy="4343400"/>
          </a:xfrm>
          <a:prstGeom prst="rect">
            <a:avLst/>
          </a:prstGeom>
          <a:ln w="0">
            <a:noFill/>
          </a:ln>
        </p:spPr>
      </p:pic>
      <p:sp>
        <p:nvSpPr>
          <p:cNvPr id="147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-23760" y="48769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inforcement linked to a number of responses (a ratio schedule) produces a higher response rate than reinforcement linked to amount of time elapsed (an interval schedul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edictability is important too: unpredictable (variable) schedules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produced more consistent responses than predictable (fixed) schedule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unish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Content Placeholder 2"/>
          <p:cNvSpPr/>
          <p:nvPr/>
        </p:nvSpPr>
        <p:spPr>
          <a:xfrm>
            <a:off x="0" y="7621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n event that tends to (or is meant to) decrease the behavior that precedes it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245160" indent="-113040"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Studies of punishment have revealed a few important points: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320400" indent="-169560">
              <a:spcBef>
                <a:spcPts val="64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aramond"/>
              </a:rPr>
              <a:t>Punished behavior is suppressed, not erased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245160" indent="-11304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It’s a temporary, negative reinforcement of the punishmen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320400" indent="-169560">
              <a:spcBef>
                <a:spcPts val="64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aramond"/>
              </a:rPr>
              <a:t>Punishment teaches discrimination among situation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245160" indent="-11304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he spanking likely doesn’t prevent the child from swearing, but it might stop him/her from swearing around his/he parent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320400" indent="-169560">
              <a:spcBef>
                <a:spcPts val="64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aramond"/>
              </a:rPr>
              <a:t>Punishment can teach fear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245160" indent="-11304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hild might associate fear not just with the swearing that causes the punishment, but also with the punisher or place of punishmen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320400" indent="-169560">
              <a:spcBef>
                <a:spcPts val="64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aramond"/>
              </a:rPr>
              <a:t>Physical punishment may increase aggress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245160" indent="-11304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hysical punishment may model aggression as a way to cope with problem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245160" indent="-11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13040" indent="-113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" y="20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unish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8" descr="Punishment"/>
          <p:cNvPicPr/>
          <p:nvPr/>
        </p:nvPicPr>
        <p:blipFill>
          <a:blip r:embed="rId1"/>
          <a:stretch/>
        </p:blipFill>
        <p:spPr>
          <a:xfrm>
            <a:off x="228600" y="990720"/>
            <a:ext cx="8589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" y="20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unish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4" name="Picture 8" descr="Punishment"/>
          <p:cNvPicPr/>
          <p:nvPr/>
        </p:nvPicPr>
        <p:blipFill>
          <a:blip r:embed="rId1"/>
          <a:stretch/>
        </p:blipFill>
        <p:spPr>
          <a:xfrm>
            <a:off x="228600" y="990720"/>
            <a:ext cx="8589960" cy="5257800"/>
          </a:xfrm>
          <a:prstGeom prst="rect">
            <a:avLst/>
          </a:prstGeom>
          <a:ln w="0">
            <a:noFill/>
          </a:ln>
        </p:spPr>
      </p:pic>
      <p:sp>
        <p:nvSpPr>
          <p:cNvPr id="155" name="Straight Connector 3"/>
          <p:cNvSpPr/>
          <p:nvPr/>
        </p:nvSpPr>
        <p:spPr>
          <a:xfrm>
            <a:off x="457200" y="3276720"/>
            <a:ext cx="1066680" cy="0"/>
          </a:xfrm>
          <a:prstGeom prst="line">
            <a:avLst/>
          </a:prstGeom>
          <a:ln w="3207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Straight Connector 5"/>
          <p:cNvSpPr/>
          <p:nvPr/>
        </p:nvSpPr>
        <p:spPr>
          <a:xfrm>
            <a:off x="2362320" y="3276720"/>
            <a:ext cx="1447560" cy="0"/>
          </a:xfrm>
          <a:prstGeom prst="line">
            <a:avLst/>
          </a:prstGeom>
          <a:ln w="3207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" y="20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unish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Picture 8" descr="Punishment"/>
          <p:cNvPicPr/>
          <p:nvPr/>
        </p:nvPicPr>
        <p:blipFill>
          <a:blip r:embed="rId1"/>
          <a:stretch/>
        </p:blipFill>
        <p:spPr>
          <a:xfrm>
            <a:off x="228600" y="990720"/>
            <a:ext cx="8589960" cy="5257800"/>
          </a:xfrm>
          <a:prstGeom prst="rect">
            <a:avLst/>
          </a:prstGeom>
          <a:ln w="0">
            <a:noFill/>
          </a:ln>
        </p:spPr>
      </p:pic>
      <p:sp>
        <p:nvSpPr>
          <p:cNvPr id="159" name="Straight Connector 3"/>
          <p:cNvSpPr/>
          <p:nvPr/>
        </p:nvSpPr>
        <p:spPr>
          <a:xfrm>
            <a:off x="457200" y="3276720"/>
            <a:ext cx="1066680" cy="0"/>
          </a:xfrm>
          <a:prstGeom prst="line">
            <a:avLst/>
          </a:prstGeom>
          <a:ln w="3207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Straight Connector 5"/>
          <p:cNvSpPr/>
          <p:nvPr/>
        </p:nvSpPr>
        <p:spPr>
          <a:xfrm>
            <a:off x="2362320" y="3276720"/>
            <a:ext cx="1447560" cy="0"/>
          </a:xfrm>
          <a:prstGeom prst="line">
            <a:avLst/>
          </a:prstGeom>
          <a:ln w="3207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Straight Connector 6"/>
          <p:cNvSpPr/>
          <p:nvPr/>
        </p:nvSpPr>
        <p:spPr>
          <a:xfrm>
            <a:off x="457200" y="4343400"/>
            <a:ext cx="1219320" cy="0"/>
          </a:xfrm>
          <a:prstGeom prst="line">
            <a:avLst/>
          </a:prstGeom>
          <a:ln w="320760">
            <a:solidFill>
              <a:srgbClr val="92d0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Straight Connector 7"/>
          <p:cNvSpPr/>
          <p:nvPr/>
        </p:nvSpPr>
        <p:spPr>
          <a:xfrm>
            <a:off x="2362320" y="4343400"/>
            <a:ext cx="1295280" cy="0"/>
          </a:xfrm>
          <a:prstGeom prst="line">
            <a:avLst/>
          </a:prstGeom>
          <a:ln w="320760">
            <a:solidFill>
              <a:srgbClr val="92d0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8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Operant Conditio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perant Condition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type of learning in which behavior is strengthened if followed by a reinforcer or diminished by a punis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3124080" y="3522600"/>
            <a:ext cx="28195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kinner’s Experi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.F. Skinner’s experiments extend Edward Thorndike’s </a:t>
            </a:r>
            <a:r>
              <a:rPr b="0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law of effec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orndike’s law of effect-states that rewarded behavior is likely to occur again &amp; behaviors that are followed by undesirable consequences will happen less oft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80" y="914400"/>
            <a:ext cx="914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Garamond"/>
              </a:rPr>
              <a:t>Operant Cham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mber that contained a bar/key that an animal can manipulate to obtain a food/water reinfo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ar or key is connected to devices that record the animal’s respon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so known as a “Skinner Box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9" descr="12673_MyersPsy8e_fig"/>
          <p:cNvPicPr/>
          <p:nvPr/>
        </p:nvPicPr>
        <p:blipFill>
          <a:blip r:embed="rId1"/>
          <a:stretch/>
        </p:blipFill>
        <p:spPr>
          <a:xfrm>
            <a:off x="500040" y="3962520"/>
            <a:ext cx="8143920" cy="2666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kinner’s Experi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hap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36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hap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operant conditioning procedure in which reinforcers guide behavior towards the desired target behavior through successive approxim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4" descr="12673_MyersPsy8e_8UN11"/>
          <p:cNvPicPr/>
          <p:nvPr/>
        </p:nvPicPr>
        <p:blipFill>
          <a:blip r:embed="rId1"/>
          <a:stretch/>
        </p:blipFill>
        <p:spPr>
          <a:xfrm>
            <a:off x="1339920" y="3414600"/>
            <a:ext cx="1685880" cy="2514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12673_MyersPsy8e_8UN12"/>
          <p:cNvPicPr/>
          <p:nvPr/>
        </p:nvPicPr>
        <p:blipFill>
          <a:blip r:embed="rId2"/>
          <a:stretch/>
        </p:blipFill>
        <p:spPr>
          <a:xfrm>
            <a:off x="4356000" y="3413160"/>
            <a:ext cx="3775320" cy="25160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1095480" y="5929200"/>
            <a:ext cx="696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rat shaped to sniff mines. A manatee shaped to discriminate objects of different shapes, colors and siz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inforc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1145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einforcement </a:t>
            </a:r>
            <a:r>
              <a:rPr b="1" i="1" lang="en-US" sz="3200" spc="-1" strike="noStrike">
                <a:solidFill>
                  <a:srgbClr val="ff9900"/>
                </a:solidFill>
                <a:latin typeface="Garamond"/>
              </a:rPr>
              <a:t>(reinforcers)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y event that strengthen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reinforces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ehavior it follo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reinforcement is a rewa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324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ypes of Reinforc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5" descr="Reinforcement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ypes of Reinforc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163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rimary Reinforc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innately reinforcing stimul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ten satisfies a biological ne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E.g. Pizz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onditioned Reinforc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timulus that gains its reinforcing power through its association with a primary reinfo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known as a </a:t>
            </a:r>
            <a:r>
              <a:rPr b="0" i="1" lang="en-US" sz="2800" spc="-1" strike="noStrike">
                <a:solidFill>
                  <a:srgbClr val="ff9900"/>
                </a:solidFill>
                <a:latin typeface="Garamond"/>
              </a:rPr>
              <a:t>secondary reinforc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E.g. Mone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cp:lastPrinted>2016-11-23T13:59:10Z</cp:lastPrinted>
  <dcterms:modified xsi:type="dcterms:W3CDTF">2016-12-06T13:58:20Z</dcterms:modified>
  <cp:revision>200</cp:revision>
  <dc:subject/>
  <dc:title>Chapter 8: Sensation and Perception</dc:title>
</cp:coreProperties>
</file>