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EEAB2-9A1E-4CE9-B17A-3BA044C3B7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01E06-7AD2-4169-B6A9-B4478F48EC9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3EA30-DB4E-4984-8AA3-703361CDC3B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3FA71-C8D3-48C6-B54B-3ECC59EAB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F9029-D186-4C4B-BB1C-A04FEE7AC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B2454-A49B-453C-BFCE-A2400EFD6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584FF-92AA-41A4-8AC5-CEE3FD8B7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170C1-41B0-4BE9-B88E-012C0B5A6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29BBD-4F7A-400A-A67E-DE3C18F99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997E4-5301-4F5D-9032-971408ACF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48CE9-911A-48DE-B5B7-998CB2395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14562-C898-49CA-8833-BA5280D96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910D5-E138-4B64-9D8A-DBD9744A8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F5AEB-81CE-431D-A694-224D25CB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BF150-C6D5-4775-AEF1-EBBEAB389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1D4BB-C98D-499F-BA7F-69325F0F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FBB77-16DD-45B1-9034-E490C890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E3496-D9E3-4080-B406-964F1617F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2B29D-1600-47F3-A998-DF451F526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B41AD-60BF-4D26-AEB5-E0D453B53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58A34-6348-4C0F-8F13-88B96CA73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488D3-0B27-43D1-AE0C-3218E9E84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5AB02-F7BD-409E-9F51-A259AF972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B0509-D95C-4343-9F5C-D0EA2B168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81E9D-04EE-41D6-A47A-A23C56250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C4FD8-D595-4CBA-854A-1DE1E8491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C6295-D904-4228-A7EE-EABCD31B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AD1DC-1FDF-4ED1-BDC3-153C5A7AEDA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FA877-7438-4E1A-8368-0B122DE8C8F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Unit 6 (Mod 26):</a:t>
            </a:r>
            <a:br>
              <a:rPr sz="5400"/>
            </a:br>
            <a:r>
              <a:rPr b="1" lang="en-US" sz="5400" spc="-1" strike="noStrike">
                <a:solidFill>
                  <a:srgbClr val="ff9900"/>
                </a:solidFill>
                <a:latin typeface="Garamond"/>
              </a:rPr>
              <a:t>Classical Conditioning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.P. Psycholog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3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Classical Conditioning: Stimuli &amp; Response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0" y="9907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imuli and Responses in Classical Conditioning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spcBef>
                <a:spcPts val="7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Neutral Stimulus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2" marL="879840" indent="-17568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imulus that, before conditioning, elicits no response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E.g. Bell before condition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spcBef>
                <a:spcPts val="7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Unconditioned Stimulus (US):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2" marL="879840" indent="-17568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stimulus that unconditionally – naturally and automatically – elicits a response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E.g. Foo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879840" indent="-1756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spcBef>
                <a:spcPts val="7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Unconditioned Response (UR):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2" marL="879840" indent="-17568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unlearned, naturally occurring response to the unconditioned stimulus (US)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E.g. Salivating to the foo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3880" indent="-263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3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Classical Conditioning: Stimuli &amp; Response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9907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imuli and Responses in Classical Conditioning (cont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Conditioned Stimulus (CS):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20772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originally irrelevant stimulus that, after association with an unconditioned stimulus (US), elicits a learned response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E.g. Bell after condition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2077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Conditioned Response (CR):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20772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 learned response to a previously neutral (but now conditioned) stimulus (CS)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E.g. Salivating to the bel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view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1144080"/>
            <a:ext cx="9144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plain (in your own words) Classical Conditioni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fferentiate between the following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Garamond"/>
              </a:rPr>
              <a:t>Neutral Stimulu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Garamond"/>
              </a:rPr>
              <a:t>Unconditioned Stimulus (US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Garamond"/>
              </a:rPr>
              <a:t>Unconditioned Response (UR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Garamond"/>
              </a:rPr>
              <a:t>Conditioned Stimulus (CS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Garamond"/>
              </a:rPr>
              <a:t>Conditioned Response (CR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0" y="9907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Acquisition: occurs in both classical &amp; operant condition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Garamond"/>
              </a:rPr>
              <a:t>Classical Conditioning: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1708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itial stage, when one links a neutral stimulus and an unconditioned stimulu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1708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eutral stimulus begins triggering conditioned respon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17080"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Garamond"/>
              </a:rPr>
              <a:t>Operant Conditioning: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1708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strengthening of a reinforced respon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298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Acquisi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TextBox 3"/>
          <p:cNvSpPr/>
          <p:nvPr/>
        </p:nvSpPr>
        <p:spPr>
          <a:xfrm>
            <a:off x="3581280" y="4419720"/>
            <a:ext cx="439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Garamond"/>
              </a:rPr>
              <a:t>**We will discuss later**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298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Acquisi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5" name="Picture 27" descr="12673_MyersPsy8e_fig"/>
          <p:cNvPicPr/>
          <p:nvPr/>
        </p:nvPicPr>
        <p:blipFill>
          <a:blip r:embed="rId1"/>
          <a:stretch/>
        </p:blipFill>
        <p:spPr>
          <a:xfrm>
            <a:off x="380880" y="1398600"/>
            <a:ext cx="8398080" cy="49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Tim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0" y="7621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Timing is very important in classical condition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579240" indent="-22284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Studies have shown that the CS must precede the US by (at most) ½ - 1 seconds in order to successfully bring about a CR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579240" indent="-22284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Other types of timing have been studied with classical conditioning: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891360" indent="-178200">
              <a:spcBef>
                <a:spcPts val="624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ffffff"/>
                </a:solidFill>
                <a:uFillTx/>
                <a:latin typeface="Garamond"/>
              </a:rPr>
              <a:t>Delayed conditioning</a:t>
            </a:r>
            <a:r>
              <a:rPr b="0" lang="en-US" sz="2500" spc="-1" strike="noStrike">
                <a:solidFill>
                  <a:srgbClr val="ffffff"/>
                </a:solidFill>
                <a:latin typeface="Garamond"/>
              </a:rPr>
              <a:t>: CS precedes the US, but the two stimuli overlap a bit-</a:t>
            </a:r>
            <a:r>
              <a:rPr b="0" i="1" lang="en-US" sz="2500" spc="-1" strike="noStrike">
                <a:solidFill>
                  <a:srgbClr val="ffffff"/>
                </a:solidFill>
                <a:latin typeface="Garamond"/>
              </a:rPr>
              <a:t>best timing for conditioning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lvl="2" marL="891360" indent="-178200">
              <a:spcBef>
                <a:spcPts val="624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ffffff"/>
                </a:solidFill>
                <a:uFillTx/>
                <a:latin typeface="Garamond"/>
              </a:rPr>
              <a:t>Trace conditioning</a:t>
            </a:r>
            <a:r>
              <a:rPr b="0" lang="en-US" sz="2500" spc="-1" strike="noStrike">
                <a:solidFill>
                  <a:srgbClr val="ffffff"/>
                </a:solidFill>
                <a:latin typeface="Garamond"/>
              </a:rPr>
              <a:t>: CS precedes the US, but they do not overlap-</a:t>
            </a:r>
            <a:r>
              <a:rPr b="0" i="1" lang="en-US" sz="2500" spc="-1" strike="noStrike">
                <a:solidFill>
                  <a:srgbClr val="ffffff"/>
                </a:solidFill>
                <a:latin typeface="Garamond"/>
              </a:rPr>
              <a:t>the longer the delay, the more difficult conditioning is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lvl="2" marL="891360" indent="-178200">
              <a:spcBef>
                <a:spcPts val="624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ffffff"/>
                </a:solidFill>
                <a:uFillTx/>
                <a:latin typeface="Garamond"/>
              </a:rPr>
              <a:t>Simultaneous conditioning</a:t>
            </a:r>
            <a:r>
              <a:rPr b="0" lang="en-US" sz="2500" spc="-1" strike="noStrike">
                <a:solidFill>
                  <a:srgbClr val="ffffff"/>
                </a:solidFill>
                <a:latin typeface="Garamond"/>
              </a:rPr>
              <a:t>: CS occurs at the same time as the US-</a:t>
            </a:r>
            <a:r>
              <a:rPr b="0" i="1" lang="en-US" sz="2500" spc="-1" strike="noStrike">
                <a:solidFill>
                  <a:srgbClr val="ffffff"/>
                </a:solidFill>
                <a:latin typeface="Garamond"/>
              </a:rPr>
              <a:t>results in poor conditioning. CS doesn’t predict the US at all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lvl="2" marL="891360" indent="-178200">
              <a:spcBef>
                <a:spcPts val="624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ffffff"/>
                </a:solidFill>
                <a:uFillTx/>
                <a:latin typeface="Garamond"/>
              </a:rPr>
              <a:t>Backward conditioning</a:t>
            </a:r>
            <a:r>
              <a:rPr b="0" lang="en-US" sz="2500" spc="-1" strike="noStrike">
                <a:solidFill>
                  <a:srgbClr val="ffffff"/>
                </a:solidFill>
                <a:latin typeface="Garamond"/>
              </a:rPr>
              <a:t>: CS occurs AFTER the US-</a:t>
            </a:r>
            <a:r>
              <a:rPr b="0" i="1" lang="en-US" sz="2500" spc="-1" strike="noStrike">
                <a:solidFill>
                  <a:srgbClr val="ffffff"/>
                </a:solidFill>
                <a:latin typeface="Garamond"/>
              </a:rPr>
              <a:t>little or no conditioning takes place, unless the response is biologically predisposed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Higher-Order Condition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11494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cedure in which the conditioned stimulus in one experience is paired with a new neutral stimulus, creating a second (often weaker) conditioned stimulu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E.g. an animal that has learned that a tone predicts food might then learn that a light predicts the tone &amp; begin responding to the light alon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so referred to as “second-order conditioning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Extinction &amp; Spontaneous recove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0" y="1082160"/>
            <a:ext cx="9144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Extin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diminishing of a conditioned respon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ccurs in classical conditioning when an unconditioned stimulus (US) does not follow a conditioned stimulus (CS)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lso occurs in operant conditioning when a response is no longer reinforced.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**We will discuss later**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Spontaneous recove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ppearance, after a break, of an extinguished conditioned respons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ased on this, Pavlov speculated that extinction was suppressing  a CR, not eliminating i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2" name="Picture 2" descr="http://t2.gstatic.com/images?q=tbn:ANd9GcSroj7p-zHE6X6Obm4z6V07uxK6GUU0ys4jduxVayeiFc_4k6Nu94p8dT7v"/>
          <p:cNvPicPr/>
          <p:nvPr/>
        </p:nvPicPr>
        <p:blipFill>
          <a:blip r:embed="rId1"/>
          <a:stretch/>
        </p:blipFill>
        <p:spPr>
          <a:xfrm>
            <a:off x="138240" y="-4030560"/>
            <a:ext cx="108576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Generaliz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0" y="1143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tendency, once a response has been conditioned, for stimuli similar to the conditioned stimulus to elicit similar respons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John B. Watson, Rosalie Rayner: “Little Albert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riginal CR was fear of white rat; would generalize to rabbits, dogs, etc (but not dissimilar objects like toys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2" descr="http://t2.gstatic.com/images?q=tbn:ANd9GcSroj7p-zHE6X6Obm4z6V07uxK6GUU0ys4jduxVayeiFc_4k6Nu94p8dT7v"/>
          <p:cNvPicPr/>
          <p:nvPr/>
        </p:nvPicPr>
        <p:blipFill>
          <a:blip r:embed="rId1"/>
          <a:stretch/>
        </p:blipFill>
        <p:spPr>
          <a:xfrm>
            <a:off x="138240" y="-4030560"/>
            <a:ext cx="1085760" cy="10857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1" descr="http://www.ritalinfoibles.com/wp-content/uploads/2011/01/albert1.jpg"/>
          <p:cNvPicPr/>
          <p:nvPr/>
        </p:nvPicPr>
        <p:blipFill>
          <a:blip r:embed="rId2"/>
          <a:stretch/>
        </p:blipFill>
        <p:spPr>
          <a:xfrm>
            <a:off x="990720" y="4114800"/>
            <a:ext cx="7086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Discrimin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0" y="10666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learned ability to distinguish between a conditioned stimulus and stimuli that do not signal an unconditioned stimulu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ittle Albert was able to discriminate between white, fuzzy objects (rats, rabbits, dogs, etc) and dissimilar objects like toys, books, et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vlov discovered that his                                               conditioned dogs did not                                                  respond to other ton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10" descr="Discrimination Dog"/>
          <p:cNvPicPr/>
          <p:nvPr/>
        </p:nvPicPr>
        <p:blipFill>
          <a:blip r:embed="rId1"/>
          <a:stretch/>
        </p:blipFill>
        <p:spPr>
          <a:xfrm>
            <a:off x="4648320" y="3657600"/>
            <a:ext cx="4476600" cy="31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Learn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0" y="12193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Learning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relatively permanent change in an organism’s thought and behavior due to experien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Picture 2" descr="http://www.sciencedaily.com/images/2008/12/081208180228-large.jpg"/>
          <p:cNvPicPr/>
          <p:nvPr/>
        </p:nvPicPr>
        <p:blipFill>
          <a:blip r:embed="rId1"/>
          <a:stretch/>
        </p:blipFill>
        <p:spPr>
          <a:xfrm>
            <a:off x="2133720" y="3143160"/>
            <a:ext cx="464796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1029" descr="12673_MyersPsy8e_8UN07"/>
          <p:cNvPicPr/>
          <p:nvPr/>
        </p:nvPicPr>
        <p:blipFill>
          <a:blip r:embed="rId1"/>
          <a:stretch/>
        </p:blipFill>
        <p:spPr>
          <a:xfrm>
            <a:off x="6659640" y="2362320"/>
            <a:ext cx="2514600" cy="31906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1335"/>
          <p:cNvSpPr/>
          <p:nvPr/>
        </p:nvSpPr>
        <p:spPr>
          <a:xfrm>
            <a:off x="14400" y="990720"/>
            <a:ext cx="8443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John Garcia showed that the duration between the CS and the US may be long (hours), but yet result in conditioning. A biologically adaptive CS (taste) led to conditioning but other stimuli (sight or                        sound) did not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2" name="Picture 1336" descr="Garcia"/>
          <p:cNvPicPr/>
          <p:nvPr/>
        </p:nvPicPr>
        <p:blipFill>
          <a:blip r:embed="rId2"/>
          <a:stretch/>
        </p:blipFill>
        <p:spPr>
          <a:xfrm>
            <a:off x="152280" y="3657600"/>
            <a:ext cx="5867640" cy="220968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Garamond"/>
              </a:rPr>
              <a:t>Applications of Classical Conditioning</a:t>
            </a:r>
            <a:endParaRPr b="1" lang="en-US" sz="4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029"/>
          <p:cNvSpPr/>
          <p:nvPr/>
        </p:nvSpPr>
        <p:spPr>
          <a:xfrm>
            <a:off x="0" y="11192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ven humans can develop classically to conditioned nause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5" name="Picture 1032" descr="12673_MyersPsy8e_fig"/>
          <p:cNvPicPr/>
          <p:nvPr/>
        </p:nvPicPr>
        <p:blipFill>
          <a:blip r:embed="rId1"/>
          <a:stretch/>
        </p:blipFill>
        <p:spPr>
          <a:xfrm>
            <a:off x="457200" y="2057400"/>
            <a:ext cx="8229600" cy="41911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Garamond"/>
              </a:rPr>
              <a:t>Applications of Classical Conditioning</a:t>
            </a:r>
            <a:endParaRPr b="1" lang="en-US" sz="4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5840" y="1066680"/>
            <a:ext cx="67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sychologists may suggest that alcoholics use “Antabuse,” a pill that causes nausea when combined with alcoho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use of this drug may serve to condition the alcoholic to become nauseous when drinking alcohol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versive condition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8" name="Picture 2" descr="http://www.antabuse250mg.com/wp-content/uploads/2010/03/antabuse.jpg"/>
          <p:cNvPicPr/>
          <p:nvPr/>
        </p:nvPicPr>
        <p:blipFill>
          <a:blip r:embed="rId1"/>
          <a:stretch/>
        </p:blipFill>
        <p:spPr>
          <a:xfrm>
            <a:off x="6748560" y="3657600"/>
            <a:ext cx="2381040" cy="2571840"/>
          </a:xfrm>
          <a:prstGeom prst="rect">
            <a:avLst/>
          </a:prstGeom>
          <a:ln w="0">
            <a:noFill/>
          </a:ln>
        </p:spPr>
      </p:pic>
      <p:sp>
        <p:nvSpPr>
          <p:cNvPr id="169" name="Title 1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Garamond"/>
              </a:rPr>
              <a:t>Applications of Classical Conditioning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Garamond"/>
              </a:rPr>
              <a:t>Applications of Classical Conditioning</a:t>
            </a:r>
            <a:endParaRPr b="1" lang="en-US" sz="4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Rectangle 1027"/>
          <p:cNvSpPr/>
          <p:nvPr/>
        </p:nvSpPr>
        <p:spPr>
          <a:xfrm>
            <a:off x="0" y="1295280"/>
            <a:ext cx="9144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mer crack cocaine users should avoid cues (people, places) associated with previous drug us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rough classical conditioning, a drug (that has a particular taste) that affects the immune response may cause the taste of the drug (but not the drug itself) to invoke the immune respons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1026" descr="un08-p298-top"/>
          <p:cNvPicPr/>
          <p:nvPr/>
        </p:nvPicPr>
        <p:blipFill>
          <a:blip r:embed="rId1"/>
          <a:stretch/>
        </p:blipFill>
        <p:spPr>
          <a:xfrm>
            <a:off x="6324480" y="2438280"/>
            <a:ext cx="2730600" cy="426744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1027"/>
          <p:cNvSpPr/>
          <p:nvPr/>
        </p:nvSpPr>
        <p:spPr>
          <a:xfrm>
            <a:off x="380880" y="1371600"/>
            <a:ext cx="57279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ohn B. Watson used classical conditioning procedures to develop advertising campaigns for a number of organizations, including Maxwell House, making the “coffee break” an American custo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Garamond"/>
              </a:rPr>
              <a:t>Applications of Classical Conditioning</a:t>
            </a:r>
            <a:endParaRPr b="1" lang="en-US" sz="4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view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840" y="1144080"/>
            <a:ext cx="9144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vide an example of each of the following elements of Classical Conditioning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Garamond"/>
              </a:rPr>
              <a:t>Generaliz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Garamond"/>
              </a:rPr>
              <a:t>Discrimin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Garamond"/>
              </a:rPr>
              <a:t>Extinc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Garamond"/>
              </a:rPr>
              <a:t>Spontaneous Recover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Associative Learn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0" y="12952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Associative Learning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Learning that certain events occur together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20772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an be seen in classical conditioning AND operant condition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20772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Classical Conditioning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455840" indent="-20772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Association of two separate stimuli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3" marL="1455840" indent="-20772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Ivan Pavlov, John B. Watson, John Garcia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20772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Operant Conditioning: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455840" indent="-20772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Association of a response and its consequences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3" marL="1455840" indent="-20772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B.F. Skinner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3505320" y="4495680"/>
            <a:ext cx="439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Garamond"/>
              </a:rPr>
              <a:t>**We will discuss later**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3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Classical Condition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360" y="12193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Classical Conditioning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van Pavlov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(Behavioral Psychologist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ample of associative learn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learning procedure in which associations are made between a natural stimulus and a neutral stimulu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elps organisms anticipate eve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51560" indent="0">
              <a:spcBef>
                <a:spcPts val="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Garamond"/>
            </a:endParaRPr>
          </a:p>
          <a:p>
            <a:pPr lvl="2" marL="1051560" indent="-21024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.g. Dark clouds (natural stimulus) elicit “rain”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51560" indent="0">
              <a:spcBef>
                <a:spcPts val="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Garamond"/>
            </a:endParaRPr>
          </a:p>
          <a:p>
            <a:pPr lvl="2" marL="1051560" indent="-21024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.g. Umbrellas (neutral stimulus), when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aired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ith dark clouds (natural stimulus) elicit “rain”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0" descr="figure 08-02"/>
          <p:cNvPicPr/>
          <p:nvPr/>
        </p:nvPicPr>
        <p:blipFill>
          <a:blip r:embed="rId1"/>
          <a:srcRect l="0" t="0" r="52850" b="71746"/>
          <a:stretch/>
        </p:blipFill>
        <p:spPr>
          <a:xfrm>
            <a:off x="939960" y="1851120"/>
            <a:ext cx="2741400" cy="19112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4" descr="figure 08-02"/>
          <p:cNvPicPr/>
          <p:nvPr/>
        </p:nvPicPr>
        <p:blipFill>
          <a:blip r:embed="rId2"/>
          <a:srcRect l="0" t="48487" r="49931" b="21213"/>
          <a:stretch/>
        </p:blipFill>
        <p:spPr>
          <a:xfrm>
            <a:off x="5267160" y="1822320"/>
            <a:ext cx="2895840" cy="20383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6" descr="figure 08-02"/>
          <p:cNvPicPr/>
          <p:nvPr/>
        </p:nvPicPr>
        <p:blipFill>
          <a:blip r:embed="rId3"/>
          <a:srcRect l="50485" t="26896" r="0" b="51434"/>
          <a:stretch/>
        </p:blipFill>
        <p:spPr>
          <a:xfrm>
            <a:off x="939960" y="4659480"/>
            <a:ext cx="2819160" cy="14364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4"/>
          <p:cNvSpPr/>
          <p:nvPr/>
        </p:nvSpPr>
        <p:spPr>
          <a:xfrm>
            <a:off x="939960" y="1106640"/>
            <a:ext cx="716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arning to associate one stimulus with anoth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Picture 18" descr="figure 08-02"/>
          <p:cNvPicPr/>
          <p:nvPr/>
        </p:nvPicPr>
        <p:blipFill>
          <a:blip r:embed="rId4"/>
          <a:srcRect l="50485" t="75442" r="0" b="0"/>
          <a:stretch/>
        </p:blipFill>
        <p:spPr>
          <a:xfrm>
            <a:off x="5319720" y="4557600"/>
            <a:ext cx="2819520" cy="162720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20"/>
          <p:cNvSpPr/>
          <p:nvPr/>
        </p:nvSpPr>
        <p:spPr>
          <a:xfrm>
            <a:off x="6448320" y="4135320"/>
            <a:ext cx="53352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7e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AutoShape 21"/>
          <p:cNvSpPr/>
          <p:nvPr/>
        </p:nvSpPr>
        <p:spPr>
          <a:xfrm>
            <a:off x="2117880" y="4013280"/>
            <a:ext cx="380880" cy="380880"/>
          </a:xfrm>
          <a:prstGeom prst="plus">
            <a:avLst>
              <a:gd name="adj" fmla="val 36667"/>
            </a:avLst>
          </a:prstGeom>
          <a:solidFill>
            <a:srgbClr val="007e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457200" y="23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Classical Conditioning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Ivan Pavlov</a:t>
            </a:r>
            <a:br>
              <a:rPr sz="4400"/>
            </a:b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(1849-1936)</a:t>
            </a:r>
            <a:br>
              <a:rPr sz="2400"/>
            </a:b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6" name="Picture 9" descr="un08-p291"/>
          <p:cNvPicPr/>
          <p:nvPr/>
        </p:nvPicPr>
        <p:blipFill>
          <a:blip r:embed="rId1"/>
          <a:stretch/>
        </p:blipFill>
        <p:spPr>
          <a:xfrm>
            <a:off x="1066680" y="1365120"/>
            <a:ext cx="7010640" cy="52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Classical Conditioning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Arial"/>
                <a:ea typeface="Arial"/>
              </a:rPr>
              <a:t>Pavlov’s Experiment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8" name="Picture 2" descr="C:\Users\KKorek\Documents\ABCFiles\2013 Myers AP 2e\Images\ImageJPGS_Module26\ImageJPGS_Module26\MyAP2e_fig_26_03.jpg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Classical Condition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0" name="Picture 35" descr="Before Conditioning"/>
          <p:cNvPicPr/>
          <p:nvPr/>
        </p:nvPicPr>
        <p:blipFill>
          <a:blip r:embed="rId1"/>
          <a:stretch/>
        </p:blipFill>
        <p:spPr>
          <a:xfrm>
            <a:off x="243000" y="1219320"/>
            <a:ext cx="8686800" cy="22096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37" descr="After Conditioning"/>
          <p:cNvPicPr/>
          <p:nvPr/>
        </p:nvPicPr>
        <p:blipFill>
          <a:blip r:embed="rId2"/>
          <a:stretch/>
        </p:blipFill>
        <p:spPr>
          <a:xfrm>
            <a:off x="210960" y="3657600"/>
            <a:ext cx="8693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Classical Condition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Title 1"/>
          <p:cNvSpPr/>
          <p:nvPr/>
        </p:nvSpPr>
        <p:spPr>
          <a:xfrm>
            <a:off x="485640" y="5649840"/>
            <a:ext cx="82296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https://www.youtube.com/watch?v=cP5lCleK-P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cP5lCleK-PM" descr=""/>
          <p:cNvPicPr/>
          <p:nvPr/>
        </p:nvPicPr>
        <p:blipFill>
          <a:blip r:embed="rId1"/>
          <a:stretch/>
        </p:blipFill>
        <p:spPr>
          <a:xfrm>
            <a:off x="2286000" y="2143080"/>
            <a:ext cx="4572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45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8" dur="1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04:12:01Z</dcterms:created>
  <dc:creator>Philip S. McCormick</dc:creator>
  <dc:description/>
  <dc:language>en-US</dc:language>
  <cp:lastModifiedBy>Debes John</cp:lastModifiedBy>
  <dcterms:modified xsi:type="dcterms:W3CDTF">2016-12-01T11:32:41Z</dcterms:modified>
  <cp:revision>171</cp:revision>
  <dc:subject/>
  <dc:title>Chapter 8: Sensation and Perception</dc:title>
</cp:coreProperties>
</file>