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6D7B-1EBD-4FDD-A6F0-08BC060DE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DD69-D5A5-461B-BF18-DFB9E91F01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2BF3-1063-4E91-AB40-F4D7A98D0A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D8F0-41D1-4844-B786-71BA9AB7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6CA2-057E-4A8C-AF84-99B351F3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D6E8-6A3E-4CDD-BBA9-0BD47ADA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18EF-A075-41A1-8CBC-FA8FBFED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E89B-0142-43CD-A3A8-4A7C59BE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E9B6-0275-4347-BF10-F453138B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0F81-BF2C-49D4-8B54-824250E1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5FF4-9E73-48E1-8DA4-87D36A7C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53BE-6476-4B08-AA27-BE3DBD35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C2EE-0289-415F-BDFA-02885B04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1427-E5FB-42B2-A525-21C47DA5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E39C-28D0-4011-A76F-8A1E217E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CC16-52CF-4342-A8AB-BBAF84E7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3604-75F3-448D-A7A6-F993E17E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1910-9D1F-4B21-BFC1-BB9FAA28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3281-49DF-488F-83F5-454989C3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87E3-1B50-4275-BE66-64088558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58EB-09A4-47B7-914F-B191F513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2D77-0A47-42AE-93F9-64229D8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3168-E0FA-449F-B512-B5487176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0DE3-636D-46C1-8434-BD6DAE97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5965-DBED-4260-9313-104AB6D6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E714-EBD5-4101-A496-CA8445F4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4389-2A2A-4CAE-8BE7-862A1C8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7B48-9F4F-4283-9564-DE0128EA85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F23-C6D7-46B3-B55C-A34BD4DF03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6 (Mod 26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Classical Condition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lassical Conditioning: Stimuli &amp; Respons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i and Responses in Classical Conditio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eutral Stimulu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imulus that, before conditioning, elicits no respon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Bell before conditio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Unconditioned Stimulus (US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timulus that unconditionally – naturally and automatically – elicits a respons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Unconditioned Response (UR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nlearned, naturally occurring response to the unconditioned stimulus (US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Salivating to the 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lassical Conditioning: Stimuli &amp; Respons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i and Responses in Classical Conditioning (co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nditioned Stimulus (CS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riginally irrelevant stimulus that, after association with an unconditioned stimulus (US), elicits a learned respons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Bell after conditio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nditioned Response (CR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 learned response to a previously neutral (but now conditioned) stimulus (CS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Salivating to the bel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144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ain (in your own words) Classical Conditio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iate between the follow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Neutral Stimul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Unconditioned Stimulus (U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Unconditioned Response (U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Conditioned Stimulus (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Conditioned Response (C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quisition: occurs in both classical &amp; operant conditi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Garamond"/>
              </a:rPr>
              <a:t>Classical Conditioning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l stage, when one links a neutral stimulus and an unconditioned stimu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utral stimulus begins triggering condition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Garamond"/>
              </a:rPr>
              <a:t>Operant Conditioning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rengthening of a reinforc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cqui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3581280" y="44197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aramond"/>
              </a:rPr>
              <a:t>**We will discuss later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cqui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27" descr="12673_MyersPsy8e_fig"/>
          <p:cNvPicPr/>
          <p:nvPr/>
        </p:nvPicPr>
        <p:blipFill>
          <a:blip r:embed="rId1"/>
          <a:stretch/>
        </p:blipFill>
        <p:spPr>
          <a:xfrm>
            <a:off x="380880" y="1398600"/>
            <a:ext cx="83980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im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iming is very important in classical conditi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udies have shown that the CS must precede the US by (at most) ½ - 1 seconds in order to successfully bring about a C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ther types of timing have been studied with classical conditioning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Delayed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precedes the US, but the two stimuli overlap a bit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best timing for condition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Trace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precedes the US, but they do not overlap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the longer the delay, the more difficult conditioning i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Simultaneous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occurs at the same time as the US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results in poor conditioning. CS doesn’t predict the US at all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Backward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occurs AFTER the US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little or no conditioning takes place, unless the response is biologically predisposed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igher-Order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14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dure in which the conditioned stimulus in one experience is paired with a new neutral stimulus, creating a second (often weaker) conditioned stimul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.g. an animal that has learned that a tone predicts food might then learn that a light predicts the tone &amp; begin responding to the light al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referred to as “second-order conditioning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tinction &amp; Spontaneous recove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08216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xti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minishing of a condition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ccurs in classical conditioning when an unconditioned stimulus (US) does not follow a conditioned stimulus (C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occurs in operant conditioning when a response is no longer reinforced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*We will discuss later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pontaneous reco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ppearance, after a break, of an extinguished conditioned respo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ed on this, Pavlov speculated that extinction was suppressing  a CR, not eliminating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2" descr="http://t2.gstatic.com/images?q=tbn:ANd9GcSroj7p-zHE6X6Obm4z6V07uxK6GUU0ys4jduxVayeiFc_4k6Nu94p8dT7v"/>
          <p:cNvPicPr/>
          <p:nvPr/>
        </p:nvPicPr>
        <p:blipFill>
          <a:blip r:embed="rId1"/>
          <a:stretch/>
        </p:blipFill>
        <p:spPr>
          <a:xfrm>
            <a:off x="138240" y="-403056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raliz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endency, once a response has been conditioned, for stimuli similar to the conditioned stimulus to elicit similar respon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n B. Watson, Rosalie Rayner: “Little Alber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iginal CR was fear of white rat; would generalize to rabbits, dogs, etc (but not dissimilar objects like toy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2" descr="http://t2.gstatic.com/images?q=tbn:ANd9GcSroj7p-zHE6X6Obm4z6V07uxK6GUU0ys4jduxVayeiFc_4k6Nu94p8dT7v"/>
          <p:cNvPicPr/>
          <p:nvPr/>
        </p:nvPicPr>
        <p:blipFill>
          <a:blip r:embed="rId1"/>
          <a:stretch/>
        </p:blipFill>
        <p:spPr>
          <a:xfrm>
            <a:off x="138240" y="-403056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www.ritalinfoibles.com/wp-content/uploads/2011/01/albert1.jpg"/>
          <p:cNvPicPr/>
          <p:nvPr/>
        </p:nvPicPr>
        <p:blipFill>
          <a:blip r:embed="rId2"/>
          <a:stretch/>
        </p:blipFill>
        <p:spPr>
          <a:xfrm>
            <a:off x="990720" y="4114800"/>
            <a:ext cx="708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cri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arned ability to distinguish between a conditioned stimulus and stimuli that do not signal an unconditioned stimul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ttle Albert was able to discriminate between white, fuzzy objects (rats, rabbits, dogs, etc) and dissimilar objects like toys, books,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vlov discovered that his                                               conditioned dogs did not                                                  respond to other t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10" descr="Discrimination Dog"/>
          <p:cNvPicPr/>
          <p:nvPr/>
        </p:nvPicPr>
        <p:blipFill>
          <a:blip r:embed="rId1"/>
          <a:stretch/>
        </p:blipFill>
        <p:spPr>
          <a:xfrm>
            <a:off x="4648320" y="3657600"/>
            <a:ext cx="44766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Lear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elatively permanent change in an organism’s thought and behavior due to exper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2" descr="http://www.sciencedaily.com/images/2008/12/081208180228-large.jpg"/>
          <p:cNvPicPr/>
          <p:nvPr/>
        </p:nvPicPr>
        <p:blipFill>
          <a:blip r:embed="rId1"/>
          <a:stretch/>
        </p:blipFill>
        <p:spPr>
          <a:xfrm>
            <a:off x="2133720" y="314316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29" descr="12673_MyersPsy8e_8UN07"/>
          <p:cNvPicPr/>
          <p:nvPr/>
        </p:nvPicPr>
        <p:blipFill>
          <a:blip r:embed="rId1"/>
          <a:stretch/>
        </p:blipFill>
        <p:spPr>
          <a:xfrm>
            <a:off x="6659640" y="2362320"/>
            <a:ext cx="2514600" cy="3190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335"/>
          <p:cNvSpPr/>
          <p:nvPr/>
        </p:nvSpPr>
        <p:spPr>
          <a:xfrm>
            <a:off x="14400" y="990720"/>
            <a:ext cx="84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n Garcia showed that the duration between the CS and the US may be long (hours), but yet result in conditioning. A biologically adaptive CS (taste) led to conditioning but other stimuli (sight or                        sound) did no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1336" descr="Garcia"/>
          <p:cNvPicPr/>
          <p:nvPr/>
        </p:nvPicPr>
        <p:blipFill>
          <a:blip r:embed="rId2"/>
          <a:stretch/>
        </p:blipFill>
        <p:spPr>
          <a:xfrm>
            <a:off x="152280" y="3657600"/>
            <a:ext cx="5867640" cy="2209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029"/>
          <p:cNvSpPr/>
          <p:nvPr/>
        </p:nvSpPr>
        <p:spPr>
          <a:xfrm>
            <a:off x="0" y="1119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n humans can develop classically to conditioned nause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1032" descr="12673_MyersPsy8e_fig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1911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840" y="1066680"/>
            <a:ext cx="67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ychologists may suggest that alcoholics use “Antabuse,” a pill that causes nausea when combined with alcoh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this drug may serve to condition the alcoholic to become nauseous when drinking alcoho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versive conditi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2" descr="http://www.antabuse250mg.com/wp-content/uploads/2010/03/antabuse.jpg"/>
          <p:cNvPicPr/>
          <p:nvPr/>
        </p:nvPicPr>
        <p:blipFill>
          <a:blip r:embed="rId1"/>
          <a:stretch/>
        </p:blipFill>
        <p:spPr>
          <a:xfrm>
            <a:off x="6748560" y="3657600"/>
            <a:ext cx="2381040" cy="257184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Rectangle 1027"/>
          <p:cNvSpPr/>
          <p:nvPr/>
        </p:nvSpPr>
        <p:spPr>
          <a:xfrm>
            <a:off x="0" y="1295280"/>
            <a:ext cx="9144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er crack cocaine users should avoid cues (people, places) associated with previous drug us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rough classical conditioning, a drug (that has a particular taste) that affects the immune response may cause the taste of the drug (but not the drug itself) to invoke the immune respon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026" descr="un08-p298-top"/>
          <p:cNvPicPr/>
          <p:nvPr/>
        </p:nvPicPr>
        <p:blipFill>
          <a:blip r:embed="rId1"/>
          <a:stretch/>
        </p:blipFill>
        <p:spPr>
          <a:xfrm>
            <a:off x="6324480" y="2438280"/>
            <a:ext cx="2730600" cy="4267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027"/>
          <p:cNvSpPr/>
          <p:nvPr/>
        </p:nvSpPr>
        <p:spPr>
          <a:xfrm>
            <a:off x="380880" y="1371600"/>
            <a:ext cx="5727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hn B. Watson used classical conditioning procedures to develop advertising campaigns for a number of organizations, including Maxwell House, making the “coffee break” an American custo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840" y="1144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n example of each of the following elements of Classical Condition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General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Discrim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Exti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Spontaneous Reco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ssociative 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ssociative Lear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Learning that certain events occur togeth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be seen in classical conditioning AND operant conditio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lassical Conditioning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sociation of two separate stimul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van Pavlov, John B. Watson, John Garci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Operant Conditioning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sociation of a response and its consequenc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B.F. Skinne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505320" y="4495680"/>
            <a:ext cx="43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aramond"/>
              </a:rPr>
              <a:t>**We will discuss later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6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assical Conditio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an Pavlov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Behavioral Psychologi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 of associative lear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earning procedure in which associations are made between a natural stimulus and a neutral stimu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s organisms anticipate ev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 Dark clouds (natural stimulus) elicit “rain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 Umbrellas (neutral stimulus),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aired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ith dark clouds (natural stimulus) elicit “rain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figure 08-02"/>
          <p:cNvPicPr/>
          <p:nvPr/>
        </p:nvPicPr>
        <p:blipFill>
          <a:blip r:embed="rId1"/>
          <a:srcRect l="0" t="0" r="52850" b="71746"/>
          <a:stretch/>
        </p:blipFill>
        <p:spPr>
          <a:xfrm>
            <a:off x="939960" y="1851120"/>
            <a:ext cx="2741400" cy="191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figure 08-02"/>
          <p:cNvPicPr/>
          <p:nvPr/>
        </p:nvPicPr>
        <p:blipFill>
          <a:blip r:embed="rId2"/>
          <a:srcRect l="0" t="48487" r="49931" b="21213"/>
          <a:stretch/>
        </p:blipFill>
        <p:spPr>
          <a:xfrm>
            <a:off x="5267160" y="1822320"/>
            <a:ext cx="2895840" cy="203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figure 08-02"/>
          <p:cNvPicPr/>
          <p:nvPr/>
        </p:nvPicPr>
        <p:blipFill>
          <a:blip r:embed="rId3"/>
          <a:srcRect l="50485" t="26896" r="0" b="51434"/>
          <a:stretch/>
        </p:blipFill>
        <p:spPr>
          <a:xfrm>
            <a:off x="939960" y="4659480"/>
            <a:ext cx="2819160" cy="1436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939960" y="110664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to associate one stimulus with an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8" descr="figure 08-02"/>
          <p:cNvPicPr/>
          <p:nvPr/>
        </p:nvPicPr>
        <p:blipFill>
          <a:blip r:embed="rId4"/>
          <a:srcRect l="50485" t="75442" r="0" b="0"/>
          <a:stretch/>
        </p:blipFill>
        <p:spPr>
          <a:xfrm>
            <a:off x="5319720" y="4557600"/>
            <a:ext cx="2819520" cy="16272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0"/>
          <p:cNvSpPr/>
          <p:nvPr/>
        </p:nvSpPr>
        <p:spPr>
          <a:xfrm>
            <a:off x="6448320" y="4135320"/>
            <a:ext cx="53352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2117880" y="4013280"/>
            <a:ext cx="380880" cy="380880"/>
          </a:xfrm>
          <a:prstGeom prst="plus">
            <a:avLst>
              <a:gd name="adj" fmla="val 36667"/>
            </a:avLst>
          </a:prstGeom>
          <a:solidFill>
            <a:srgbClr val="007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57200" y="23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van Pavlov</a:t>
            </a:r>
            <a:br>
              <a:rPr sz="4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1849-1936)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9" descr="un08-p291"/>
          <p:cNvPicPr/>
          <p:nvPr/>
        </p:nvPicPr>
        <p:blipFill>
          <a:blip r:embed="rId1"/>
          <a:stretch/>
        </p:blipFill>
        <p:spPr>
          <a:xfrm>
            <a:off x="1066680" y="1365120"/>
            <a:ext cx="701064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lassical Condition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Pavlov’s Experimen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2" descr="C:\Users\KKorek\Documents\ABCFiles\2013 Myers AP 2e\Images\ImageJPGS_Module26\ImageJPGS_Module26\MyAP2e_fig_26_03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35" descr="Before Conditioning"/>
          <p:cNvPicPr/>
          <p:nvPr/>
        </p:nvPicPr>
        <p:blipFill>
          <a:blip r:embed="rId1"/>
          <a:stretch/>
        </p:blipFill>
        <p:spPr>
          <a:xfrm>
            <a:off x="243000" y="1219320"/>
            <a:ext cx="868680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7" descr="After Conditioning"/>
          <p:cNvPicPr/>
          <p:nvPr/>
        </p:nvPicPr>
        <p:blipFill>
          <a:blip r:embed="rId2"/>
          <a:stretch/>
        </p:blipFill>
        <p:spPr>
          <a:xfrm>
            <a:off x="210960" y="3657600"/>
            <a:ext cx="869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85640" y="5649840"/>
            <a:ext cx="8229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ttps://www.youtube.com/watch?v=cP5lCleK-P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cP5lCleK-PM" descr=""/>
          <p:cNvPicPr/>
          <p:nvPr/>
        </p:nvPicPr>
        <p:blipFill>
          <a:blip r:embed="rId1"/>
          <a:stretch/>
        </p:blipFill>
        <p:spPr>
          <a:xfrm>
            <a:off x="2286000" y="214308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6-12-01T11:32:41Z</dcterms:modified>
  <cp:revision>171</cp:revision>
  <dc:subject/>
  <dc:title>Chapter 8: Sensation and Perception</dc:title>
</cp:coreProperties>
</file>