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4D0D-6DE5-48C3-AE0E-B5B5AE39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6377-8B25-4DB3-AC4F-B05D8AC5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67A7-7ED3-4C8A-BF3C-4D39B8D6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3706-B896-40D2-AA27-15AB8C76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9045-B4A4-4CF1-98C6-59A5BC3F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9576-062E-4EBE-BAC6-69638ED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794-BBC9-4ADA-B8A7-6113527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C12-6EB2-4736-AD22-8B07B8B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EEB6-F016-4B15-B250-B99F4BEB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1648-1485-4E5F-9A84-B8749AD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8482-B58E-4793-B52E-0038EA9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4F23-0DA0-4E18-AD3C-92CDA75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E3FF-1F73-4D58-91CF-CF54EE1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871-CE5A-4700-8233-5ECD52F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6DB-A464-475E-9E64-C96A312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F3A-90DA-4E4D-81D6-72E51B7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F6D3-9C0C-45FA-B38E-7C0E99A4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E519-933D-486D-A12A-4757673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BBE2-FD93-4C2D-A76F-5972578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387D-1BD0-4B31-83E1-88336A07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7C6D-D49E-4DA6-858D-CD6B9200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58CB-D839-4E0D-8436-550E78A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70E9-C742-45A9-AAA5-90A63BC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436E-9629-4FED-9FC0-B40AA46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35A-7743-4ED1-AE67-88DF2966B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C2CC-CDA2-4B4E-BF57-DD6214A9EF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7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mmediate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results in instantaneous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lay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is not rewarded immediate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lab experiments, rats do not respond to reinforcers that are delayed more than 30 sec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s DO respond to delayed reinforcers: weekly paychecks, end of term grad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tern that defines how often a desired response will be reinfor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tinuous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after EVERY desir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rtial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only part of th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quisition is s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resistance to 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uy 10 coffees, get one f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response after an unpredictable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lot mach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time has elap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your mailbox more frequently the closer it gets to its’ normal deliver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at unpredictable time interv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text messages frequently when waiting for a text, although no designated time for said text has been establ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8520" cy="434340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8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Vs. 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640" y="914400"/>
            <a:ext cx="820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s associations between stimuli (CS and 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de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                         an association between                                  behaviors and the resulting                                   ev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pera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030" descr="ClassOperant"/>
          <p:cNvPicPr/>
          <p:nvPr/>
        </p:nvPicPr>
        <p:blipFill>
          <a:blip r:embed="rId1"/>
          <a:stretch/>
        </p:blipFill>
        <p:spPr>
          <a:xfrm>
            <a:off x="5257800" y="2819520"/>
            <a:ext cx="381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dictability is important too: unpredictable (variable) schedules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produced more consistent responses than predictable (fixed) schedule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0" y="7621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vent that tends to (or is meant to) decrease the behavior that precedes i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Studies of punishment have revealed a few important points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ed behavior is suppressed, not era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t’s a temporary, negative reinforcement of the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teaches discrimination among situa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spanking likely doesn’t prevent the child from swearing, but it might stop him/her from swearing around his/he paren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can teach fea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ild might associate fear not just with the swearing that causes the punishment, but also with the punisher or place of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hysical punishment may increase aggres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hysical punishment may model aggression as a way to cope with problem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13040" indent="-113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Straight Connector 6"/>
          <p:cNvSpPr/>
          <p:nvPr/>
        </p:nvSpPr>
        <p:spPr>
          <a:xfrm>
            <a:off x="457200" y="4343400"/>
            <a:ext cx="121932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2362320" y="4343400"/>
            <a:ext cx="129528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ype of learning in which behavior is strengthened if followed by a reinforcer or diminished by a punis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124080" y="3522600"/>
            <a:ext cx="28195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.F. Skinner’s experiments extend Edward Thorndike’s 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law of eff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rndike’s law of effect-states that rewarded behavior is likely to occur again &amp; behaviors that are followed by undesirable consequences will happen less oft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80" y="914400"/>
            <a:ext cx="914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Operant Cha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mber that contained a bar/key that an animal can manipulate to obtain a food/water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ar or key is connected to devices that record the animal’s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known as a “Skinner Box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9" descr="12673_MyersPsy8e_fig"/>
          <p:cNvPicPr/>
          <p:nvPr/>
        </p:nvPicPr>
        <p:blipFill>
          <a:blip r:embed="rId1"/>
          <a:stretch/>
        </p:blipFill>
        <p:spPr>
          <a:xfrm>
            <a:off x="500040" y="3962520"/>
            <a:ext cx="8143920" cy="2666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ha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6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hap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operant conditioning procedure in which reinforcers guide behavior towards the desired target behavior through successive approxim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12673_MyersPsy8e_8UN11"/>
          <p:cNvPicPr/>
          <p:nvPr/>
        </p:nvPicPr>
        <p:blipFill>
          <a:blip r:embed="rId1"/>
          <a:stretch/>
        </p:blipFill>
        <p:spPr>
          <a:xfrm>
            <a:off x="1339920" y="3414600"/>
            <a:ext cx="16858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2673_MyersPsy8e_8UN12"/>
          <p:cNvPicPr/>
          <p:nvPr/>
        </p:nvPicPr>
        <p:blipFill>
          <a:blip r:embed="rId2"/>
          <a:stretch/>
        </p:blipFill>
        <p:spPr>
          <a:xfrm>
            <a:off x="4356000" y="3413160"/>
            <a:ext cx="3775320" cy="2516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095480" y="5929200"/>
            <a:ext cx="69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rat shaped to sniff mines. A manatee shaped to discriminate objects of different shapes, colors and siz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1145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</a:t>
            </a:r>
            <a:r>
              <a:rPr b="1" i="1" lang="en-US" sz="3200" spc="-1" strike="noStrike">
                <a:solidFill>
                  <a:srgbClr val="ff9900"/>
                </a:solidFill>
                <a:latin typeface="Garamond"/>
              </a:rPr>
              <a:t>(reinforcers)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event that strengthen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reinforces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havior it foll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inforcement is a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324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Reinforcement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16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rimary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innately reinforcing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satisfies a biological n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Pizz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dition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gains its reinforcing power through its association with a primary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known as a </a:t>
            </a:r>
            <a:r>
              <a:rPr b="0" i="1" lang="en-US" sz="2800" spc="-1" strike="noStrike">
                <a:solidFill>
                  <a:srgbClr val="ff9900"/>
                </a:solidFill>
                <a:latin typeface="Garamond"/>
              </a:rPr>
              <a:t>secondary reinfor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Mone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6-11-23T13:59:10Z</cp:lastPrinted>
  <dcterms:modified xsi:type="dcterms:W3CDTF">2016-12-06T13:58:20Z</dcterms:modified>
  <cp:revision>200</cp:revision>
  <dc:subject/>
  <dc:title>Chapter 8: Sensation and Perception</dc:title>
</cp:coreProperties>
</file>