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3E42-C81B-4D3F-ACD3-05A13D200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90D9-FF94-4962-9A4C-8A4AB5D77D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FA21-55CC-4DB5-8618-2C382846A82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B123B-85D5-494D-8D6F-D6A364E3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D661-7E59-4924-8265-A36F0C90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1B75B-107B-48EC-AFA1-9692FED8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E2F0-4BB9-4978-82F1-5C7806DA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81DD-DADE-47A9-B6A0-4DB4637C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F9FE-A823-475B-A1E1-69EAD530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F92B-68CC-4FA5-A8FB-5BFDB359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3B29-D964-47EF-B2F5-2ADA7945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DEAF-C71C-4AD9-B1FF-E2843D28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54FD-5F73-474B-9E00-BF1EEF74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DACD-2308-4F91-A2D2-F712AFF1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ACA00-4304-4B65-B9E4-2BF72555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155C-11E7-4A54-A473-7E245B48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F203-D7A3-46E2-B862-BEE365F1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1270-4532-410F-B31E-1BD0B901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BF80-9731-4675-8726-4C992947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0B1C-5A99-420A-AD53-4B73AF38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70C4-4D2A-4DF2-89D4-C1F6CC48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5BBB-0673-457E-B663-B2E65563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979E-D817-4292-8D82-44698D96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B15C-02EB-4C28-8393-4088CE95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9B5F7-C188-4B00-BF23-30D3E53D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1256-6571-43BB-B08E-A4C898CD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D664-5B06-4395-AFFD-1891E2CE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1897-5D4C-4E17-BC89-C211288830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D751-A5B4-4918-8810-06035CD240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6 (Mod 26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Classical Condition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lassical Conditioning: Stimuli &amp; Respons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muli and Responses in Classical Condition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eutral Stimulu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879840" indent="-1756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imulus that, before conditioning, elicits no respon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Bell before conditio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Unconditioned Stimulus (US)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879840" indent="-1756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timulus that unconditionally – naturally and automatically – elicits a respons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Fo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79840" indent="-175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Unconditioned Response (UR)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879840" indent="-1756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nlearned, naturally occurring response to the unconditioned stimulus (US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Salivating to the fo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lassical Conditioning: Stimuli &amp; Respons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muli and Responses in Classical Conditioning (con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nditioned Stimulus (CS)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riginally irrelevant stimulus that, after association with an unconditioned stimulus (US), elicits a learned respons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E.g. Bell after condition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nditioned Response (CR)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 learned response to a previously neutral (but now conditioned) stimulus (CS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E.g. Salivating to the bel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144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ain (in your own words) Classical Condition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iate between the follow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Neutral Stimul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Unconditioned Stimulus (U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Unconditioned Response (U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Conditioned Stimulus (C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Conditioned Response (C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cquisition: occurs in both classical &amp; operant conditio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Garamond"/>
              </a:rPr>
              <a:t>Classical Conditioning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itial stage, when one links a neutral stimulus and an unconditioned stimul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utral stimulus begins triggering conditioned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Garamond"/>
              </a:rPr>
              <a:t>Operant Conditioning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rengthening of a reinforced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9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cqui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3581280" y="4419720"/>
            <a:ext cx="43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aramond"/>
              </a:rPr>
              <a:t>**We will discuss later*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9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cqui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27" descr="12673_MyersPsy8e_fig"/>
          <p:cNvPicPr/>
          <p:nvPr/>
        </p:nvPicPr>
        <p:blipFill>
          <a:blip r:embed="rId1"/>
          <a:stretch/>
        </p:blipFill>
        <p:spPr>
          <a:xfrm>
            <a:off x="380880" y="1398600"/>
            <a:ext cx="83980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im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iming is very important in classical conditio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udies have shown that the CS must precede the US by (at most) ½ - 1 seconds in order to successfully bring about a CR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ther types of timing have been studied with classical conditioning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891360" indent="-178200">
              <a:spcBef>
                <a:spcPts val="6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Garamond"/>
              </a:rPr>
              <a:t>Delayed conditioning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: CS precedes the US, but the two stimuli overlap a bit-</a:t>
            </a:r>
            <a:r>
              <a:rPr b="0" i="1" lang="en-US" sz="2500" spc="-1" strike="noStrike">
                <a:solidFill>
                  <a:srgbClr val="ffffff"/>
                </a:solidFill>
                <a:latin typeface="Garamond"/>
              </a:rPr>
              <a:t>best timing for conditioning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891360" indent="-178200">
              <a:spcBef>
                <a:spcPts val="6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Garamond"/>
              </a:rPr>
              <a:t>Trace conditioning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: CS precedes the US, but they do not overlap-</a:t>
            </a:r>
            <a:r>
              <a:rPr b="0" i="1" lang="en-US" sz="2500" spc="-1" strike="noStrike">
                <a:solidFill>
                  <a:srgbClr val="ffffff"/>
                </a:solidFill>
                <a:latin typeface="Garamond"/>
              </a:rPr>
              <a:t>the longer the delay, the more difficult conditioning is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891360" indent="-178200">
              <a:spcBef>
                <a:spcPts val="6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Garamond"/>
              </a:rPr>
              <a:t>Simultaneous conditioning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: CS occurs at the same time as the US-</a:t>
            </a:r>
            <a:r>
              <a:rPr b="0" i="1" lang="en-US" sz="2500" spc="-1" strike="noStrike">
                <a:solidFill>
                  <a:srgbClr val="ffffff"/>
                </a:solidFill>
                <a:latin typeface="Garamond"/>
              </a:rPr>
              <a:t>results in poor conditioning. CS doesn’t predict the US at all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891360" indent="-178200">
              <a:spcBef>
                <a:spcPts val="6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Garamond"/>
              </a:rPr>
              <a:t>Backward conditioning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: CS occurs AFTER the US-</a:t>
            </a:r>
            <a:r>
              <a:rPr b="0" i="1" lang="en-US" sz="2500" spc="-1" strike="noStrike">
                <a:solidFill>
                  <a:srgbClr val="ffffff"/>
                </a:solidFill>
                <a:latin typeface="Garamond"/>
              </a:rPr>
              <a:t>little or no conditioning takes place, unless the response is biologically predisposed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Higher-Order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149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cedure in which the conditioned stimulus in one experience is paired with a new neutral stimulus, creating a second (often weaker) conditioned stimul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.g. an animal that has learned that a tone predicts food might then learn that a light predicts the tone &amp; begin responding to the light al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referred to as “second-order conditioning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tinction &amp; Spontaneous recove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08216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xtin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iminishing of a conditioned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ccurs in classical conditioning when an unconditioned stimulus (US) does not follow a conditioned stimulus (CS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occurs in operant conditioning when a response is no longer reinforced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*We will discuss later*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pontaneous reco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ppearance, after a break, of an extinguished conditioned respon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ed on this, Pavlov speculated that extinction was suppressing  a CR, not eliminating 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2" descr="http://t2.gstatic.com/images?q=tbn:ANd9GcSroj7p-zHE6X6Obm4z6V07uxK6GUU0ys4jduxVayeiFc_4k6Nu94p8dT7v"/>
          <p:cNvPicPr/>
          <p:nvPr/>
        </p:nvPicPr>
        <p:blipFill>
          <a:blip r:embed="rId1"/>
          <a:stretch/>
        </p:blipFill>
        <p:spPr>
          <a:xfrm>
            <a:off x="138240" y="-4030560"/>
            <a:ext cx="1085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eneraliz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endency, once a response has been conditioned, for stimuli similar to the conditioned stimulus to elicit similar respon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n B. Watson, Rosalie Rayner: “Little Albert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iginal CR was fear of white rat; would generalize to rabbits, dogs, etc (but not dissimilar objects like toy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2" descr="http://t2.gstatic.com/images?q=tbn:ANd9GcSroj7p-zHE6X6Obm4z6V07uxK6GUU0ys4jduxVayeiFc_4k6Nu94p8dT7v"/>
          <p:cNvPicPr/>
          <p:nvPr/>
        </p:nvPicPr>
        <p:blipFill>
          <a:blip r:embed="rId1"/>
          <a:stretch/>
        </p:blipFill>
        <p:spPr>
          <a:xfrm>
            <a:off x="138240" y="-403056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http://www.ritalinfoibles.com/wp-content/uploads/2011/01/albert1.jpg"/>
          <p:cNvPicPr/>
          <p:nvPr/>
        </p:nvPicPr>
        <p:blipFill>
          <a:blip r:embed="rId2"/>
          <a:stretch/>
        </p:blipFill>
        <p:spPr>
          <a:xfrm>
            <a:off x="990720" y="4114800"/>
            <a:ext cx="7086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crim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earned ability to distinguish between a conditioned stimulus and stimuli that do not signal an unconditioned stimul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ttle Albert was able to discriminate between white, fuzzy objects (rats, rabbits, dogs, etc) and dissimilar objects like toys, books, et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vlov discovered that his                                               conditioned dogs did not                                                  respond to other t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10" descr="Discrimination Dog"/>
          <p:cNvPicPr/>
          <p:nvPr/>
        </p:nvPicPr>
        <p:blipFill>
          <a:blip r:embed="rId1"/>
          <a:stretch/>
        </p:blipFill>
        <p:spPr>
          <a:xfrm>
            <a:off x="4648320" y="3657600"/>
            <a:ext cx="44766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Lear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Learn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elatively permanent change in an organism’s thought and behavior due to experi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2" descr="http://www.sciencedaily.com/images/2008/12/081208180228-large.jpg"/>
          <p:cNvPicPr/>
          <p:nvPr/>
        </p:nvPicPr>
        <p:blipFill>
          <a:blip r:embed="rId1"/>
          <a:stretch/>
        </p:blipFill>
        <p:spPr>
          <a:xfrm>
            <a:off x="2133720" y="314316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29" descr="12673_MyersPsy8e_8UN07"/>
          <p:cNvPicPr/>
          <p:nvPr/>
        </p:nvPicPr>
        <p:blipFill>
          <a:blip r:embed="rId1"/>
          <a:stretch/>
        </p:blipFill>
        <p:spPr>
          <a:xfrm>
            <a:off x="6659640" y="2362320"/>
            <a:ext cx="2514600" cy="3190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335"/>
          <p:cNvSpPr/>
          <p:nvPr/>
        </p:nvSpPr>
        <p:spPr>
          <a:xfrm>
            <a:off x="14400" y="990720"/>
            <a:ext cx="84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n Garcia showed that the duration between the CS and the US may be long (hours), but yet result in conditioning. A biologically adaptive CS (taste) led to conditioning but other stimuli (sight or                        sound) did no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1336" descr="Garcia"/>
          <p:cNvPicPr/>
          <p:nvPr/>
        </p:nvPicPr>
        <p:blipFill>
          <a:blip r:embed="rId2"/>
          <a:stretch/>
        </p:blipFill>
        <p:spPr>
          <a:xfrm>
            <a:off x="152280" y="3657600"/>
            <a:ext cx="5867640" cy="2209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Applications of Classical Conditioning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029"/>
          <p:cNvSpPr/>
          <p:nvPr/>
        </p:nvSpPr>
        <p:spPr>
          <a:xfrm>
            <a:off x="0" y="1119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en humans can develop classically to conditioned nause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1032" descr="12673_MyersPsy8e_fig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1911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Applications of Classical Conditioning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840" y="1066680"/>
            <a:ext cx="67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ychologists may suggest that alcoholics use “Antabuse,” a pill that causes nausea when combined with alcoh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use of this drug may serve to condition the alcoholic to become nauseous when drinking alcoho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versive conditio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2" descr="http://www.antabuse250mg.com/wp-content/uploads/2010/03/antabuse.jpg"/>
          <p:cNvPicPr/>
          <p:nvPr/>
        </p:nvPicPr>
        <p:blipFill>
          <a:blip r:embed="rId1"/>
          <a:stretch/>
        </p:blipFill>
        <p:spPr>
          <a:xfrm>
            <a:off x="6748560" y="3657600"/>
            <a:ext cx="2381040" cy="2571840"/>
          </a:xfrm>
          <a:prstGeom prst="rect">
            <a:avLst/>
          </a:prstGeom>
          <a:ln w="0">
            <a:noFill/>
          </a:ln>
        </p:spPr>
      </p:pic>
      <p:sp>
        <p:nvSpPr>
          <p:cNvPr id="169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Applications of Classical Conditioning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Applications of Classical Conditioning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Rectangle 1027"/>
          <p:cNvSpPr/>
          <p:nvPr/>
        </p:nvSpPr>
        <p:spPr>
          <a:xfrm>
            <a:off x="0" y="1295280"/>
            <a:ext cx="9144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er crack cocaine users should avoid cues (people, places) associated with previous drug us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rough classical conditioning, a drug (that has a particular taste) that affects the immune response may cause the taste of the drug (but not the drug itself) to invoke the immune respon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026" descr="un08-p298-top"/>
          <p:cNvPicPr/>
          <p:nvPr/>
        </p:nvPicPr>
        <p:blipFill>
          <a:blip r:embed="rId1"/>
          <a:stretch/>
        </p:blipFill>
        <p:spPr>
          <a:xfrm>
            <a:off x="6324480" y="2438280"/>
            <a:ext cx="2730600" cy="4267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027"/>
          <p:cNvSpPr/>
          <p:nvPr/>
        </p:nvSpPr>
        <p:spPr>
          <a:xfrm>
            <a:off x="380880" y="1371600"/>
            <a:ext cx="5727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hn B. Watson used classical conditioning procedures to develop advertising campaigns for a number of organizations, including Maxwell House, making the “coffee break” an American custo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Applications of Classical Conditioning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840" y="1144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n example of each of the following elements of Classical Condition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General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Discrimin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Exti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Spontaneous Recov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ssociative Lear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ssociative Learn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Learning that certain events occur togeth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 be seen in classical conditioning AND operant conditio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lassical Conditioning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sociation of two separate stimuli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van Pavlov, John B. Watson, John Garci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Operant Conditioning: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sociation of a response and its consequenc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B.F. Skinner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3505320" y="4495680"/>
            <a:ext cx="439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aramond"/>
              </a:rPr>
              <a:t>**We will discuss later*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lassical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6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assical Condition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van Pavlov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Behavioral Psychologi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 of associative lear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learning procedure in which associations are made between a natural stimulus and a neutral stimul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lps organisms anticipate ev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 Dark clouds (natural stimulus) elicit “rain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 Umbrellas (neutral stimulus), w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aired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ith dark clouds (natural stimulus) elicit “rain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figure 08-02"/>
          <p:cNvPicPr/>
          <p:nvPr/>
        </p:nvPicPr>
        <p:blipFill>
          <a:blip r:embed="rId1"/>
          <a:srcRect l="0" t="0" r="52850" b="71746"/>
          <a:stretch/>
        </p:blipFill>
        <p:spPr>
          <a:xfrm>
            <a:off x="939960" y="1851120"/>
            <a:ext cx="2741400" cy="1911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figure 08-02"/>
          <p:cNvPicPr/>
          <p:nvPr/>
        </p:nvPicPr>
        <p:blipFill>
          <a:blip r:embed="rId2"/>
          <a:srcRect l="0" t="48487" r="49931" b="21213"/>
          <a:stretch/>
        </p:blipFill>
        <p:spPr>
          <a:xfrm>
            <a:off x="5267160" y="1822320"/>
            <a:ext cx="2895840" cy="2038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figure 08-02"/>
          <p:cNvPicPr/>
          <p:nvPr/>
        </p:nvPicPr>
        <p:blipFill>
          <a:blip r:embed="rId3"/>
          <a:srcRect l="50485" t="26896" r="0" b="51434"/>
          <a:stretch/>
        </p:blipFill>
        <p:spPr>
          <a:xfrm>
            <a:off x="939960" y="4659480"/>
            <a:ext cx="2819160" cy="1436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939960" y="110664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ing to associate one stimulus with ano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18" descr="figure 08-02"/>
          <p:cNvPicPr/>
          <p:nvPr/>
        </p:nvPicPr>
        <p:blipFill>
          <a:blip r:embed="rId4"/>
          <a:srcRect l="50485" t="75442" r="0" b="0"/>
          <a:stretch/>
        </p:blipFill>
        <p:spPr>
          <a:xfrm>
            <a:off x="5319720" y="4557600"/>
            <a:ext cx="2819520" cy="16272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0"/>
          <p:cNvSpPr/>
          <p:nvPr/>
        </p:nvSpPr>
        <p:spPr>
          <a:xfrm>
            <a:off x="6448320" y="4135320"/>
            <a:ext cx="53352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AutoShape 21"/>
          <p:cNvSpPr/>
          <p:nvPr/>
        </p:nvSpPr>
        <p:spPr>
          <a:xfrm>
            <a:off x="2117880" y="4013280"/>
            <a:ext cx="380880" cy="380880"/>
          </a:xfrm>
          <a:prstGeom prst="plus">
            <a:avLst>
              <a:gd name="adj" fmla="val 36667"/>
            </a:avLst>
          </a:prstGeom>
          <a:solidFill>
            <a:srgbClr val="007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457200" y="23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lassical Conditio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van Pavlov</a:t>
            </a:r>
            <a:br>
              <a:rPr sz="4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1849-1936)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9" descr="un08-p291"/>
          <p:cNvPicPr/>
          <p:nvPr/>
        </p:nvPicPr>
        <p:blipFill>
          <a:blip r:embed="rId1"/>
          <a:stretch/>
        </p:blipFill>
        <p:spPr>
          <a:xfrm>
            <a:off x="1066680" y="1365120"/>
            <a:ext cx="701064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lassical Conditioning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Pavlov’s Experiment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2" descr="C:\Users\KKorek\Documents\ABCFiles\2013 Myers AP 2e\Images\ImageJPGS_Module26\ImageJPGS_Module26\MyAP2e_fig_26_03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lassical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35" descr="Before Conditioning"/>
          <p:cNvPicPr/>
          <p:nvPr/>
        </p:nvPicPr>
        <p:blipFill>
          <a:blip r:embed="rId1"/>
          <a:stretch/>
        </p:blipFill>
        <p:spPr>
          <a:xfrm>
            <a:off x="243000" y="1219320"/>
            <a:ext cx="8686800" cy="2209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7" descr="After Conditioning"/>
          <p:cNvPicPr/>
          <p:nvPr/>
        </p:nvPicPr>
        <p:blipFill>
          <a:blip r:embed="rId2"/>
          <a:stretch/>
        </p:blipFill>
        <p:spPr>
          <a:xfrm>
            <a:off x="210960" y="3657600"/>
            <a:ext cx="869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lassical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485640" y="5649840"/>
            <a:ext cx="82296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ttps://www.youtube.com/watch?v=cP5lCleK-P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cP5lCleK-PM" descr=""/>
          <p:cNvPicPr/>
          <p:nvPr/>
        </p:nvPicPr>
        <p:blipFill>
          <a:blip r:embed="rId1"/>
          <a:stretch/>
        </p:blipFill>
        <p:spPr>
          <a:xfrm>
            <a:off x="2286000" y="214308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8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6-12-01T11:32:41Z</dcterms:modified>
  <cp:revision>171</cp:revision>
  <dc:subject/>
  <dc:title>Chapter 8: Sensation and Perception</dc:title>
</cp:coreProperties>
</file>