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53D1-2584-4CA5-85F3-5370632AE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AA37-B958-47CD-AFA3-D950722672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B519-01DD-4D94-BD39-C3ADFB4EAB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FC52-3035-4E5C-8546-90E34B7E38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702C-8B49-4732-BBA7-6AF21933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8F28-5157-4F5D-8830-D6DC8197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A9B1-18AF-4370-8EAF-2147F44F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A8C7-CEFA-428C-9870-960185F9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79A2-5E89-4D0F-9827-755F3AD4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CD21-D4C0-4279-BC78-7D8C56ED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4E1E-10D0-439A-B190-26250086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196B-8B78-4D2D-828C-617177D0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F426-876A-4CE7-BDF5-FA0E18DA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7A3A-18B7-4C6C-9F09-EAED2B59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C00B-C137-4B36-8BCA-F087219A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7364-2FF9-43A2-8D8D-E8852ED1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681B-4445-4E0A-935A-52ABF7F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321C-6190-4D60-8175-A0C6C7C1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4D16-92A5-40FE-8FCA-02902946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F0FB-1FFA-4CCD-944F-18FD0E7F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1F6F-900A-4D5F-9CDD-1C10360D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3307-4A70-462A-97CB-1163C294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7709-5B3A-414D-9E82-995085AF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1E06-773F-4967-BBA2-07249FDB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2ADE-DEAC-44B9-9D9A-1E318EBE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AB56-9A8E-4D3D-A55B-E5242734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A382-F087-4FA6-960F-77FCE874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0C7E-3FA9-4F79-AE09-5BFA61B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28EE-F10D-4855-BFEC-FC48A6D2D5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9E21-DCD9-4D22-978D-08314A4F7A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F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Statistics in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Psychological Research:</a:t>
            </a:r>
            <a:br>
              <a:rPr sz="5400"/>
            </a:b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240" y="1142640"/>
            <a:ext cx="90676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kewed Distrib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osi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-scores pull the mean toward the higher end of the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a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-scores pull the mean toward the lower end of the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Content Placeholder 4" descr="Skewness_PosNegPict.jpg"/>
          <p:cNvPicPr/>
          <p:nvPr/>
        </p:nvPicPr>
        <p:blipFill>
          <a:blip r:embed="rId1"/>
          <a:stretch/>
        </p:blipFill>
        <p:spPr>
          <a:xfrm>
            <a:off x="762120" y="3733920"/>
            <a:ext cx="723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itively Skewed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figure-02-12"/>
          <p:cNvPicPr/>
          <p:nvPr/>
        </p:nvPicPr>
        <p:blipFill>
          <a:blip r:embed="rId1"/>
          <a:stretch/>
        </p:blipFill>
        <p:spPr>
          <a:xfrm>
            <a:off x="266760" y="2362320"/>
            <a:ext cx="86104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ang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fference between the highest and lowest scores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d measure of how much scores vary around the me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alculating 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your set of data, calculate the me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tract the mean from each item of data (half of your outcomes will be negative).  This is the DEVIATION of each value from the me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quare each devi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 all of the squares from step 3, and divide by the number of items in the data set.  This is the VARIANCE. 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ke the square root of the variance.  This is the STANDARD DEVIATION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-124920" y="1403280"/>
            <a:ext cx="49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Set 1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4, 45, 47, 48, 49, 51, 52, 53, 55, 5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726080" y="1390680"/>
            <a:ext cx="45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Set 2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, 3 , 5, 7, 9, 17, 48, 49, 137, 22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136440" y="2233440"/>
            <a:ext cx="451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alculate mean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00/10=5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) Subtract mean from each data poin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-6, -5, -3, -2, -1, 1, 2, 3, 5, 6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(these are the individual deviations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) Square each individual deviation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6, 25, 9, 4, 1, 1, 4, 9, 25, 3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) Add all squares, then divide by items in the data set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50/10=15 (VARIANCE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) Find the square root of the variance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.87 (STANDARD DEVIATION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581360" y="2257560"/>
            <a:ext cx="451188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alculate mean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00/10=5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) Subtract mean from each data poin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-48, -47, -45, -43, -41, -33, -2, -1,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87, 173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(these are the individual deviations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) Square each individual deviation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304, 2209, 2025, 1849, 1681, 1089, 4, 1, 7569, 29929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) Add all squares, then divide by items in the data se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8660/10=4866(VARIANCE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) Find the square root of the variance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69.76 (STANDARD DEVIATION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0" dur="20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f3e0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Usefulness of 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deviation gives a better gauge of whether a set of scores are packed closely together, or more widely dispers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higher the standard deviation, the less similar the scores 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ture, large numbers of data often form a bell-shaped distribution, called a “normal curv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 normal curve, most cases fall near the mean, and fewer cases fall near the extre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rmal Distrib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2" descr="http://www.ifa.com/images/12steps/step8/f8-1.jpg"/>
          <p:cNvPicPr/>
          <p:nvPr/>
        </p:nvPicPr>
        <p:blipFill>
          <a:blip r:embed="rId1"/>
          <a:stretch/>
        </p:blipFill>
        <p:spPr>
          <a:xfrm>
            <a:off x="0" y="119556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Z-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920" y="8380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 z-score is the number of standard deviations a score is from the me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f a Z-Sco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a value of 0, it is equal to the group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qual to +1, it is 1 Standard Deviation above the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qual to -2, it is 2 Standard Deviations below the me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Z-Scores can help us understa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 typical a particular score is within bunch of scor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data are normally distributed, approximately 95% of the data should have Z-score between -2 and +2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2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-scores that do not fall within this range may be less typical of the data in a bunch of scores</a:t>
            </a:r>
            <a:r>
              <a:rPr b="0" lang="en-US" sz="11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4" descr="Standard Deviation"/>
          <p:cNvPicPr/>
          <p:nvPr/>
        </p:nvPicPr>
        <p:blipFill>
          <a:blip r:embed="rId1"/>
          <a:stretch/>
        </p:blipFill>
        <p:spPr>
          <a:xfrm>
            <a:off x="76320" y="1523880"/>
            <a:ext cx="8915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2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the difference between the following types of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at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Nominal, Ordinal, Interval, Rat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ormal distribu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c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ositive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gatively-skew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stribu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the difference between th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sures of vari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Range &amp; 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Z-sco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  How is it compu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6002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llection, classification, analysis, and interpretation of numerical psychological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escriptive Statistic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scribes collected dat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requency Distributio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2" descr="http://www.penn-olson.com/wp-content/uploads/2009/10/statistics.jpg"/>
          <p:cNvPicPr/>
          <p:nvPr/>
        </p:nvPicPr>
        <p:blipFill>
          <a:blip r:embed="rId1"/>
          <a:stretch/>
        </p:blipFill>
        <p:spPr>
          <a:xfrm>
            <a:off x="5638680" y="2514600"/>
            <a:ext cx="327672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Psychological Da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omi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tego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ume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Favorite ice cream flav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Ordi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d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umer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 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, 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, 3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pl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http://illuminations.nctm.org/Lessons/ConnectingCubes/SampleBarGraph.jpg"/>
          <p:cNvPicPr/>
          <p:nvPr/>
        </p:nvPicPr>
        <p:blipFill>
          <a:blip r:embed="rId1"/>
          <a:stretch/>
        </p:blipFill>
        <p:spPr>
          <a:xfrm>
            <a:off x="4952880" y="2857680"/>
            <a:ext cx="4013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Psychological Da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Interv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qual interval between points; no true zero poi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umerical; can compute mea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Degrees in Fahrenhe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Rati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qual interval between points; tru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zero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i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umerical; can compute mea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istogra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Height/weigh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2" descr="http://media.techtarget.com/digitalguide/images/Misc/iw_histogram.gif"/>
          <p:cNvPicPr/>
          <p:nvPr/>
        </p:nvPicPr>
        <p:blipFill>
          <a:blip r:embed="rId1"/>
          <a:stretch/>
        </p:blipFill>
        <p:spPr>
          <a:xfrm>
            <a:off x="6245280" y="2955960"/>
            <a:ext cx="2895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http://www.mymarketresearchmethods.com/wp-content/uploads/2012/11/summary-of-data-types.p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erential Stat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ow us to determine if results can be generalized to a larger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reason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fer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bout the population in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 sample is very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e-everyone in the target population has an equal chance of being selected for the sa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e size-the larger the sample size, the better, but there are trade-offs in time &amp; money when it comes to samp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al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likely it is than an obtained result occurred by ch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level of significance is selected prior to conducting statistical analysis. Traditionally, either the 0.05 level (sometimes called the 5% level) or the 0.01 level (1% level) is used. If the probability is less than or equal to the significance level, then the outcome is said to be statistically significant. The 0.01 level is more conservative than the 0.05 leve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41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rithmetic averag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tained by adding all scores together, and dividing by the number of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di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iddle scor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lf of the scores are above it and half are below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st frequently occurring score(s)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7621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istribution: the way scores are distributed (spread out) around the mean sc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ormal Distribution (normal curve/bell curve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mmetrical, Bell-shaped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, Median, Mode all are the sa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Content Placeholder 4" descr="normal.gif"/>
          <p:cNvPicPr/>
          <p:nvPr/>
        </p:nvPicPr>
        <p:blipFill>
          <a:blip r:embed="rId1"/>
          <a:stretch/>
        </p:blipFill>
        <p:spPr>
          <a:xfrm>
            <a:off x="609480" y="3276720"/>
            <a:ext cx="777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6-08-26T13:42:46Z</dcterms:modified>
  <cp:revision>217</cp:revision>
  <dc:subject/>
  <dc:title>Chapter 8: Sensation and Perception</dc:title>
</cp:coreProperties>
</file>