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D06F-00BE-4C99-A957-F4BD88FF4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6BBE-B5C5-47DB-AA53-12A6D71D07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1E0B-C8B9-4C34-A1C2-155ACA413A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4F21-7026-4004-B9DA-F3697E2255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7B47-3FDE-43A4-94B2-4BC3BB51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CD72-7712-4EFC-B57B-D8C1B6A2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4931-1A29-407D-931E-7B944D7A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BBFA-5179-446F-BC0A-C91A5B8F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F99C-8C15-4A78-8527-86F5B237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0622-9858-40EA-A33D-4B28FE67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1261-152A-4766-AD9B-558066EF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2F95-6458-486C-9D22-D2396034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16E8-D75C-4A7A-B746-B1108383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6135-8B22-4D51-8FEB-E9C6C46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E51E-FBFE-4E81-BF1C-59B2F90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CA8E-4480-414A-ABB8-8D5D7AF6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4FC3-7E9D-4DF2-B3CC-0C8F709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FEAE-5AA2-4BF1-BED1-B44AA87F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B693-0756-4E29-B62B-51CCAC94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B2D8-E7E3-4D08-8927-3C1F3197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F800-C030-4CE0-ADD2-BA5EFEFD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74BC-F9AD-4DBC-9B87-669240DA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A99A-563B-4A12-9865-48A53955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F5C0-B192-41A6-BF3E-07D474A3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A646-E9A6-487A-B34A-D15A226B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EDB1-FB59-4C87-9BBA-574837C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CA2A-BD68-4908-9673-752631AC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1B0D-2885-4F43-8486-8235171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D817-577A-48EA-A828-DDD4EB38AF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1840-B080-4A89-ACE9-809F1AC8D6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F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Statistics in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Psychological Research:</a:t>
            </a:r>
            <a:br>
              <a:rPr sz="5400"/>
            </a:b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240" y="1142640"/>
            <a:ext cx="9067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kewed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si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high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a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low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Content Placeholder 4" descr="Skewness_PosNegPict.jpg"/>
          <p:cNvPicPr/>
          <p:nvPr/>
        </p:nvPicPr>
        <p:blipFill>
          <a:blip r:embed="rId1"/>
          <a:stretch/>
        </p:blipFill>
        <p:spPr>
          <a:xfrm>
            <a:off x="762120" y="37339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itively Skewe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figure-02-12"/>
          <p:cNvPicPr/>
          <p:nvPr/>
        </p:nvPicPr>
        <p:blipFill>
          <a:blip r:embed="rId1"/>
          <a:stretch/>
        </p:blipFill>
        <p:spPr>
          <a:xfrm>
            <a:off x="266760" y="2362320"/>
            <a:ext cx="86104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ang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fference between the highest and lowest scores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d measure of how much scores vary around the me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alculating 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your set of data, calculate the me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tract the mean from each item of data (half of your outcomes will be negative).  This is the DEVIATION of each value from the me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quare each devi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 all of the squares from step 3, and divide by the number of items in the data set.  This is the VARIANCE. 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ke the square root of the variance.  This is the STANDARD DEVIATION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-124920" y="1403280"/>
            <a:ext cx="49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Set 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4, 45, 47, 48, 49, 51, 52, 53, 55, 5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726080" y="139068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Set 2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, 3 , 5, 7, 9, 17, 48, 49, 137, 22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136440" y="2233440"/>
            <a:ext cx="451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alculate mean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00/10=5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) Subtract mean from each data po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-6, -5, -3, -2, -1, 1, 2, 3, 5, 6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(these are the individual deviations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) Square each individual deviation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6, 25, 9, 4, 1, 1, 4, 9, 25, 3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) Add all squares, then divide by items in the data set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50/10=15 (VARIANCE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) Find the square root of the variance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.87 (STANDARD DEVIATION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581360" y="2257560"/>
            <a:ext cx="45118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alculate mean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00/10=5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) Subtract mean from each data po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-48, -47, -45, -43, -41, -33, -2, -1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87, 173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(these are the individual deviations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) Square each individual deviation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304, 2209, 2025, 1849, 1681, 1089, 4, 1, 7569, 29929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) Add all squares, then divide by items in the data se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8660/10=4866(VARIANCE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) Find the square root of the variance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69.76 (STANDARD DEVIATION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0" dur="2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f3e0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Usefulness of 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deviation gives a better gauge of whether a set of scores are packed closely together, or more widely disper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igher the standard deviation, the less similar the scores 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ture, large numbers of data often form a bell-shaped distribution, called a “normal curv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 normal curve, most cases fall near the mean, and fewer cases fall near the extre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rmal Distrib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2" descr="http://www.ifa.com/images/12steps/step8/f8-1.jpg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Z-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920" y="838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 z-score is the number of standard deviations a score is from the me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 a Z-Sco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a value of 0, it is equal to the group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+1, it is 1 Standard Deviation above the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-2, it is 2 Standard Deviations below the me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Z-Scores can help us understa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typical a particular score is within bunch of scor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data are normally distributed, approximately 95% of the data should have Z-score between -2 and +2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2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-scores that do not fall within this range may be less typical of the data in a bunch of scores</a:t>
            </a:r>
            <a:r>
              <a:rPr b="0" lang="en-US" sz="11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4" descr="Standard Deviation"/>
          <p:cNvPicPr/>
          <p:nvPr/>
        </p:nvPicPr>
        <p:blipFill>
          <a:blip r:embed="rId1"/>
          <a:stretch/>
        </p:blipFill>
        <p:spPr>
          <a:xfrm>
            <a:off x="76320" y="15238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2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following types of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at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Nominal, Ordinal, Interval, Rat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ormal distribu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c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ositive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gatively-skew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stribu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sures of vari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Range &amp; 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Z-sc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  How is it compu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6002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llection, classification, analysis, and interpretation of numerical psychological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scriptive Statistic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scribes collected dat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requency Distribu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2" descr="http://www.penn-olson.com/wp-content/uploads/2009/10/statistics.jpg"/>
          <p:cNvPicPr/>
          <p:nvPr/>
        </p:nvPicPr>
        <p:blipFill>
          <a:blip r:embed="rId1"/>
          <a:stretch/>
        </p:blipFill>
        <p:spPr>
          <a:xfrm>
            <a:off x="5638680" y="2514600"/>
            <a:ext cx="327672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m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tego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Favorite ice cream flav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Ord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3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http://illuminations.nctm.org/Lessons/ConnectingCubes/SampleBarGraph.jpg"/>
          <p:cNvPicPr/>
          <p:nvPr/>
        </p:nvPicPr>
        <p:blipFill>
          <a:blip r:embed="rId1"/>
          <a:stretch/>
        </p:blipFill>
        <p:spPr>
          <a:xfrm>
            <a:off x="4952880" y="2857680"/>
            <a:ext cx="4013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Interv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no true zero 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Degrees in Fahrenhe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ati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tru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ero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Height/weigh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2" descr="http://media.techtarget.com/digitalguide/images/Misc/iw_histogram.gif"/>
          <p:cNvPicPr/>
          <p:nvPr/>
        </p:nvPicPr>
        <p:blipFill>
          <a:blip r:embed="rId1"/>
          <a:stretch/>
        </p:blipFill>
        <p:spPr>
          <a:xfrm>
            <a:off x="6245280" y="2955960"/>
            <a:ext cx="2895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http://www.mymarketresearchmethods.com/wp-content/uploads/2012/11/summary-of-data-types.p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erential Stat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generalized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al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likely it is than an obtained result occurred by ch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evel of significance is selected prior to conducting statistical analysis. Traditionally, either the 0.05 level (sometimes called the 5% level) or the 0.01 level (1% level) is used. If the probability is less than or equal to the significance level, then the outcome is said to be statistically significant. The 0.01 level is more conservative than the 0.05 leve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ithmetic averag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ed by adding all scores together, and dividing by the number of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di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ddle scor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f of the scores are above it and half are below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st frequently occurring score(s)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7621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istribution: the way scores are distributed (spread out) around the mean sc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rmal Distribution (normal curve/bell curve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metrical, Bell-shaped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, Median, Mode all are the s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Content Placeholder 4" descr="normal.gif"/>
          <p:cNvPicPr/>
          <p:nvPr/>
        </p:nvPicPr>
        <p:blipFill>
          <a:blip r:embed="rId1"/>
          <a:stretch/>
        </p:blipFill>
        <p:spPr>
          <a:xfrm>
            <a:off x="609480" y="327672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6-08-26T13:42:46Z</dcterms:modified>
  <cp:revision>217</cp:revision>
  <dc:subject/>
  <dc:title>Chapter 8: Sensation and Perception</dc:title>
</cp:coreProperties>
</file>