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9A82-9CA2-487F-A311-42C801F68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08AF-2686-457B-B7A0-B01F9F8F33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D32F-60DD-41EB-AF9A-90A9FE0F2B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578A-7361-4955-BE73-9347BE0C07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6CB1-62D9-424C-A8E8-93F8665F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4373-28CF-4AB5-A2C4-7E3F8C9C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6D15-2BF3-4368-8940-E0E9F670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13E9-4627-41C7-A69F-55F64DEB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7D55-691F-491B-82E8-9074D24D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DC64-9BCF-4BEB-B892-9F12BA66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5E2C-5856-4557-896A-7B23E173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E1CD-EAA4-4BCA-9C43-0833C87E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8B4E-F6BE-48FA-A6FA-2B79E7B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EC4D-58DF-4150-BEDF-53C62835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296F-EA64-40B6-B5B1-BF9207D1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E5CC-44CC-4DFE-890F-4D031D7C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8D74-6397-483D-8CE3-E3529C0C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7A2B-4022-41B3-B018-FA0E163E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4FF3-13FE-4FCE-B983-7E11E325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6A10-B770-43ED-8D9F-AD1FE739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A40D-B9C1-4C27-BCBC-1B3402B4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2168-F758-4561-9386-7668DC06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9BFF-DA3E-43EF-9DFA-CFAFA29A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27DF-279A-4DDE-BE52-AEA19081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95A2-B731-4BB4-8B90-10BF8D10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667A-570A-4D84-9F45-51C11D66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091E-BA78-41DC-8F8A-D7B4954D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7198-E7B5-4A33-AFAF-089953C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FE28-F31A-4421-A67D-AF9F1AF592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04BF-A7AD-47A0-A709-72FDC1A45F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F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Statistics in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Psychological Research:</a:t>
            </a:r>
            <a:br>
              <a:rPr sz="5400"/>
            </a:b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240" y="1142640"/>
            <a:ext cx="9067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kewed Distrib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osi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high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a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low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Content Placeholder 4" descr="Skewness_PosNegPict.jpg"/>
          <p:cNvPicPr/>
          <p:nvPr/>
        </p:nvPicPr>
        <p:blipFill>
          <a:blip r:embed="rId1"/>
          <a:stretch/>
        </p:blipFill>
        <p:spPr>
          <a:xfrm>
            <a:off x="762120" y="373392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itively Skewe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figure-02-12"/>
          <p:cNvPicPr/>
          <p:nvPr/>
        </p:nvPicPr>
        <p:blipFill>
          <a:blip r:embed="rId1"/>
          <a:stretch/>
        </p:blipFill>
        <p:spPr>
          <a:xfrm>
            <a:off x="266760" y="2362320"/>
            <a:ext cx="86104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ang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fference between the highest and lowest scores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d measure of how much scores vary around the me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alculating 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your set of data, calculate the me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tract the mean from each item of data (half of your outcomes will be negative).  This is the DEVIATION of each value from the me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quare each devi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 all of the squares from step 3, and divide by the number of items in the data set.  This is the VARIANCE. 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ke the square root of the variance.  This is the STANDARD DEVIATION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-124920" y="1403280"/>
            <a:ext cx="49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Set 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4, 45, 47, 48, 49, 51, 52, 53, 55, 5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726080" y="1390680"/>
            <a:ext cx="45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Set 2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, 3 , 5, 7, 9, 17, 48, 49, 137, 22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136440" y="2233440"/>
            <a:ext cx="451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alculate mean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00/10=5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) Subtract mean from each data po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-6, -5, -3, -2, -1, 1, 2, 3, 5, 6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(these are the individual deviations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) Square each individual deviation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6, 25, 9, 4, 1, 1, 4, 9, 25, 3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) Add all squares, then divide by items in the data set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50/10=15 (VARIANCE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) Find the square root of the variance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.87 (STANDARD DEVIATION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581360" y="2257560"/>
            <a:ext cx="451188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alculate mean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00/10=5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) Subtract mean from each data po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-48, -47, -45, -43, -41, -33, -2, -1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87, 173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(these are the individual deviations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) Square each individual deviation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304, 2209, 2025, 1849, 1681, 1089, 4, 1, 7569, 29929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) Add all squares, then divide by items in the data se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8660/10=4866(VARIANCE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) Find the square root of the variance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69.76 (STANDARD DEVIATION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0" dur="2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f3e0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Usefulness of 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deviation gives a better gauge of whether a set of scores are packed closely together, or more widely disper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igher the standard deviation, the less similar the scores 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ture, large numbers of data often form a bell-shaped distribution, called a “normal curv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 normal curve, most cases fall near the mean, and fewer cases fall near the extre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rmal Distrib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2" descr="http://www.ifa.com/images/12steps/step8/f8-1.jpg"/>
          <p:cNvPicPr/>
          <p:nvPr/>
        </p:nvPicPr>
        <p:blipFill>
          <a:blip r:embed="rId1"/>
          <a:stretch/>
        </p:blipFill>
        <p:spPr>
          <a:xfrm>
            <a:off x="0" y="119556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Z-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920" y="838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 z-score is the number of standard deviations a score is from the me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 a Z-Sco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a value of 0, it is equal to the group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+1, it is 1 Standard Deviation above the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-2, it is 2 Standard Deviations below the me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Z-Scores can help us understa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typical a particular score is within bunch of scor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data are normally distributed, approximately 95% of the data should have Z-score between -2 and +2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2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-scores that do not fall within this range may be less typical of the data in a bunch of scores</a:t>
            </a:r>
            <a:r>
              <a:rPr b="0" lang="en-US" sz="11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4" descr="Standard Deviation"/>
          <p:cNvPicPr/>
          <p:nvPr/>
        </p:nvPicPr>
        <p:blipFill>
          <a:blip r:embed="rId1"/>
          <a:stretch/>
        </p:blipFill>
        <p:spPr>
          <a:xfrm>
            <a:off x="76320" y="1523880"/>
            <a:ext cx="8915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2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the difference between the following types of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at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Nominal, Ordinal, Interval, Rat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ormal distribu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c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ositive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gatively-skew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stribu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the difference between th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sures of vari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Range &amp; 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Z-sco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  How is it compu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6002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llection, classification, analysis, and interpretation of numerical psychological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scriptive Statistic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scribes collected dat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requency Distribu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2" descr="http://www.penn-olson.com/wp-content/uploads/2009/10/statistics.jpg"/>
          <p:cNvPicPr/>
          <p:nvPr/>
        </p:nvPicPr>
        <p:blipFill>
          <a:blip r:embed="rId1"/>
          <a:stretch/>
        </p:blipFill>
        <p:spPr>
          <a:xfrm>
            <a:off x="5638680" y="2514600"/>
            <a:ext cx="327672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Psychological D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mi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tego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ume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Favorite ice cream flav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Ordi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ume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,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, 3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http://illuminations.nctm.org/Lessons/ConnectingCubes/SampleBarGraph.jpg"/>
          <p:cNvPicPr/>
          <p:nvPr/>
        </p:nvPicPr>
        <p:blipFill>
          <a:blip r:embed="rId1"/>
          <a:stretch/>
        </p:blipFill>
        <p:spPr>
          <a:xfrm>
            <a:off x="4952880" y="2857680"/>
            <a:ext cx="4013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Psychological D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Interv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qual interval between points; no true zero 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erical; can comput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Degrees in Fahrenhe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Rati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qual interval between points; tru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ero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erical; can comput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Height/weigh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2" descr="http://media.techtarget.com/digitalguide/images/Misc/iw_histogram.gif"/>
          <p:cNvPicPr/>
          <p:nvPr/>
        </p:nvPicPr>
        <p:blipFill>
          <a:blip r:embed="rId1"/>
          <a:stretch/>
        </p:blipFill>
        <p:spPr>
          <a:xfrm>
            <a:off x="6245280" y="2955960"/>
            <a:ext cx="2895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http://www.mymarketresearchmethods.com/wp-content/uploads/2012/11/summary-of-data-types.p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erential Stat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generalized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al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likely it is than an obtained result occurred by ch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evel of significance is selected prior to conducting statistical analysis. Traditionally, either the 0.05 level (sometimes called the 5% level) or the 0.01 level (1% level) is used. If the probability is less than or equal to the significance level, then the outcome is said to be statistically significant. The 0.01 level is more conservative than the 0.05 leve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ithmetic averag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tained by adding all scores together, and dividing by the number of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di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iddle scor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lf of the scores are above it and half are below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st frequently occurring score(s)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7621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istribution: the way scores are distributed (spread out) around the mean sc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rmal Distribution (normal curve/bell curve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mmetrical, Bell-shaped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, Median, Mode all are the s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Content Placeholder 4" descr="normal.gif"/>
          <p:cNvPicPr/>
          <p:nvPr/>
        </p:nvPicPr>
        <p:blipFill>
          <a:blip r:embed="rId1"/>
          <a:stretch/>
        </p:blipFill>
        <p:spPr>
          <a:xfrm>
            <a:off x="609480" y="3276720"/>
            <a:ext cx="77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6-08-26T13:42:46Z</dcterms:modified>
  <cp:revision>217</cp:revision>
  <dc:subject/>
  <dc:title>Chapter 8: Sensation and Perception</dc:title>
</cp:coreProperties>
</file>