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162F-99B4-41ED-A5D9-7F8261704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scores- (standard score)- measure of distance of a particular score from the mean based on st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Mean score on a test is 85 with a std dev of 6.  Jessica gets a 79, her z score is -1.  Mark gets a 88, his z score is + 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scores- (standard score)- measure of distance of a particular score from the mean based on st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Mean score on a test is 85 with a std dev of 6.  Jessica gets a 79, her z score is -1.  Mark gets a 88, his z score is + 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scores- (standard score)- measure of distance of a particular score from the mean based on st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Mean score on a test is 85 with a std dev of 6.  Jessica gets a 79, her z score is -1.  Mark gets a 88, his z score is + 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scores- (standard score)- measure of distance of a particular score from the mean based on st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Mean score on a test is 85 with a std dev of 6.  Jessica gets a 79, her z score is -1.  Mark gets a 88, his z score is + 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3D87-C2D4-4114-9DBA-1429CB36E0F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4901C-7A42-4D5B-84B0-3D25E171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C2B7-BA6B-4867-81AF-09A1725D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338D-42BD-45DA-BC35-FC671D03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E02AA-9B1B-49FF-B6A5-9CFC2FD0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C316-5273-48D4-8E6C-37B98AE4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BB82-C266-4C65-8A66-A0F2F9F3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89BF-CFE1-47F6-BD5C-E4ED89A0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2E82-5113-4742-93D7-36F12778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C696-AE79-44A2-BFBA-06A70C28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A527-D869-4E41-9D42-D271239A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5759-DACD-40FD-9A48-5291F05B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6521D-B4D9-4B38-9C6B-EF748DCA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4E5A-27D4-4409-94A4-6733F925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FAC3-7C79-4C4D-BFF3-874599BA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977F-FE28-4FA9-AAAE-D7F81815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E090-2613-4554-83A1-BF059817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9755-3987-4C2B-9930-79C7BD3C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02384-EE21-4868-A27F-7ECC2733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C9C9-7BA4-45DC-9FD9-051624C3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9C5A-F33E-45FE-A6FA-266CF241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375A-E5F9-4D34-942C-F8C2FB39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35F9A-E545-49D2-B038-4E3621BC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6706F-1A38-475C-9D25-5564BC77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A8E2-57EE-4995-AE9F-86D70797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15CC-08C0-4C64-9215-E1003859C7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49F8-B385-4A55-AB10-E2829F89A3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2 (F)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Statistics in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Psychological Research:</a:t>
            </a:r>
            <a:br>
              <a:rPr sz="5400"/>
            </a:b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Measures of Central Tend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1260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ang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ifference between the highest and lowest scores in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uted measure of how much scores vary around the mean (equal to the squared root of the varianc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Usefulness of Standard devia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424160" indent="-2034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andard deviation gives a better gauge of whether a set of scores are packed closely together, or more widely disperse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424160" indent="-2034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higher the standard deviation, the less similar the scores ar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Z-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4920" y="8380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 z-score is the number of standard deviations a score is from the me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f a Z-Scor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a value of 0, it is equal to the group me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equal to +1, it is 1 Standard Deviation above the me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equal to -2, it is 2 Standard Deviations below the me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Z-Scores can help us understa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 typical a particular score is within bunch of scor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data are normally distributed, approximately 95% of the data should have Z-score between -2 and +2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2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-scores that do not fall within this range may be less typical of the data in a bunch of scores</a:t>
            </a:r>
            <a:r>
              <a:rPr b="0" lang="en-US" sz="11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Z 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ion: (YOUR Score- Mean)/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ample: Mean score on a test is 85 with a standard deviation of 6.  Jessica gets a 79, her z score is -1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Z 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ion: (YOUR Score- Mean)/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ample: Mean score on a test is 85 with a standard deviation of 6.  Jessica gets a 79, her z score is -1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Mark gets an 88, what’s his z sco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Z 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ion: (YOUR Score- Mean)/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ample: Mean score on a test is 85 with a standard deviation of 6.  Jessica gets a 79, her z score is -1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Mark gets an 88, what’s his z sco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0" y="457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Z=.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Z sc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ion: (YOUR Score- Mean)/standard dev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ample: Mean score on a test is 85 with a standard deviation of 6.  Jessica gets a 79, her z score is -1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Mark gets an 88, what’s his z sco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0" y="4572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Z=.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You might have to do this kind of simple calculation, but the standard deviation should be provided for y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Usefulness of Standard devi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deviation gives a better gauge of whether a set of scores are packed closely together, or more widely dispers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higher the standard deviation, the less similar the scores 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nature, large numbers of data often form a bell-shaped distribution, called a “normal curve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 normal curve, most cases fall near the mean, and fewer cases fall near the extre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ferential Stat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ow us to determine if results can b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aliz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a larger popul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ll reason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ferenc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bout the population in ques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 sample is very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e-everyone in the target population has an equal chance of being selected for the sa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e size-the larger the sample size, the better, but there are trade-offs in time &amp; money when it comes to sample s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Inferential Statisti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ow us to determine if results can b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aliz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a larger popul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ll reason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ferenc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bout the population in ques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ative sample is very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e-everyone in the target population has an equal chance of being selected for the sa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e size-the larger the sample size, the better, but there are trade-offs in time &amp; money when it comes to sample s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al Significance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refers to how likely it is that an obtained result occurred by chance; if the results of research are found to be statistically significant, then it is likely that they DID NOT occur by ch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level of significance is selected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</a:rPr>
              <a:t>PRIOR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to conducting statistical analysis, usually .005 (5%), or sometimes .001 (1%)                                                       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this is called the significance leve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fter you have compiled your statistics, you have to calculate the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p-valu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(*you do not have to do that for this course*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f the p-value is less than the pre-chosen significance level, then the outcome is said to be statistically significant. The 1% level is more conservative than the 5% level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atistics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llection, classification, analysis, and interpretation of numerical psychological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crip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ferenti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Statistical Significance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refers to how likely it is that an obtained result occurred by chance; if the results of research are found to be statistically significant, then it is likely that they DID NOT occur by ch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level of significance is selected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</a:rPr>
              <a:t>PRIOR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to conducting statistical analysis, usually .005 (5%), or sometimes .001 (1%)                                                       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this is called the significance leve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fter you have compiled your statistics, you have to calculate the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p-valu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(*you do not have to do that for this course*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f the p-value is less than the pre-chosen significance level, then the outcome is said to be statistically significant. The 1% level is more conservative than the 5% level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Statistical Significance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refers to how likely it is that an obtained result occurred by chance; if the results of research are found to be statistically significant, then it is likely that they DID NOT occur by ch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level of significance is selected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</a:rPr>
              <a:t>PRIOR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to conducting statistical analysis, usually .005 (5%), or sometimes .001 (1%)                                                     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his is called the significanc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fter you have compiled your statistics, you have to calculate th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-valu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(*you do not have to do that for this course*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</a:rPr>
              <a:t>If the p-value is less than the pre-chosen significance level, then the outcome is said to be statistically significant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 The 1% level is more conservative than the 5% level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o what does that mea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 p-value is .005 (5%), this means that there is only a 5% chance that your results are due to chance, luck, or random occurrence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means that there is a 95% chance the your results are due to the independent variable that you manipul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atistics in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21932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escriptive Statis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Garamond"/>
              </a:rPr>
              <a:t>Describes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collected dat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ictorial representation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r Graph (Histogra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e cha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atterplo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iw_histogram"/>
          <p:cNvPicPr/>
          <p:nvPr/>
        </p:nvPicPr>
        <p:blipFill>
          <a:blip r:embed="rId1"/>
          <a:stretch/>
        </p:blipFill>
        <p:spPr>
          <a:xfrm>
            <a:off x="5638680" y="3495600"/>
            <a:ext cx="2819520" cy="328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SocialPieChart"/>
          <p:cNvPicPr/>
          <p:nvPr/>
        </p:nvPicPr>
        <p:blipFill>
          <a:blip r:embed="rId2"/>
          <a:stretch/>
        </p:blipFill>
        <p:spPr>
          <a:xfrm>
            <a:off x="181080" y="4365720"/>
            <a:ext cx="411480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scatterplot"/>
          <p:cNvPicPr/>
          <p:nvPr/>
        </p:nvPicPr>
        <p:blipFill>
          <a:blip r:embed="rId3"/>
          <a:stretch/>
        </p:blipFill>
        <p:spPr>
          <a:xfrm>
            <a:off x="6024600" y="1219320"/>
            <a:ext cx="2552760" cy="20667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"/>
          <p:cNvSpPr/>
          <p:nvPr/>
        </p:nvSpPr>
        <p:spPr>
          <a:xfrm>
            <a:off x="149400" y="-1728720"/>
            <a:ext cx="699120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easures of Central Tend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417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rithmetic average of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tained by adding all scores together, and dividing by the number of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edi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iddle score of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lf of the scores are above it and half are below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od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ost frequently occurring score(s) in a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7621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istribution: the way scores are distributed (spread out) around the mean sc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Normal Distribution (normal curve/bell curve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mmetrical, Bell-shaped distrib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n, Median, Mode all are the sa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Content Placeholder 4" descr="normal.gif"/>
          <p:cNvPicPr/>
          <p:nvPr/>
        </p:nvPicPr>
        <p:blipFill>
          <a:blip r:embed="rId1"/>
          <a:stretch/>
        </p:blipFill>
        <p:spPr>
          <a:xfrm>
            <a:off x="609480" y="3276720"/>
            <a:ext cx="7772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240" y="1142640"/>
            <a:ext cx="90676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kewed Distrib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ositive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kewed; “Skewed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-scores pull the mean toward the higher end of the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ative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kewed; “Skewed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ef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-scores pull the mean toward the lower end of the sc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Content Placeholder 4" descr="Skewness_PosNegPict.jpg"/>
          <p:cNvPicPr/>
          <p:nvPr/>
        </p:nvPicPr>
        <p:blipFill>
          <a:blip r:embed="rId1"/>
          <a:stretch/>
        </p:blipFill>
        <p:spPr>
          <a:xfrm>
            <a:off x="762120" y="3733920"/>
            <a:ext cx="7238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itively Skewed Distrib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figure-02-12"/>
          <p:cNvPicPr/>
          <p:nvPr/>
        </p:nvPicPr>
        <p:blipFill>
          <a:blip r:embed="rId1"/>
          <a:stretch/>
        </p:blipFill>
        <p:spPr>
          <a:xfrm>
            <a:off x="266760" y="2362320"/>
            <a:ext cx="86104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rmal Distrib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2" descr="http://www.ifa.com/images/12steps/step8/f8-1.jpg"/>
          <p:cNvPicPr/>
          <p:nvPr/>
        </p:nvPicPr>
        <p:blipFill>
          <a:blip r:embed="rId1"/>
          <a:stretch/>
        </p:blipFill>
        <p:spPr>
          <a:xfrm>
            <a:off x="0" y="119556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asures of Vari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Picture 4" descr="Standard Deviation"/>
          <p:cNvPicPr/>
          <p:nvPr/>
        </p:nvPicPr>
        <p:blipFill>
          <a:blip r:embed="rId1"/>
          <a:stretch/>
        </p:blipFill>
        <p:spPr>
          <a:xfrm>
            <a:off x="76320" y="1523880"/>
            <a:ext cx="8915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7-09-12T10:45:50Z</dcterms:modified>
  <cp:revision>225</cp:revision>
  <dc:subject/>
  <dc:title>Chapter 8: Sensation and Perception</dc:title>
</cp:coreProperties>
</file>