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168B-A0A4-45AE-81CC-29BCB702F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3D30-9817-497A-9882-916CF4BFDE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9892-326C-4A5F-8E87-5C231F53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6D43-68F3-4313-A8F7-7E948E28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CF36-C4D3-45A9-8754-B61EB436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E68E-EAE2-4811-BEE1-6D355B54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DE1E-C540-462A-A999-D4773B34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8A5B-2DE5-47F6-AC41-C8FF89A8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EC7B-16B9-4A5A-B0E7-D19E1B28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4706-9DF2-4C0F-BB4B-E5CB0130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4898-48B0-477F-87D5-65E66DF3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4A2B-0DE0-42B2-AE8D-4130A259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34FB-B306-445E-A5DB-5B4DC379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25F8-EBEC-40EE-A41F-821C2925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5FD7-4F6F-4DD5-AFB3-19914DEF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0E7A-35C4-4B2F-903C-B563135F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0DB9-E2B7-44D2-8A20-94CB0F1B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05B-25E2-4A3B-BD4F-676A89FB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CF29-C95C-41E2-A76A-2B1317C1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D3C1-19D8-4478-8942-6E82DDBB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32D3-06D5-48C8-912A-3AAD08BA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EE59-E74F-42ED-9708-FF4E0E41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703B-6823-4A3A-AB76-FD38FA3D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5C78-C852-491D-9BE8-FAF25BFB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6D71-0A6E-4FFB-993F-4940F28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0986-42B2-4EF8-A9FE-CC0E9668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7926-7F8A-40A8-A956-9F40217D85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6704-0E07-4EAD-95B2-552A0C1115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F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Statistics in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Psychological Research:</a:t>
            </a:r>
            <a:br>
              <a:rPr sz="5400"/>
            </a:b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1260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ang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fference between the highest and lowest scores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d measure of how much scores vary around the mean (equal to the squared root of the varianc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Usefulness of Standard devi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24160" indent="-2034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andard deviation gives a better gauge of whether a set of scores are packed closely together, or more widely disperse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424160" indent="-2034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higher the standard deviation, the less similar the scores ar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Z-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4920" y="8380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 z-score is the number of standard deviations a score is from the me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 a Z-Sco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a value of 0, it is equal to the group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+1, it is 1 Standard Deviation above the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-2, it is 2 Standard Deviations below the me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Z-Scores can help us understa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typical a particular score is within bunch of scor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data are normally distributed, approximately 95% of the data should have Z-score between -2 and +2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2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-scores that do not fall within this range may be less typical of the data in a bunch of scores</a:t>
            </a:r>
            <a:r>
              <a:rPr b="0" lang="en-US" sz="11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Mark gets an 88, what’s his z sco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Mark gets an 88, what’s his z sco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0" y="457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Z=.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Mark gets an 88, what’s his z sco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0" y="4572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Z=.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 might have to do this kind of simple calculation, but the standard deviation should be provided for y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Usefulness of 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deviation gives a better gauge of whether a set of scores are packed closely together, or more widely dispers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igher the standard deviation, the less similar the scores 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ture, large numbers of data often form a bell-shaped distribution, called a “normal curv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 normal curve, most cases fall near the mean, and fewer cases fall near the extre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erential Stat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ow us to determine if results can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aliz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a larger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reason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fer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bout the population in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 sample is very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e-everyone in the target population has an equal chance of being selected for the sa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e size-the larger the sample size, the better, but there are trade-offs in time &amp; money when it comes to samp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Inferential Statisti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ow us to determine if results can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aliz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a larger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reason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fer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bout the population in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 sample is very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e-everyone in the target population has an equal chance of being selected for the sa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e size-the larger the sample size, the better, but there are trade-offs in time &amp; money when it comes to samp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al Significance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refers to how likely it is that an obtained result occurred by chance; if the results of research are found to be statistically significant, then it is likely that they DID NOT occur by ch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level of significance is selecte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PRIO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o conducting statistical analysis, usually .005 (5%), or sometimes .001 (1%)                                                       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this is called the significance leve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fter you have compiled your statistics, you have to calculate the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p-valu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*you do not have to do that for this course*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f the p-value is less than the pre-chosen significance level, then the outcome is said to be statistically significant. The 1% level is more conservative than the 5% leve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llection, classification, analysis, and interpretation of numerical psychological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rip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ferent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Statistical Significance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refers to how likely it is that an obtained result occurred by chance; if the results of research are found to be statistically significant, then it is likely that they DID NOT occur by ch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level of significance is selecte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PRIO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o conducting statistical analysis, usually .005 (5%), or sometimes .001 (1%)                                                       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this is called the significance leve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fter you have compiled your statistics, you have to calculate the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p-valu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*you do not have to do that for this course*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f the p-value is less than the pre-chosen significance level, then the outcome is said to be statistically significant. The 1% level is more conservative than the 5% leve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Statistical Significance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refers to how likely it is that an obtained result occurred by chance; if the results of research are found to be statistically significant, then it is likely that they DID NOT occur by ch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level of significance is selecte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PRIO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o conducting statistical analysis, usually .005 (5%), or sometimes .001 (1%)                                                     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is is called the significanc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fter you have compiled your statistics, you have to calculate th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-valu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*you do not have to do that for this course*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If the p-value is less than the pre-chosen significance level, then the outcome is said to be statistically significant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The 1% level is more conservative than the 5% leve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 what does that mea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 p-value is .005 (5%), this means that there is only a 5% chance that your results are due to chance, luck, or random occurrence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means that there is a 95% chance the your results are due to the independent variable that you manipul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2193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escriptive Statis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Garamond"/>
              </a:rPr>
              <a:t>Describes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collected dat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ictorial representa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 Graph (Histogra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e cha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atterplo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iw_histogram"/>
          <p:cNvPicPr/>
          <p:nvPr/>
        </p:nvPicPr>
        <p:blipFill>
          <a:blip r:embed="rId1"/>
          <a:stretch/>
        </p:blipFill>
        <p:spPr>
          <a:xfrm>
            <a:off x="5638680" y="3495600"/>
            <a:ext cx="2819520" cy="328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SocialPieChart"/>
          <p:cNvPicPr/>
          <p:nvPr/>
        </p:nvPicPr>
        <p:blipFill>
          <a:blip r:embed="rId2"/>
          <a:stretch/>
        </p:blipFill>
        <p:spPr>
          <a:xfrm>
            <a:off x="181080" y="4365720"/>
            <a:ext cx="41148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scatterplot"/>
          <p:cNvPicPr/>
          <p:nvPr/>
        </p:nvPicPr>
        <p:blipFill>
          <a:blip r:embed="rId3"/>
          <a:stretch/>
        </p:blipFill>
        <p:spPr>
          <a:xfrm>
            <a:off x="6024600" y="1219320"/>
            <a:ext cx="2552760" cy="20667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"/>
          <p:cNvSpPr/>
          <p:nvPr/>
        </p:nvSpPr>
        <p:spPr>
          <a:xfrm>
            <a:off x="149400" y="-1728720"/>
            <a:ext cx="699120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41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ithmetic averag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tained by adding all scores together, and dividing by the number of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di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iddle scor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lf of the scores are above it and half are below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st frequently occurring score(s)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7621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istribution: the way scores are distributed (spread out) around the mean sc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ormal Distribution (normal curve/bell curve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mmetrical, Bell-shaped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, Median, Mode all are the s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Content Placeholder 4" descr="normal.gif"/>
          <p:cNvPicPr/>
          <p:nvPr/>
        </p:nvPicPr>
        <p:blipFill>
          <a:blip r:embed="rId1"/>
          <a:stretch/>
        </p:blipFill>
        <p:spPr>
          <a:xfrm>
            <a:off x="609480" y="3276720"/>
            <a:ext cx="777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240" y="1142640"/>
            <a:ext cx="90676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kewed Distrib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osi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high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a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low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Content Placeholder 4" descr="Skewness_PosNegPict.jpg"/>
          <p:cNvPicPr/>
          <p:nvPr/>
        </p:nvPicPr>
        <p:blipFill>
          <a:blip r:embed="rId1"/>
          <a:stretch/>
        </p:blipFill>
        <p:spPr>
          <a:xfrm>
            <a:off x="762120" y="373392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itively Skewe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figure-02-12"/>
          <p:cNvPicPr/>
          <p:nvPr/>
        </p:nvPicPr>
        <p:blipFill>
          <a:blip r:embed="rId1"/>
          <a:stretch/>
        </p:blipFill>
        <p:spPr>
          <a:xfrm>
            <a:off x="266760" y="2362320"/>
            <a:ext cx="86104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rmal Distrib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2" descr="http://www.ifa.com/images/12steps/step8/f8-1.jpg"/>
          <p:cNvPicPr/>
          <p:nvPr/>
        </p:nvPicPr>
        <p:blipFill>
          <a:blip r:embed="rId1"/>
          <a:stretch/>
        </p:blipFill>
        <p:spPr>
          <a:xfrm>
            <a:off x="0" y="119556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4" descr="Standard Deviation"/>
          <p:cNvPicPr/>
          <p:nvPr/>
        </p:nvPicPr>
        <p:blipFill>
          <a:blip r:embed="rId1"/>
          <a:stretch/>
        </p:blipFill>
        <p:spPr>
          <a:xfrm>
            <a:off x="76320" y="1523880"/>
            <a:ext cx="8915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7-09-12T10:45:50Z</dcterms:modified>
  <cp:revision>225</cp:revision>
  <dc:subject/>
  <dc:title>Chapter 8: Sensation and Perception</dc:title>
</cp:coreProperties>
</file>