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228C5-809C-4296-9760-4240BFB2D4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 scores- (standard score)- measure of distance of a particular score from the mean based on std dev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: Mean score on a test is 85 with a std dev of 6.  Jessica gets a 79, her z score is -1.  Mark gets a 88, his z score is + 0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 scores- (standard score)- measure of distance of a particular score from the mean based on std dev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: Mean score on a test is 85 with a std dev of 6.  Jessica gets a 79, her z score is -1.  Mark gets a 88, his z score is + 0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 scores- (standard score)- measure of distance of a particular score from the mean based on std dev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: Mean score on a test is 85 with a std dev of 6.  Jessica gets a 79, her z score is -1.  Mark gets a 88, his z score is + 0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 scores- (standard score)- measure of distance of a particular score from the mean based on std dev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: Mean score on a test is 85 with a std dev of 6.  Jessica gets a 79, her z score is -1.  Mark gets a 88, his z score is + 0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E02FE-9EA6-498F-A773-C9C13C17626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3661E-6879-4FCF-B8F2-6172F4189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86E50-5212-4AC9-9E6C-4560BBCA1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70AD1-4A6C-4371-945A-E2BA13B44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19EA8-FD5A-419C-B617-3B2DDDC9B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F5732-1E38-4C64-94B6-38CF4A9B8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3D088-B6EE-47BE-BD3E-D1FC412C5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0BFF5-EA76-4778-A2ED-0F8B72347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A615C-4267-43E5-90A3-4513DA480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43CB5-E8A6-47FF-B5F0-A438F5761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5CF06-F5FC-4664-BEDD-83E4CB4E5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01B3E-0676-4E05-ADA2-F0FA3691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F7F9C-CFC8-49F3-957B-554D43459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A8CE7-31BB-4E7E-A72F-B4B8C511A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71662-5C5C-4D25-ACA2-2BA7EDA1D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867DA-DDD9-492F-84E7-DF271B1BD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717AF-AF80-4F4F-8D3E-9923D51E0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457E7-BFEA-4531-8F65-30E0FEFB0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5E898-077C-436D-B70F-DBB1C40FF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2D4B0-47FB-4ADD-8919-750D6DED9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2B593-06D9-459B-A55F-A2D626335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B5876-6313-41E3-96E0-3A89BDE36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75B2B-69D4-442B-B5B9-3A3C46150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8E965-5017-40BA-B94A-E9315634E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49CBB-6BC5-4526-9243-2F93940F5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D3E9C-D57F-4D81-8FA6-EA5502B1C21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69428-B461-44FE-B963-78D13A89A09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Unit 2 (F):</a:t>
            </a:r>
            <a:br>
              <a:rPr sz="5400"/>
            </a:br>
            <a:r>
              <a:rPr b="1" lang="en-US" sz="5400" spc="-1" strike="noStrike">
                <a:solidFill>
                  <a:srgbClr val="ff9900"/>
                </a:solidFill>
                <a:latin typeface="Garamond"/>
              </a:rPr>
              <a:t>Statistics in</a:t>
            </a:r>
            <a:br>
              <a:rPr sz="5400"/>
            </a:br>
            <a:r>
              <a:rPr b="1" lang="en-US" sz="5400" spc="-1" strike="noStrike">
                <a:solidFill>
                  <a:srgbClr val="ff9900"/>
                </a:solidFill>
                <a:latin typeface="Garamond"/>
              </a:rPr>
              <a:t>Psychological Research:</a:t>
            </a:r>
            <a:br>
              <a:rPr sz="5400"/>
            </a:br>
            <a:r>
              <a:rPr b="1" lang="en-US" sz="4400" spc="-1" strike="noStrike">
                <a:solidFill>
                  <a:srgbClr val="ff9900"/>
                </a:solidFill>
                <a:latin typeface="Garamond"/>
              </a:rPr>
              <a:t>Measures of Central Tendenc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r. Deb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.P. Psycholog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Measures of Vari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-12600" y="114264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Rang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difference between the highest and lowest scores in a distribu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Standard Deviatio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computed measure of how much scores vary around the mean (equal to the squared root of the varianc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Usefulness of Standard deviation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424160" indent="-20340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Standard deviation gives a better gauge of whether a set of scores are packed closely together, or more widely dispersed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3" marL="1424160" indent="-20340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The higher the standard deviation, the less similar the scores are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Z-scor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4920" y="838080"/>
            <a:ext cx="91440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A z-score is the number of standard deviations a score is from the mea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If a Z-Score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as a value of 0, it is equal to the group mean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s equal to +1, it is 1 Standard Deviation above the mean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s equal to -2, it is 2 Standard Deviations below the mea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Z-Scores can help us understand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ow typical a particular score is within bunch of scores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f data are normally distributed, approximately 95% of the data should have Z-score between -2 and +2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2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Z-scores that do not fall within this range may be less typical of the data in a bunch of scores</a:t>
            </a:r>
            <a:r>
              <a:rPr b="0" lang="en-US" sz="11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Garamond"/>
              </a:rPr>
              <a:t>Z scor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lculation: (YOUR Score- Mean)/standard devi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example: Mean score on a test is 85 with a standard deviation of 6.  Jessica gets a 79, her z score is -1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Garamond"/>
              </a:rPr>
              <a:t>Z scor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lculation: (YOUR Score- Mean)/standard devi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example: Mean score on a test is 85 with a standard deviation of 6.  Jessica gets a 79, her z score is -1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Mark gets an 88, what’s his z scor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Garamond"/>
              </a:rPr>
              <a:t>Z scor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lculation: (YOUR Score- Mean)/standard devi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example: Mean score on a test is 85 with a standard deviation of 6.  Jessica gets a 79, her z score is -1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Mark gets an 88, what’s his z scor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TextBox 1"/>
          <p:cNvSpPr/>
          <p:nvPr/>
        </p:nvSpPr>
        <p:spPr>
          <a:xfrm>
            <a:off x="0" y="4572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Z=.0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Garamond"/>
              </a:rPr>
              <a:t>Z scor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lculation: (YOUR Score- Mean)/standard devi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example: Mean score on a test is 85 with a standard deviation of 6.  Jessica gets a 79, her z score is -1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Mark gets an 88, what’s his z scor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TextBox 1"/>
          <p:cNvSpPr/>
          <p:nvPr/>
        </p:nvSpPr>
        <p:spPr>
          <a:xfrm>
            <a:off x="0" y="457200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Z=.0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You might have to do this kind of simple calculation, but the standard deviation should be provided for yo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Measures of Vari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0" y="1295280"/>
            <a:ext cx="91440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Usefulness of Standard deviatio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deviation gives a better gauge of whether a set of scores are packed closely together, or more widely disperse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higher the standard deviation, the less similar the scores ar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 nature, large numbers of data often form a bell-shaped distribution, called a “normal curve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 a normal curve, most cases fall near the mean, and fewer cases fall near the extrem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Statistics in Psycholog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914040"/>
            <a:ext cx="91440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Inferential Statistic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llow us to determine if results can b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generalize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a larger popula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ell reasoned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inference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bout the population in ques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presentative sample is very importa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andom sample-everyone in the target population has an equal chance of being selected for the samp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ample size-the larger the sample size, the better, but there are trade-offs in time &amp; money when it comes to sample siz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Statistics in Psycholog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0" y="914040"/>
            <a:ext cx="91440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9900"/>
                </a:solidFill>
                <a:uFillTx/>
                <a:latin typeface="Garamond"/>
              </a:rPr>
              <a:t>Inferential Statistic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llow us to determine if results can b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generalize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a larger popula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ell reasoned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inference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bout the population in ques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presentative sample is very importa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andom sample-everyone in the target population has an equal chance of being selected for the samp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ample size-the larger the sample size, the better, but there are trade-offs in time &amp; money when it comes to sample siz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Statistics in Psycholog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0" y="914040"/>
            <a:ext cx="91440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Statistical Significance: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is refers to how likely it is that an obtained result occurred by chance; if the results of research are found to be statistically significant, then it is likely that they DID NOT occur by chanc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A level of significance is selected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Garamond"/>
              </a:rPr>
              <a:t>PRIOR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to conducting statistical analysis, usually .005 (5%), or sometimes .001 (1%)                                                        </a:t>
            </a:r>
            <a:r>
              <a:rPr b="0" i="1" lang="en-US" sz="2600" spc="-1" strike="noStrike">
                <a:solidFill>
                  <a:srgbClr val="ffffff"/>
                </a:solidFill>
                <a:latin typeface="Garamond"/>
              </a:rPr>
              <a:t>this is called the significance level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After you have compiled your statistics, you have to calculate the </a:t>
            </a:r>
            <a:r>
              <a:rPr b="0" i="1" lang="en-US" sz="2600" spc="-1" strike="noStrike">
                <a:solidFill>
                  <a:srgbClr val="ffffff"/>
                </a:solidFill>
                <a:latin typeface="Garamond"/>
              </a:rPr>
              <a:t>p-value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600" spc="-1" strike="noStrike">
                <a:solidFill>
                  <a:srgbClr val="ffffff"/>
                </a:solidFill>
                <a:latin typeface="Garamond"/>
              </a:rPr>
              <a:t>(*you do not have to do that for this course*)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If the p-value is less than the pre-chosen significance level, then the outcome is said to be statistically significant. The 1% level is more conservative than the 5% level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Statistics in Psycholog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-360" y="16002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Statistics: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collection, classification, analysis, and interpretation of numerical psychological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scriptiv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ferenti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Statistics in Psycholog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0" y="914040"/>
            <a:ext cx="91440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9900"/>
                </a:solidFill>
                <a:uFillTx/>
                <a:latin typeface="Garamond"/>
              </a:rPr>
              <a:t>Statistical Significance</a:t>
            </a: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: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is refers to how likely it is that an obtained result occurred by chance; if the results of research are found to be statistically significant, then it is likely that they DID NOT occur by chanc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A level of significance is selected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Garamond"/>
              </a:rPr>
              <a:t>PRIOR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to conducting statistical analysis, usually .005 (5%), or sometimes .001 (1%)                                                        </a:t>
            </a:r>
            <a:r>
              <a:rPr b="0" i="1" lang="en-US" sz="2600" spc="-1" strike="noStrike">
                <a:solidFill>
                  <a:srgbClr val="ffffff"/>
                </a:solidFill>
                <a:latin typeface="Garamond"/>
              </a:rPr>
              <a:t>this is called the significance level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After you have compiled your statistics, you have to calculate the </a:t>
            </a:r>
            <a:r>
              <a:rPr b="0" i="1" lang="en-US" sz="2600" spc="-1" strike="noStrike">
                <a:solidFill>
                  <a:srgbClr val="ffffff"/>
                </a:solidFill>
                <a:latin typeface="Garamond"/>
              </a:rPr>
              <a:t>p-value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600" spc="-1" strike="noStrike">
                <a:solidFill>
                  <a:srgbClr val="ffffff"/>
                </a:solidFill>
                <a:latin typeface="Garamond"/>
              </a:rPr>
              <a:t>(*you do not have to do that for this course*)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If the p-value is less than the pre-chosen significance level, then the outcome is said to be statistically significant. The 1% level is more conservative than the 5% level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Statistics in Psycholog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0" y="914040"/>
            <a:ext cx="91440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9900"/>
                </a:solidFill>
                <a:uFillTx/>
                <a:latin typeface="Garamond"/>
              </a:rPr>
              <a:t>Statistical Significance</a:t>
            </a: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: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is refers to how likely it is that an obtained result occurred by chance; if the results of research are found to be statistically significant, then it is likely that they DID NOT occur by chanc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A level of significance is selected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Garamond"/>
              </a:rPr>
              <a:t>PRIOR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to conducting statistical analysis, usually .005 (5%), or sometimes .001 (1%)                                                       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his is called the significanc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After you have compiled your statistics, you have to calculate the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-value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600" spc="-1" strike="noStrike">
                <a:solidFill>
                  <a:srgbClr val="ffffff"/>
                </a:solidFill>
                <a:latin typeface="Garamond"/>
              </a:rPr>
              <a:t>(*you do not have to do that for this course*)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Garamond"/>
              </a:rPr>
              <a:t>If the p-value is less than the pre-chosen significance level, then the outcome is said to be statistically significant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. The 1% level is more conservative than the 5% level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Statistics in Psycholog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0" y="914040"/>
            <a:ext cx="91440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So what does that mea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f the p-value is .005 (5%), this means that there is only a 5% chance that your results are due to chance, luck, or random occurrence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is means that there is a 95% chance the your results are due to the independent variable that you manipulat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Statistics in Psycholog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0" y="1219320"/>
            <a:ext cx="5867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Descriptive Statistic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00"/>
                </a:solidFill>
                <a:uFillTx/>
                <a:latin typeface="Garamond"/>
              </a:rPr>
              <a:t>Describes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collected data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Pictorial representation: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ar Graph (Histogra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ie char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catterplo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5" descr="iw_histogram"/>
          <p:cNvPicPr/>
          <p:nvPr/>
        </p:nvPicPr>
        <p:blipFill>
          <a:blip r:embed="rId1"/>
          <a:stretch/>
        </p:blipFill>
        <p:spPr>
          <a:xfrm>
            <a:off x="5638680" y="3495600"/>
            <a:ext cx="2819520" cy="3287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SocialPieChart"/>
          <p:cNvPicPr/>
          <p:nvPr/>
        </p:nvPicPr>
        <p:blipFill>
          <a:blip r:embed="rId2"/>
          <a:stretch/>
        </p:blipFill>
        <p:spPr>
          <a:xfrm>
            <a:off x="181080" y="4365720"/>
            <a:ext cx="4114800" cy="2286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scatterplot"/>
          <p:cNvPicPr/>
          <p:nvPr/>
        </p:nvPicPr>
        <p:blipFill>
          <a:blip r:embed="rId3"/>
          <a:stretch/>
        </p:blipFill>
        <p:spPr>
          <a:xfrm>
            <a:off x="6024600" y="1219320"/>
            <a:ext cx="2552760" cy="206676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2"/>
          <p:cNvSpPr/>
          <p:nvPr/>
        </p:nvSpPr>
        <p:spPr>
          <a:xfrm>
            <a:off x="149400" y="-1728720"/>
            <a:ext cx="6991200" cy="36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Measures of Central Tendenc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0" y="14176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Mea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arithmetic average of a distribu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btained by adding all scores together, and dividing by the number of scor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Media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middle score of a distribu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alf of the scores are above it and half are below i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Mod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most frequently occurring score(s) in a distribu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Distribu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0" y="762120"/>
            <a:ext cx="91440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Distribution: the way scores are distributed (spread out) around the mean sco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Normal Distribution (normal curve/bell curve)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ymmetrical, Bell-shaped distribu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ean, Median, Mode all are the sam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Content Placeholder 4" descr="normal.gif"/>
          <p:cNvPicPr/>
          <p:nvPr/>
        </p:nvPicPr>
        <p:blipFill>
          <a:blip r:embed="rId1"/>
          <a:stretch/>
        </p:blipFill>
        <p:spPr>
          <a:xfrm>
            <a:off x="609480" y="3276720"/>
            <a:ext cx="77724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Distribu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240" y="1142640"/>
            <a:ext cx="906768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Skewed Distributio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ositively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skewed; “Skewed to th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Righ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”-scores pull the mean toward the higher end of the scor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Negatively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skewed; “Skewed to th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Lef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”-scores pull the mean toward the lower end of the scor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Content Placeholder 4" descr="Skewness_PosNegPict.jpg"/>
          <p:cNvPicPr/>
          <p:nvPr/>
        </p:nvPicPr>
        <p:blipFill>
          <a:blip r:embed="rId1"/>
          <a:stretch/>
        </p:blipFill>
        <p:spPr>
          <a:xfrm>
            <a:off x="762120" y="3733920"/>
            <a:ext cx="72388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istribu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ositively Skewed Distribu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Picture 4" descr="figure-02-12"/>
          <p:cNvPicPr/>
          <p:nvPr/>
        </p:nvPicPr>
        <p:blipFill>
          <a:blip r:embed="rId1"/>
          <a:stretch/>
        </p:blipFill>
        <p:spPr>
          <a:xfrm>
            <a:off x="266760" y="2362320"/>
            <a:ext cx="8610480" cy="37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Normal Distribu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9" name="Picture 2" descr="http://www.ifa.com/images/12steps/step8/f8-1.jpg"/>
          <p:cNvPicPr/>
          <p:nvPr/>
        </p:nvPicPr>
        <p:blipFill>
          <a:blip r:embed="rId1"/>
          <a:stretch/>
        </p:blipFill>
        <p:spPr>
          <a:xfrm>
            <a:off x="0" y="1195560"/>
            <a:ext cx="9144000" cy="55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easures of Vari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1" name="Picture 4" descr="Standard Deviation"/>
          <p:cNvPicPr/>
          <p:nvPr/>
        </p:nvPicPr>
        <p:blipFill>
          <a:blip r:embed="rId1"/>
          <a:stretch/>
        </p:blipFill>
        <p:spPr>
          <a:xfrm>
            <a:off x="76320" y="1523880"/>
            <a:ext cx="89154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04:12:01Z</dcterms:created>
  <dc:creator>Philip S. McCormick</dc:creator>
  <dc:description/>
  <dc:language>en-US</dc:language>
  <cp:lastModifiedBy>Debes John</cp:lastModifiedBy>
  <dcterms:modified xsi:type="dcterms:W3CDTF">2017-09-12T10:45:50Z</dcterms:modified>
  <cp:revision>225</cp:revision>
  <dc:subject/>
  <dc:title>Chapter 8: Sensation and Perception</dc:title>
</cp:coreProperties>
</file>