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8E79-3E29-4710-B34A-4267553108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350D-0BAF-475B-AB5D-4B63D33163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A8E3-1C61-4EC7-8137-EEC8DE41C5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ACBB-3AA8-4C93-87A7-180BC87462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2F4D-13F5-4FBF-BFBF-679E5BBE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DA6FC-FA80-4C11-A078-DEBBFA4C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D55B-2175-4579-A861-0D73F405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57AF-6C28-4F07-AEAB-0D8A8089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9CAE-4690-40F7-9D70-B4E10B68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80DB-B798-4C2C-A377-CAA27C98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5642-DF8C-4FC9-95DA-31DAED4A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94F8-BD62-4688-9C9C-50F42FC9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989C-7CA7-41DC-80BD-F9CF40D7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B711-BCCB-4CBC-A632-D8C6B241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15FF-96AF-498F-8A06-7F344237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3340B-E78C-4F25-A3C2-A758854F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79C5-D1A7-4836-B3B8-9057C789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20FF-87A9-4A83-B1D6-F83EFE1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08E8-3004-4DA1-A5DF-E08D2881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2944-4025-498E-9012-F916CF5E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1996-DA78-44E4-B4DB-BA11A48B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89E2-4400-4195-AA33-54A64845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D9F6-72E5-4D5A-9ABE-969423B9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012F-6A9B-40D7-9FE5-522B757C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06BC-0514-4F40-92D2-3D7D51FC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F894-1F5F-485B-A278-F0C0657D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BABD-4DDB-43BA-BDFD-DCEE2DC7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D448-8E7A-4D0B-A562-58DB9E1C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1FFE-2001-45D5-9156-CF2722088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E9FD-04C0-4E6E-AB43-6A7CAB3EEB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o-Now: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In Journal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mportant i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ocial scienc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are the following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sures of central tendency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Me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Medi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M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2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ormal Distrib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mmetrical, Bell-shaped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, Median, Mode all are the sa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Content Placeholder 4" descr="normal.gif"/>
          <p:cNvPicPr/>
          <p:nvPr/>
        </p:nvPicPr>
        <p:blipFill>
          <a:blip r:embed="rId1"/>
          <a:stretch/>
        </p:blipFill>
        <p:spPr>
          <a:xfrm>
            <a:off x="609480" y="2895480"/>
            <a:ext cx="7772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240" y="12952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kewed Distrib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osi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a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Content Placeholder 4" descr="Skewness_PosNegPict.jpg"/>
          <p:cNvPicPr/>
          <p:nvPr/>
        </p:nvPicPr>
        <p:blipFill>
          <a:blip r:embed="rId1"/>
          <a:stretch/>
        </p:blipFill>
        <p:spPr>
          <a:xfrm>
            <a:off x="762120" y="3352680"/>
            <a:ext cx="7238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itively Skewed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figure-02-12"/>
          <p:cNvPicPr/>
          <p:nvPr/>
        </p:nvPicPr>
        <p:blipFill>
          <a:blip r:embed="rId1"/>
          <a:stretch/>
        </p:blipFill>
        <p:spPr>
          <a:xfrm>
            <a:off x="266760" y="2362320"/>
            <a:ext cx="86104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ang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fference between the highest and lowest scores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d measure of how much scores vary around the me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Z-sco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umber of standard deviations a score is from the mea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rmal Distrib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2" descr="http://www.ifa.com/images/12steps/step8/f8-1.jpg"/>
          <p:cNvPicPr/>
          <p:nvPr/>
        </p:nvPicPr>
        <p:blipFill>
          <a:blip r:embed="rId1"/>
          <a:stretch/>
        </p:blipFill>
        <p:spPr>
          <a:xfrm>
            <a:off x="457200" y="1195560"/>
            <a:ext cx="82296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4" descr="Standard Deviation"/>
          <p:cNvPicPr/>
          <p:nvPr/>
        </p:nvPicPr>
        <p:blipFill>
          <a:blip r:embed="rId1"/>
          <a:stretch/>
        </p:blipFill>
        <p:spPr>
          <a:xfrm>
            <a:off x="76320" y="1523880"/>
            <a:ext cx="8915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2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the difference between the following types of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at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Nominal, Ordinal, Interval, Rat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ormal distribu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c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ositive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gatively-skew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stribu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the difference between th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sures of vari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Range &amp; 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Z-sco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  How is it compu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F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Statistics in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Psychological Research:</a:t>
            </a:r>
            <a:br>
              <a:rPr sz="5400"/>
            </a:b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6002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llection, classification, analysis, and interpretation of numerical psychological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escriptive Statistic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scribes collected dat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requency Distributio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2" descr="http://www.penn-olson.com/wp-content/uploads/2009/10/statistics.jpg"/>
          <p:cNvPicPr/>
          <p:nvPr/>
        </p:nvPicPr>
        <p:blipFill>
          <a:blip r:embed="rId1"/>
          <a:stretch/>
        </p:blipFill>
        <p:spPr>
          <a:xfrm>
            <a:off x="5638680" y="2514600"/>
            <a:ext cx="327672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Psychological Da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omi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tego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ume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Favorite ice cream flav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Ordi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d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ume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, 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, 3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http://illuminations.nctm.org/Lessons/ConnectingCubes/SampleBarGraph.jpg"/>
          <p:cNvPicPr/>
          <p:nvPr/>
        </p:nvPicPr>
        <p:blipFill>
          <a:blip r:embed="rId1"/>
          <a:stretch/>
        </p:blipFill>
        <p:spPr>
          <a:xfrm>
            <a:off x="4952880" y="2857680"/>
            <a:ext cx="4013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Psychological Da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Interv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qual interval between points; no true zero poi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umerical; can compute mea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Degrees in Fahrenhe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Rati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qual interval between points; tru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zero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i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umerical; can compute mea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Height/weigh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2" descr="http://media.techtarget.com/digitalguide/images/Misc/iw_histogram.gif"/>
          <p:cNvPicPr/>
          <p:nvPr/>
        </p:nvPicPr>
        <p:blipFill>
          <a:blip r:embed="rId1"/>
          <a:stretch/>
        </p:blipFill>
        <p:spPr>
          <a:xfrm>
            <a:off x="6245280" y="2955960"/>
            <a:ext cx="2895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2" descr="http://www.mymarketresearchmethods.com/wp-content/uploads/2012/11/summary-of-data-types.p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erential Stat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ow us to determine if results can be generalized to a larger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reason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fer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bout the population in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 sample is very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e-everyone in the target population has an equal chance of being selected for the sa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e size-the larger the sample size, the better, but there are trade-offs in time &amp; money when it comes to samp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al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likely it is than an obtained result occurred by ch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level of significance is selected prior to conducting statistical analysis. Traditionally, either the 0.05 level (sometimes called the 5% level) or the 0.01 level (1% level) is used. If the probability is less than or equal to the significance level, then the outcome is said to be statistically significant. The 0.01 level is more conservative than the 0.05 leve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41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rithmetic averag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tained by adding all scores together, and dividing by the number of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di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iddle scor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lf of the scores are above it and half are below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st frequently occurring score(s)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0-13T10:55:50Z</dcterms:modified>
  <cp:revision>208</cp:revision>
  <dc:subject/>
  <dc:title>Chapter 8: Sensation and Perception</dc:title>
</cp:coreProperties>
</file>