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14FA-5590-47C3-A762-CB5F8A830EE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4ED5-9D5E-4764-BF5B-7D27347319A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24DD-6ECB-4060-9A5E-19DC489C31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E6B5-CC7C-49F0-A48E-6558098E6D1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E2A86-1AF4-4E1E-B3E7-9458A595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C0DC2-9B2E-433C-963C-C20F49FF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9AFC2-D5B2-4C1B-9175-BF304B2A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6BBD5-3216-428B-BA90-84715D3D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A1DD-887E-4D79-BFC8-E887FC18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DEBD-6DFB-460E-A3F8-2486BA1D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82BD-50A0-4F7A-BDCD-E4EA5677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E401-D28B-4AE4-9A0D-5949CDA7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DA48-6570-4C71-84F5-0DDA4781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1A9F-EBA7-4436-9C03-502239C5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74E5-6710-4337-A337-6672A130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21FC-13F0-412A-8866-12607756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7019-84E6-48FC-ADB5-C88D2107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59CB-6F1E-4C3A-9695-0D0160B7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6147-9978-4F78-958B-9B4B56AF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6C80-B3DD-4890-ACBA-4AF11D4D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0CC3-4035-4815-9ECA-272CDE7C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AAD73-5140-4F6E-8F3B-0E2ACB97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8E3F4-6375-4A23-94EB-3703C536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9EE75-CA82-4CB2-A7CA-2030EA84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D24CE-6AB7-4E83-9F3D-E050EE83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579B-6BC8-4DFD-AC72-8079611D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E0638-E763-48B0-AB22-F9BBF82E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520B5-9DA1-483B-9F63-049EECE4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EA97-A718-4D37-A2BF-E4414A5BA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49CB-3C7C-45E6-9ABC-76AB53609A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o-Now:</a:t>
            </a: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(In Journal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mportant in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ocial scienc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are the following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asures of central tendency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aramond"/>
              </a:rPr>
              <a:t>Me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aramond"/>
              </a:rPr>
              <a:t>Medi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aramond"/>
              </a:rPr>
              <a:t>M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21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ormal Distrib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mmetrical, Bell-shaped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n, Median, Mode all are the sa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Content Placeholder 4" descr="normal.gif"/>
          <p:cNvPicPr/>
          <p:nvPr/>
        </p:nvPicPr>
        <p:blipFill>
          <a:blip r:embed="rId1"/>
          <a:stretch/>
        </p:blipFill>
        <p:spPr>
          <a:xfrm>
            <a:off x="609480" y="2895480"/>
            <a:ext cx="7772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240" y="12952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kewed Distrib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ositivel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kewed; “Skewed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gativel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kewed; “Skewed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ef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Content Placeholder 4" descr="Skewness_PosNegPict.jpg"/>
          <p:cNvPicPr/>
          <p:nvPr/>
        </p:nvPicPr>
        <p:blipFill>
          <a:blip r:embed="rId1"/>
          <a:stretch/>
        </p:blipFill>
        <p:spPr>
          <a:xfrm>
            <a:off x="762120" y="3352680"/>
            <a:ext cx="7238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itively Skewed Distrib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4" descr="figure-02-12"/>
          <p:cNvPicPr/>
          <p:nvPr/>
        </p:nvPicPr>
        <p:blipFill>
          <a:blip r:embed="rId1"/>
          <a:stretch/>
        </p:blipFill>
        <p:spPr>
          <a:xfrm>
            <a:off x="266760" y="2362320"/>
            <a:ext cx="86104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ang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ifference between the highest and lowest scores in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ndard Devi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mputed measure of how much scores vary around the me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Z-scor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umber of standard deviations a score is from the mea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rmal Distrib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Picture 2" descr="http://www.ifa.com/images/12steps/step8/f8-1.jpg"/>
          <p:cNvPicPr/>
          <p:nvPr/>
        </p:nvPicPr>
        <p:blipFill>
          <a:blip r:embed="rId1"/>
          <a:stretch/>
        </p:blipFill>
        <p:spPr>
          <a:xfrm>
            <a:off x="457200" y="1195560"/>
            <a:ext cx="822960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4" descr="Standard Deviation"/>
          <p:cNvPicPr/>
          <p:nvPr/>
        </p:nvPicPr>
        <p:blipFill>
          <a:blip r:embed="rId1"/>
          <a:stretch/>
        </p:blipFill>
        <p:spPr>
          <a:xfrm>
            <a:off x="76320" y="1523880"/>
            <a:ext cx="8915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2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me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ain the difference between the following types of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at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Nominal, Ordinal, Interval, Rat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a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ormal distribu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ce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ween a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ositive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egatively-skew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stribu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ain the difference between the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asures of vari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Range &amp; Standard Dev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a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Z-sco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  How is it compu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2 (F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Statistics in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Psychological Research:</a:t>
            </a:r>
            <a:br>
              <a:rPr sz="5400"/>
            </a:b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Measures of Central Tend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60020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llection, classification, analysis, and interpretation of numerical psychological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Descriptive Statistic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escribes collected dat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Frequency Distribution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r Grap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istogr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2" descr="http://www.penn-olson.com/wp-content/uploads/2009/10/statistics.jpg"/>
          <p:cNvPicPr/>
          <p:nvPr/>
        </p:nvPicPr>
        <p:blipFill>
          <a:blip r:embed="rId1"/>
          <a:stretch/>
        </p:blipFill>
        <p:spPr>
          <a:xfrm>
            <a:off x="5638680" y="2514600"/>
            <a:ext cx="327672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Psychological Dat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Nomin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tegor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numer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 grap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Favorite ice cream flav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Ordin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d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numer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 grap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place, 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place, 3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pl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http://illuminations.nctm.org/Lessons/ConnectingCubes/SampleBarGraph.jpg"/>
          <p:cNvPicPr/>
          <p:nvPr/>
        </p:nvPicPr>
        <p:blipFill>
          <a:blip r:embed="rId1"/>
          <a:stretch/>
        </p:blipFill>
        <p:spPr>
          <a:xfrm>
            <a:off x="4952880" y="2857680"/>
            <a:ext cx="4013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Psychological Dat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Interv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qual interval between points; no true zero poin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umerical; can compute mea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Histogra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Degrees in Fahrenhe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Rati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qual interval between points; tru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zero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in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umerical; can compute mea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Histogra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Height/weigh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2" descr="http://media.techtarget.com/digitalguide/images/Misc/iw_histogram.gif"/>
          <p:cNvPicPr/>
          <p:nvPr/>
        </p:nvPicPr>
        <p:blipFill>
          <a:blip r:embed="rId1"/>
          <a:stretch/>
        </p:blipFill>
        <p:spPr>
          <a:xfrm>
            <a:off x="6245280" y="2955960"/>
            <a:ext cx="2895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2" descr="http://www.mymarketresearchmethods.com/wp-content/uploads/2012/11/summary-of-data-types.pn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ferential Stat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ow us to determine if results can be generalized to a larger popul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ll reason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ferenc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bout the population in ques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ative sample is very import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dom sample-everyone in the target population has an equal chance of being selected for the sa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e size-the larger the sample size, the better, but there are trade-offs in time &amp; money when it comes to sample si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al Signific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likely it is than an obtained result occurred by ch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level of significance is selected prior to conducting statistical analysis. Traditionally, either the 0.05 level (sometimes called the 5% level) or the 0.01 level (1% level) is used. If the probability is less than or equal to the significance level, then the outcome is said to be statistically significant. The 0.01 level is more conservative than the 0.05 level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Central Tend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417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a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rithmetic average of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tained by adding all scores together, and dividing by the number of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dia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iddle score of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lf of the scores are above it and half are below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od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ost frequently occurring score(s) in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5-10-13T10:55:50Z</dcterms:modified>
  <cp:revision>208</cp:revision>
  <dc:subject/>
  <dc:title>Chapter 8: Sensation and Perception</dc:title>
</cp:coreProperties>
</file>