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865C-EB12-46F0-A0F0-699F58AE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20CE-7A18-4278-BF99-70B10D74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2021-B50E-4078-8CF8-C612AFCA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5155-C166-4630-B02E-A429CA33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A124-469D-4B7C-9CC6-688BEAD4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F552-603C-4A6F-AC4D-DC78322F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3806-208D-405F-B0A8-F3D88993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E5A0-F2E0-4B72-B010-4B77280E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5814-5C70-44BD-B1C4-5FE07FF4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4DF7-B28D-4481-846C-73C7086E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F4C1-9936-435C-9653-0D706224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E89A-1F35-4277-B1F9-249A45CD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EB0F-54CF-4D10-8232-B846E29A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8212-8FF4-4A11-A979-518F124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969A-0030-4FE5-8B58-1A39AFB1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7DB-56F3-4B94-A65E-5B59E49D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F230-990C-42F7-8100-AD5C2D49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9FF2-FD63-4B86-9A95-51945284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78A6-BB67-4A88-BC46-B9B0F3B6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134E-B002-4E6F-8D4E-1677653B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9983-6C7C-4A40-92D0-43EA8A57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B910-FF04-4C7A-94DD-B7FC5553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B373-94B7-4081-B8E6-A53CDD52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5157-8676-4210-933E-9BFC2CF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37C1-3C0E-4E1E-B2DC-431F64F208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AA27-4A6E-4CAE-97CB-FA8D397F59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C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Experimental 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 research method in which an investigator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manipulates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ne or more variables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(independent variables)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o observe the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effect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n some behavior or mental process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(dependent variable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2" descr="http://www.screentrek.com/images/moritz-bleibtreu-in-das-experiment1.jpg"/>
          <p:cNvPicPr/>
          <p:nvPr/>
        </p:nvPicPr>
        <p:blipFill>
          <a:blip r:embed="rId1"/>
          <a:stretch/>
        </p:blipFill>
        <p:spPr>
          <a:xfrm>
            <a:off x="2666880" y="3962520"/>
            <a:ext cx="342900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hy might psychological researchers 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prefer </a:t>
            </a:r>
            <a:r>
              <a:rPr b="1" lang="en-US" sz="4000" spc="-1" strike="noStrike">
                <a:solidFill>
                  <a:srgbClr val="ff9900"/>
                </a:solidFill>
                <a:latin typeface="Garamond"/>
              </a:rPr>
              <a:t>experimental research designs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ver descriptive o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lational research design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hat type of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searc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might require an </a:t>
            </a:r>
            <a:r>
              <a:rPr b="1" lang="en-US" sz="4000" spc="-1" strike="noStrike">
                <a:solidFill>
                  <a:srgbClr val="ff9900"/>
                </a:solidFill>
                <a:latin typeface="Garamond"/>
              </a:rPr>
              <a:t>experimental desig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s begin with a hypothe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.g. “Caffeine improves test performance”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2457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6526080" y="3200400"/>
            <a:ext cx="1703520" cy="2514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924280" y="419112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5791320" y="419112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://fastfood.ocregister.com/files/2009/05/starbucks-iced-coffee-211x300.jpg"/>
          <p:cNvPicPr/>
          <p:nvPr/>
        </p:nvPicPr>
        <p:blipFill>
          <a:blip r:embed="rId5"/>
          <a:stretch/>
        </p:blipFill>
        <p:spPr>
          <a:xfrm>
            <a:off x="762120" y="3200400"/>
            <a:ext cx="18288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732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ers must employ variab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Independent Variabl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ipulated/changed by experimenter to observe its effects (e.g. Coffee/Redbul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Dependent Variabl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effects/changes that occur in relation to the independent variable (e.g. improved test performa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nfounding Variable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ors other than the independent variable that might produce an effect in an experiment (e.g. one’s natural intellige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ers divide participants into two groups (often randomly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Experimental Group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ependent variable is applied (e.g. Coffee is given to particip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ntrol Group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ated the same way as experimental group, but independent variable is not applied (e.g. No coffee is given to particip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Why would 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xperimenters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wish to </a:t>
            </a:r>
            <a:r>
              <a:rPr b="0" i="1" lang="en-US" sz="4800" spc="-1" strike="noStrike">
                <a:solidFill>
                  <a:srgbClr val="ffffff"/>
                </a:solidFill>
                <a:latin typeface="Garamond"/>
              </a:rPr>
              <a:t>employ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an </a:t>
            </a:r>
            <a:r>
              <a:rPr b="1" lang="en-US" sz="4800" spc="-1" strike="noStrike">
                <a:solidFill>
                  <a:srgbClr val="ff9900"/>
                </a:solidFill>
                <a:latin typeface="Garamond"/>
              </a:rPr>
              <a:t>experimental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and a </a:t>
            </a:r>
            <a:r>
              <a:rPr b="1" lang="en-US" sz="4800" spc="-1" strike="noStrike">
                <a:solidFill>
                  <a:srgbClr val="ff9900"/>
                </a:solidFill>
                <a:latin typeface="Garamond"/>
              </a:rPr>
              <a:t>control group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oes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breast-feeding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a child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improv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heir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intelligenc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later in life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12673_MyersPsy8e_fig"/>
          <p:cNvPicPr/>
          <p:nvPr/>
        </p:nvPicPr>
        <p:blipFill>
          <a:blip r:embed="rId1"/>
          <a:stretch/>
        </p:blipFill>
        <p:spPr>
          <a:xfrm>
            <a:off x="0" y="2287440"/>
            <a:ext cx="90676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 psychologist wishes to test the effects of cell phone use on driving.  To do so, he creates an experiment in which 80 participants partake in a driving test.  40 participants must talk on their phone while driving, while 40 participants may not.  Identify the following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Hypoth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Independent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pendent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onfounding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Experimental 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ontrol 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662440" y="3857760"/>
            <a:ext cx="30481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0-02T11:29:30Z</dcterms:modified>
  <cp:revision>162</cp:revision>
  <dc:subject/>
  <dc:title>Chapter 8: Sensation and Perception</dc:title>
</cp:coreProperties>
</file>