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AD6C-87BE-4042-8BCB-8BB68358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A5F4-C00C-4D80-A9A9-6E8851AE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F845-6A3F-4346-8B0A-0CB9435F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60AF-1ACC-4C69-83A5-98D74E07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6C9-86BB-433F-A445-72F73FC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EE61-D584-4B91-AFEE-0F9537D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F676-AEA7-441F-8449-A34C9998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2F5-2DAC-4259-998E-9DE89A07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5EA-C3FF-4D2C-93A1-B865B265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14E1-3719-486E-8F7E-B100B516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EC5-FE28-4280-97C6-E0D90E9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C079-F5FF-452C-BB59-81D4345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1BE-B8D1-4F4E-B7FE-C2A8311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3D31-FCD6-4A1E-9B89-8FA92244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CB2D-3F0D-47BB-8954-BE38A67B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C237-147F-482A-84F2-D1B126F3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E97B-6A3D-47B4-8D89-087E3B75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6D41-A3A5-4736-AFE6-855119BD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B4EC-7ACE-4710-915A-CADE34B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7EA4-055B-4887-AE89-6A6C0F42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3C12-B573-4E85-87FC-F5102C70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F0EB-0009-41BD-BD53-A2227DF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7A79-587D-4292-A0A9-1D97F9F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6C84-9725-452F-882A-C6275E4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FA89-DB35-4933-99CE-57FF6ED78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E47-2080-4A91-AECC-F9814C482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C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Experimental 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Research Desig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research method in which an investigator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anipulat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e or more variable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independent variables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o observe the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ffec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n some behavior or mental process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(dependent variable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2" descr="http://www.screentrek.com/images/moritz-bleibtreu-in-das-experiment1.jpg"/>
          <p:cNvPicPr/>
          <p:nvPr/>
        </p:nvPicPr>
        <p:blipFill>
          <a:blip r:embed="rId1"/>
          <a:stretch/>
        </p:blipFill>
        <p:spPr>
          <a:xfrm>
            <a:off x="2666880" y="3962520"/>
            <a:ext cx="342900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y might psychological researchers 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prefer </a:t>
            </a: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experimental research designs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ver descriptive o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lational research design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type of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searc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might require an </a:t>
            </a: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experimental desig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s begin with a 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.g. “Caffeine improves test performance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245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6526080" y="3200400"/>
            <a:ext cx="170352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92428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fastfood.ocregister.com/files/2009/05/starbucks-iced-coffee-211x300.jpg"/>
          <p:cNvPicPr/>
          <p:nvPr/>
        </p:nvPicPr>
        <p:blipFill>
          <a:blip r:embed="rId5"/>
          <a:stretch/>
        </p:blipFill>
        <p:spPr>
          <a:xfrm>
            <a:off x="762120" y="3200400"/>
            <a:ext cx="1828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73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must employ variab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In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ipulated/changed by experimenter to observe its effects (e.g. Coffee/Redbul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Dependent Variabl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ffects/changes that occur in relation to the independent variable (e.g. improved test perform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founding Variable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 other than the independent variable that might produce an effect in an experiment (e.g. one’s natural intellige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imenters divide participants into two groups (often randomly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Experimenta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pendent variable is applied (e.g.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Control Group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ed the same way as experimental group, but independent variable is not applied (e.g. No coffee is given to particip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Why would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xperimenters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wish to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employ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n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experimental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nd a </a:t>
            </a:r>
            <a:r>
              <a:rPr b="1" lang="en-US" sz="4800" spc="-1" strike="noStrike">
                <a:solidFill>
                  <a:srgbClr val="ff9900"/>
                </a:solidFill>
                <a:latin typeface="Garamond"/>
              </a:rPr>
              <a:t>control group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Research Desig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oes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reast-feeding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a child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improv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eir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ntelligenc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later in life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12673_MyersPsy8e_fig"/>
          <p:cNvPicPr/>
          <p:nvPr/>
        </p:nvPicPr>
        <p:blipFill>
          <a:blip r:embed="rId1"/>
          <a:stretch/>
        </p:blipFill>
        <p:spPr>
          <a:xfrm>
            <a:off x="0" y="2287440"/>
            <a:ext cx="90676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psychologist wishes to test the effects of cell phone use on driving.  To do so, he creates an experiment in which 80 participants partake in a driving test.  40 participants must talk on their phone while driving, while 40 participants may not.  Identify the following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Independent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pendent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founding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Experimental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ontrol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662440" y="3857760"/>
            <a:ext cx="30481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0-02T11:29:30Z</dcterms:modified>
  <cp:revision>162</cp:revision>
  <dc:subject/>
  <dc:title>Chapter 8: Sensation and Perception</dc:title>
</cp:coreProperties>
</file>