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A77-1CFD-4536-A129-BC9BF887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Amount of sleep and G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64DC-A80D-42BF-9B0B-96AABE15E5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CORRELATION example-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.g. Physical exercise and fat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8C6-C50C-40BD-B6DD-4504E6F082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4DC-7518-4D8D-A3DA-9EB7416614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the subject(s) are closely studied in order to examine broad, general principles that can apply to all (or most)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STUDY example-(e.g. following a group of high school freshmen throughout their high school care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SEC STUDY example-(e.g. studying a group of freshmen and seni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E5E-04BB-47EE-BA68-28D6D67882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 OBS example-(e.g. watching teenagers in a m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explaantion #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e factors that control a particular behavior could be ones observers are not immediately aware of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34F-8F6D-4C83-833D-BE62FDDB7A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75B-2E85-4A23-9A65-4FA95CFC4A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C38-E7A8-469C-8187-AFDD997F94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A0CC-620A-41F1-AAF8-31ECA78C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371E-9AE0-42A5-A308-CE35D3A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2B77-7292-489C-AA2D-D4B9FC29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8867-4097-4FA5-830E-8E4B95BB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C977-15DC-4449-85A9-AF2A628B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79F-B1EE-4EFB-9022-57E12E10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787-9868-4713-A1B6-3CA99837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C6D-1BD6-4EC2-813B-2D3AD0D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EF4E-DBB0-4B55-BEEC-6A4C392D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B176-077A-4E36-A646-BB834B7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056-053D-4AD6-9C26-2148111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4021-05F6-42AA-B6B1-CD02BD0F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B37-DAD6-45CD-A357-40628BC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428-9608-48A1-84A4-C0AF40B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4296-5200-4635-AC37-BDC20A8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E3D1-E56C-4851-8C30-C66A3FF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FFD-B4C0-4A49-8272-85D1D53A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619F-C98F-42F2-ADA7-53D6A108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A915-6AC6-4A1D-A75D-3D5D5F13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4E4E-1C8C-4144-A5B5-65017097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D386-F6F4-4F83-B432-EFED7C88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967C-DE4D-4018-B6C3-EEC8781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0C53-5291-4ED0-8C15-0C269412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8AE8-FCED-48E8-81D8-3B6BA80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465-6D55-4726-9679-A24786BE1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F10-B358-4FA4-AA16-6630BB039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B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Non-Experimental 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-360" y="160020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Posi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es a direct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factors increase together; Both factors decrease togeth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Positive Correlation (r=+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35560" y="2057040"/>
            <a:ext cx="3555360" cy="3047760"/>
            <a:chOff x="5335560" y="2057040"/>
            <a:chExt cx="3555360" cy="3047760"/>
          </a:xfrm>
        </p:grpSpPr>
        <p:grpSp>
          <p:nvGrpSpPr>
            <p:cNvPr id="129" name="Group 4"/>
            <p:cNvGrpSpPr/>
            <p:nvPr/>
          </p:nvGrpSpPr>
          <p:grpSpPr>
            <a:xfrm>
              <a:off x="5335560" y="2057040"/>
              <a:ext cx="3555360" cy="3047760"/>
              <a:chOff x="5335560" y="2057040"/>
              <a:chExt cx="3555360" cy="3047760"/>
            </a:xfrm>
          </p:grpSpPr>
          <p:sp>
            <p:nvSpPr>
              <p:cNvPr id="130" name="Rectangle 5"/>
              <p:cNvSpPr/>
              <p:nvPr/>
            </p:nvSpPr>
            <p:spPr>
              <a:xfrm>
                <a:off x="5538240" y="2057400"/>
                <a:ext cx="3352320" cy="280368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5538240" y="2057400"/>
                <a:ext cx="0" cy="2803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5538240" y="4861080"/>
                <a:ext cx="3352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 flipV="1">
                <a:off x="5335560" y="2057040"/>
                <a:ext cx="0" cy="304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5335560" y="5104800"/>
                <a:ext cx="3555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" name="Line 10"/>
            <p:cNvSpPr/>
            <p:nvPr/>
          </p:nvSpPr>
          <p:spPr>
            <a:xfrm flipV="1">
              <a:off x="5538600" y="2057400"/>
              <a:ext cx="2743200" cy="2803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760" y="1600200"/>
            <a:ext cx="513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Negative Correlation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rs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actor increases, while the other decr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: Perfect Negative Correlation (r=-1.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5334120" y="2057400"/>
            <a:ext cx="3580560" cy="3069360"/>
            <a:chOff x="5334120" y="2057400"/>
            <a:chExt cx="3580560" cy="3069360"/>
          </a:xfrm>
        </p:grpSpPr>
        <p:grpSp>
          <p:nvGrpSpPr>
            <p:cNvPr id="139" name="Group 5"/>
            <p:cNvGrpSpPr/>
            <p:nvPr/>
          </p:nvGrpSpPr>
          <p:grpSpPr>
            <a:xfrm>
              <a:off x="5334120" y="2057400"/>
              <a:ext cx="3580560" cy="3069360"/>
              <a:chOff x="5334120" y="2057400"/>
              <a:chExt cx="3580560" cy="3069360"/>
            </a:xfrm>
          </p:grpSpPr>
          <p:sp>
            <p:nvSpPr>
              <p:cNvPr id="140" name="Rectangle 6"/>
              <p:cNvSpPr/>
              <p:nvPr/>
            </p:nvSpPr>
            <p:spPr>
              <a:xfrm>
                <a:off x="5538240" y="2057400"/>
                <a:ext cx="3376080" cy="282384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Line 7"/>
              <p:cNvSpPr/>
              <p:nvPr/>
            </p:nvSpPr>
            <p:spPr>
              <a:xfrm>
                <a:off x="5538240" y="2057400"/>
                <a:ext cx="0" cy="2823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Line 8"/>
              <p:cNvSpPr/>
              <p:nvPr/>
            </p:nvSpPr>
            <p:spPr>
              <a:xfrm>
                <a:off x="5538240" y="4881240"/>
                <a:ext cx="3376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V="1">
                <a:off x="5334120" y="2057400"/>
                <a:ext cx="0" cy="306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Line 10"/>
              <p:cNvSpPr/>
              <p:nvPr/>
            </p:nvSpPr>
            <p:spPr>
              <a:xfrm>
                <a:off x="5334120" y="5126760"/>
                <a:ext cx="358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5" name="Line 11"/>
            <p:cNvSpPr/>
            <p:nvPr/>
          </p:nvSpPr>
          <p:spPr>
            <a:xfrm>
              <a:off x="5538600" y="2057400"/>
              <a:ext cx="2660040" cy="282420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5440" y="20257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do you think a scatterplot would look like for two factors that are not correlat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at would its correlation coefficient b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=0.00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5791320" y="2517840"/>
            <a:ext cx="3135960" cy="2688480"/>
            <a:chOff x="5791320" y="2517840"/>
            <a:chExt cx="3135960" cy="2688480"/>
          </a:xfrm>
        </p:grpSpPr>
        <p:grpSp>
          <p:nvGrpSpPr>
            <p:cNvPr id="149" name="Group 15"/>
            <p:cNvGrpSpPr/>
            <p:nvPr/>
          </p:nvGrpSpPr>
          <p:grpSpPr>
            <a:xfrm>
              <a:off x="5791320" y="2517840"/>
              <a:ext cx="3135960" cy="2688480"/>
              <a:chOff x="5791320" y="2517840"/>
              <a:chExt cx="3135960" cy="2688480"/>
            </a:xfrm>
          </p:grpSpPr>
          <p:sp>
            <p:nvSpPr>
              <p:cNvPr id="150" name="Rectangle 16"/>
              <p:cNvSpPr/>
              <p:nvPr/>
            </p:nvSpPr>
            <p:spPr>
              <a:xfrm>
                <a:off x="5970240" y="2517840"/>
                <a:ext cx="2957040" cy="2473560"/>
              </a:xfrm>
              <a:prstGeom prst="rect">
                <a:avLst/>
              </a:prstGeom>
              <a:solidFill>
                <a:srgbClr val="ffe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>
                <a:off x="5970240" y="2517840"/>
                <a:ext cx="0" cy="247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5970240" y="4991400"/>
                <a:ext cx="2957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 flipV="1">
                <a:off x="5791320" y="2517840"/>
                <a:ext cx="0" cy="268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5791320" y="5206320"/>
                <a:ext cx="313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5" name="Line 21"/>
            <p:cNvSpPr/>
            <p:nvPr/>
          </p:nvSpPr>
          <p:spPr>
            <a:xfrm>
              <a:off x="6328800" y="294696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6954120" y="2736000"/>
              <a:ext cx="54000" cy="53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643716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7422840" y="314496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7871040" y="28760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8767440" y="30553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795360" y="35035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347520" y="37724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715392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679536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8319240" y="395172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691760" y="38620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8408520" y="413100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616440" y="422064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724392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75128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8319240" y="43102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781760" y="4758480"/>
              <a:ext cx="5400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Height and Temperament in M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3" descr="figure-02-05"/>
          <p:cNvPicPr/>
          <p:nvPr/>
        </p:nvPicPr>
        <p:blipFill>
          <a:blip r:embed="rId1"/>
          <a:stretch/>
        </p:blipFill>
        <p:spPr>
          <a:xfrm>
            <a:off x="685800" y="2330280"/>
            <a:ext cx="7391520" cy="38102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r=+0.6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4 types of non-experimental research designs from this PowerPoint, explain why a researcher might choose to use each type of design, AND create an example of a psychological phenomenon a psychologist would likely study for EACH type of non-research design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ase Study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ually the intensive investigation of a single participant, although occasionally group studies will be cond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wo distinct types of case stud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Longitudi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a single group of participants over a number of yea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ross-Sectional Study: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tudying multiple groups of participants of different ages and comparing them;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t allows conclusions to be drawn about 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Naturalistic Observation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Observation of subject(s) in a natural setting without manipulating or controlling the situatio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observed is likely to be genu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isadvantag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difficult &amp; cos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misinterpretation of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Survey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: Quantitative approach of asking many individuals a fixed set of ques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important characteristic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ports: survey researchers ask their participants (often called respondents) to report directly on their own thoughts, feelings, and behavi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: Samples are small groups of participants (out of a larger group/population) that a researcher surveys/studies. It would be difficult/impossible to survey large groups/populations, so surveys tend to rely on samp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amples-Representative vs Non-Represent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-sample that reflect the characteristics of the population from which they are selected (e.g.-an equal amount of students from eac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representative-a sample that doesn’t reflect the characteristics of the population from which they are selected (e.g.-only seni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ly, representative samples are more desira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1920" y="1218960"/>
            <a:ext cx="910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Representative s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Random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sample that fairly represents a population because each member has an equal chance of inclu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Stratified Sample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ratified sample-a mini-reproduction of the popula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divided into characteristics of importance for the research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gender, social class, education level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pulation is randomly sampled within each category or stratum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.g.-If 38% of the population is college-educated, then 38% of the sample is randomly selected from the college-educated popul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good (or better) than random samples, but more difficult to construc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Garamond"/>
              </a:rPr>
              <a:t>Correlation Studies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rrelational study is a scientific study in which a researcher investigates associations between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-A measure of the extent to which two factors vary together (and how well one factor predicts the 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monstrate cau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lation can be positive or neg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llus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ppears to be relationship where none exis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with scatterp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sur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rrelation coefficient “r”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-1 to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8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rrelation ≠ Caus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12673_MyersPsy8e_fig"/>
          <p:cNvPicPr/>
          <p:nvPr/>
        </p:nvPicPr>
        <p:blipFill>
          <a:blip r:embed="rId1"/>
          <a:stretch/>
        </p:blipFill>
        <p:spPr>
          <a:xfrm>
            <a:off x="789120" y="2133720"/>
            <a:ext cx="7565760" cy="4647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rrelation coefficient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line calculators make it MUCH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socscistatistics.com/tests/pearson/Default2.asp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alcula.com/calculators/statistics/correlation-coefficient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on-Experiment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http://www.socscistatistics.com/images/pearson.pn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09-24T13:09:34Z</cp:lastPrinted>
  <dcterms:modified xsi:type="dcterms:W3CDTF">2015-10-02T11:42:38Z</dcterms:modified>
  <cp:revision>171</cp:revision>
  <dc:subject/>
  <dc:title>Chapter 8: Sensation and Perception</dc:title>
</cp:coreProperties>
</file>