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9B8E-9A25-4EDB-A95A-22E44A8A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Amount of sleep and GP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3961-4182-4F3B-ABBC-30EDEC24BE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Physical exercise and fat con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FD44-0EA4-4ED1-A7CE-617EACE631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445-2A0F-43AA-AEB0-0AD6383613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the subject(s) are closely studied in order to examine broad, general principles that can apply to all (or most)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STUDY example-(e.g. following a group of high school freshmen throughout their high school care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SEC STUDY example-(e.g. studying a group of freshmen and seni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411A-3709-46D1-9CEE-FC679B8FB0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 OBS example-(e.g. watching teenagers in a m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explaantion #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e factors that control a particular behavior could be ones observers are not immediately aware of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DC6-87A8-4506-A40D-1DE6C37773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4A01-2FAA-4B21-83F5-3A391BFEA5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3CD9-16DA-4F13-9DCE-33A41751A0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9A40-ED2F-4696-92DC-079FAB57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C047-0E4D-49E7-A855-AB61F1D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1137-F86B-4A38-A6C2-CD7DC6AF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F0A9-D671-4FDB-B9D7-AC2B3E3B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1A3A-1EA7-4A0B-8A4E-927B6D86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1165-488B-41F2-8524-D813786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7A1D-3FFF-41BC-91D3-441F43DA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B030-5F86-47E3-A5AC-5EDAF41C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D16F-F9CD-4CA0-8E7C-6BF378D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0B9E-3044-4C16-A3A3-8279D1E5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5374-203A-40CC-8D99-54B5A4F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0E0F-F74D-4705-B01A-ED02BF0E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0C8B-6CC6-4400-8404-58A7DC7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BFC8-E901-443F-AAD8-37BD3A06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E6F-4C29-4BE8-9F87-C36117FF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8DA6-BB15-4979-AE44-C8D19DE0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80F-06EC-4019-8796-06E5891F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69D9-4472-441D-9DCB-222A770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03CF-975D-4CD1-92A8-9687C4B4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C01A-C600-45B7-A52E-C74B47BC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0C2C-86A2-46D6-9FDA-200178E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1A69-9CA3-4BAD-B751-7FF9120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EBD9-AC38-4757-A2CF-CEB30A6F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CFB8-87D3-489D-B243-0175E9F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5F4F-5C4C-4ACC-92DB-ACEA040316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20B6-17B2-4B27-A900-48C70A9966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B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Non-Experimental 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-360" y="160020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Posi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cates a direct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factors increase together; Both factors decrease togeth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Positive Correlation (r=+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35560" y="2057040"/>
            <a:ext cx="3555360" cy="3047760"/>
            <a:chOff x="5335560" y="2057040"/>
            <a:chExt cx="3555360" cy="3047760"/>
          </a:xfrm>
        </p:grpSpPr>
        <p:grpSp>
          <p:nvGrpSpPr>
            <p:cNvPr id="129" name="Group 4"/>
            <p:cNvGrpSpPr/>
            <p:nvPr/>
          </p:nvGrpSpPr>
          <p:grpSpPr>
            <a:xfrm>
              <a:off x="5335560" y="2057040"/>
              <a:ext cx="3555360" cy="3047760"/>
              <a:chOff x="5335560" y="2057040"/>
              <a:chExt cx="3555360" cy="3047760"/>
            </a:xfrm>
          </p:grpSpPr>
          <p:sp>
            <p:nvSpPr>
              <p:cNvPr id="130" name="Rectangle 5"/>
              <p:cNvSpPr/>
              <p:nvPr/>
            </p:nvSpPr>
            <p:spPr>
              <a:xfrm>
                <a:off x="5538240" y="2057400"/>
                <a:ext cx="3352320" cy="280368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5538240" y="2057400"/>
                <a:ext cx="0" cy="2803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5538240" y="4861080"/>
                <a:ext cx="3352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Line 8"/>
              <p:cNvSpPr/>
              <p:nvPr/>
            </p:nvSpPr>
            <p:spPr>
              <a:xfrm flipV="1">
                <a:off x="5335560" y="2057040"/>
                <a:ext cx="0" cy="304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5335560" y="5104800"/>
                <a:ext cx="3555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" name="Line 10"/>
            <p:cNvSpPr/>
            <p:nvPr/>
          </p:nvSpPr>
          <p:spPr>
            <a:xfrm flipV="1">
              <a:off x="5538600" y="2057400"/>
              <a:ext cx="2743200" cy="2803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0760" y="1600200"/>
            <a:ext cx="513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Nega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ers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actor increases, while the other decr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Negative Correlation (r=-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5334120" y="2057400"/>
            <a:ext cx="3580560" cy="3069360"/>
            <a:chOff x="5334120" y="2057400"/>
            <a:chExt cx="3580560" cy="3069360"/>
          </a:xfrm>
        </p:grpSpPr>
        <p:grpSp>
          <p:nvGrpSpPr>
            <p:cNvPr id="139" name="Group 5"/>
            <p:cNvGrpSpPr/>
            <p:nvPr/>
          </p:nvGrpSpPr>
          <p:grpSpPr>
            <a:xfrm>
              <a:off x="5334120" y="2057400"/>
              <a:ext cx="3580560" cy="3069360"/>
              <a:chOff x="5334120" y="2057400"/>
              <a:chExt cx="3580560" cy="3069360"/>
            </a:xfrm>
          </p:grpSpPr>
          <p:sp>
            <p:nvSpPr>
              <p:cNvPr id="140" name="Rectangle 6"/>
              <p:cNvSpPr/>
              <p:nvPr/>
            </p:nvSpPr>
            <p:spPr>
              <a:xfrm>
                <a:off x="5538240" y="2057400"/>
                <a:ext cx="3376080" cy="282384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Line 7"/>
              <p:cNvSpPr/>
              <p:nvPr/>
            </p:nvSpPr>
            <p:spPr>
              <a:xfrm>
                <a:off x="5538240" y="2057400"/>
                <a:ext cx="0" cy="2823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Line 8"/>
              <p:cNvSpPr/>
              <p:nvPr/>
            </p:nvSpPr>
            <p:spPr>
              <a:xfrm>
                <a:off x="5538240" y="4881240"/>
                <a:ext cx="3376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V="1">
                <a:off x="5334120" y="2057400"/>
                <a:ext cx="0" cy="306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Line 10"/>
              <p:cNvSpPr/>
              <p:nvPr/>
            </p:nvSpPr>
            <p:spPr>
              <a:xfrm>
                <a:off x="5334120" y="5126760"/>
                <a:ext cx="3580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5" name="Line 11"/>
            <p:cNvSpPr/>
            <p:nvPr/>
          </p:nvSpPr>
          <p:spPr>
            <a:xfrm>
              <a:off x="5538600" y="2057400"/>
              <a:ext cx="2660040" cy="282420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5440" y="20257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do you think a scatterplot would look like for two factors that are not correlat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would its correlation coefficient b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r=0.00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5791320" y="2517840"/>
            <a:ext cx="3135960" cy="2688480"/>
            <a:chOff x="5791320" y="2517840"/>
            <a:chExt cx="3135960" cy="2688480"/>
          </a:xfrm>
        </p:grpSpPr>
        <p:grpSp>
          <p:nvGrpSpPr>
            <p:cNvPr id="149" name="Group 15"/>
            <p:cNvGrpSpPr/>
            <p:nvPr/>
          </p:nvGrpSpPr>
          <p:grpSpPr>
            <a:xfrm>
              <a:off x="5791320" y="2517840"/>
              <a:ext cx="3135960" cy="2688480"/>
              <a:chOff x="5791320" y="2517840"/>
              <a:chExt cx="3135960" cy="2688480"/>
            </a:xfrm>
          </p:grpSpPr>
          <p:sp>
            <p:nvSpPr>
              <p:cNvPr id="150" name="Rectangle 16"/>
              <p:cNvSpPr/>
              <p:nvPr/>
            </p:nvSpPr>
            <p:spPr>
              <a:xfrm>
                <a:off x="5970240" y="2517840"/>
                <a:ext cx="2957040" cy="247356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Line 17"/>
              <p:cNvSpPr/>
              <p:nvPr/>
            </p:nvSpPr>
            <p:spPr>
              <a:xfrm>
                <a:off x="5970240" y="2517840"/>
                <a:ext cx="0" cy="247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Line 18"/>
              <p:cNvSpPr/>
              <p:nvPr/>
            </p:nvSpPr>
            <p:spPr>
              <a:xfrm>
                <a:off x="5970240" y="4991400"/>
                <a:ext cx="2957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Line 19"/>
              <p:cNvSpPr/>
              <p:nvPr/>
            </p:nvSpPr>
            <p:spPr>
              <a:xfrm flipV="1">
                <a:off x="5791320" y="2517840"/>
                <a:ext cx="0" cy="268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>
                <a:off x="5791320" y="5206320"/>
                <a:ext cx="313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5" name="Line 21"/>
            <p:cNvSpPr/>
            <p:nvPr/>
          </p:nvSpPr>
          <p:spPr>
            <a:xfrm>
              <a:off x="6328800" y="2946960"/>
              <a:ext cx="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6954120" y="2736000"/>
              <a:ext cx="54000" cy="53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6437160" y="30553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7422840" y="314496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7871040" y="28760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8767440" y="30553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795360" y="35035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347520" y="37724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715392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679536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831924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691760" y="38620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8408520" y="413100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616440" y="42206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724392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751284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831924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781760" y="47584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Height and Temperament in M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3" descr="figure-02-05"/>
          <p:cNvPicPr/>
          <p:nvPr/>
        </p:nvPicPr>
        <p:blipFill>
          <a:blip r:embed="rId1"/>
          <a:stretch/>
        </p:blipFill>
        <p:spPr>
          <a:xfrm>
            <a:off x="685800" y="2330280"/>
            <a:ext cx="7391520" cy="38102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r=+0.6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4 types of non-experimental research designs from this PowerPoint, explain why a researcher might choose to use each type of design, AND create an example of a psychological phenomenon a psychologist would likely study for EACH type of non-research design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ase Study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ually the intensive investigation of a single participant, although occasionally group studies will be cond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wo distinct types of case stud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Longitudi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a single group of participants over a number of yea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ross-Sectio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multiple groups of participants of different ages and comparing them;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t allows conclusions to be drawn about a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Naturalistic Observation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Observation of subject(s) in a natural setting without manipulating or controlling the situ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observed is likely to be genu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is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difficult &amp; cost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misinterpretation of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Survey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: Quantitative approach of asking many individuals a fixed set of ques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important characteristic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reports: survey researchers ask their participants (often called respondents) to report directly on their own thoughts, feelings, and behavi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: Samples are small groups of participants (out of a larger group/population) that a researcher surveys/studies. It would be difficult/impossible to survey large groups/populations, so surveys tend to rely on samp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amples-Representative vs Non-Represent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-sample that reflect the characteristics of the population from which they are selected (e.g.-an equal amount of students from eac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representative-a sample that doesn’t reflect the characteristics of the population from which they are selected (e.g.-only seni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ly, representative samples are more desirab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1920" y="1218960"/>
            <a:ext cx="910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Representative s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andom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ample that fairly represents a population because each member has an equal chance of inclu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Stratified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ratified sample-a mini-reproduction of the popula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divided into characteristics of importance for the research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gender, social class, education level, etc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randomly sampled within each category or stratum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-If 38% of the population is college-educated, then 38% of the sample is randomly selected from the college-educated popul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good (or better) than random samples, but more difficult to construc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orrelation Studies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rrelational study is a scientific study in which a researcher investigates associations between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-A measure of the extent to which two factors vary together (and how well one factor predicts the 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monstrate cau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 can be positive or neg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llus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ppears to be relationship where none exis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with scatterp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rrelation coefficient “r”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-1 to +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8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rrelation ≠ Caus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12673_MyersPsy8e_fig"/>
          <p:cNvPicPr/>
          <p:nvPr/>
        </p:nvPicPr>
        <p:blipFill>
          <a:blip r:embed="rId1"/>
          <a:stretch/>
        </p:blipFill>
        <p:spPr>
          <a:xfrm>
            <a:off x="789120" y="2133720"/>
            <a:ext cx="7565760" cy="4647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rrelation coefficient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line calculators make it MUCH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socscistatistics.com/tests/pearson/Default2.asp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alcula.com/calculators/statistics/correlation-coefficient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http://www.socscistatistics.com/images/pearson.png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09-24T13:09:34Z</cp:lastPrinted>
  <dcterms:modified xsi:type="dcterms:W3CDTF">2015-10-02T11:42:38Z</dcterms:modified>
  <cp:revision>171</cp:revision>
  <dc:subject/>
  <dc:title>Chapter 8: Sensation and Perception</dc:title>
</cp:coreProperties>
</file>