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D632-534D-4A40-8E68-3B8A3F56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Amount of sleep and G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AA58-41F9-4E5E-A159-729BE73B5E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Physical exercise and fat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E426-BAE9-4E38-8F9E-5FF27DA8DD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535-BEC0-4C8B-B93C-3E3B43586C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the subject(s) are closely studied in order to examine broad, general principles that can apply to all (or most)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STUDY example-(e.g. following a group of high school freshmen throughout their high school care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SEC STUDY example-(e.g. studying a group of freshmen and seni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62F-814C-4C97-811D-47ED8A362B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 OBS example-(e.g. watching teenagers in a m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explaantion #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e factors that control a particular behavior could be ones observers are not immediately aware of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504-1632-472D-AE55-9C4DBC87D8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6A7-2355-461B-A4F1-4257A54D5D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3FE4-6084-4778-AAD8-E56022E025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8DB2-D1A9-4804-B83B-0529AA98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0033-40D4-4DDA-B825-850E8966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A053-EAF9-4D95-ABDA-F8163617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8F30-91FA-4F5F-B2B5-B4E7ECA7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DDC1-3AF9-44E3-8EAC-13BF1F97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744D-6E08-4BE7-B45F-BE14E730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7FC1-9841-4BE2-9CFD-CB04DE09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6379-FE6F-476E-83EB-A22D8E5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F18A-5296-444D-A6E0-1E6E9EA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41D2-8CCB-4B1F-80FB-C4434380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E247-6148-4FEC-86AD-8F0DAE5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4365-5EDA-4F18-8A1C-BAAAB23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DBA1-ED82-4AD0-AE07-AAADDC4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666-2BAF-410C-8400-DE72C72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A61F-CDDA-4D4E-831D-BB9DD5F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13B-572C-40A7-906C-F1CA20D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A470-2C3A-4A1E-A8A7-45600870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1F6D-9621-4860-B656-7CD53C2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14B7-2D79-47C8-8FFC-1E8048E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9645-86E7-4208-B85E-BA4C324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6F62-7E01-406C-B44F-0928E3D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2784-E1A3-4EA5-85D5-24E2464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CF96-6EC4-4DB4-8C07-BDBE9CE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0923-2F31-4489-A20E-17963B4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AED-08C3-4AE5-81B4-0BEE03816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CDA-CC94-44E2-9F84-42FC15D10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Non-Experimental &amp; Experimental 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-360" y="160020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Posi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es a direct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factors increase together; Both factors decrease togeth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Positive Correlation (r=+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35560" y="2057040"/>
            <a:ext cx="3555360" cy="3047760"/>
            <a:chOff x="5335560" y="2057040"/>
            <a:chExt cx="3555360" cy="3047760"/>
          </a:xfrm>
        </p:grpSpPr>
        <p:grpSp>
          <p:nvGrpSpPr>
            <p:cNvPr id="129" name="Group 4"/>
            <p:cNvGrpSpPr/>
            <p:nvPr/>
          </p:nvGrpSpPr>
          <p:grpSpPr>
            <a:xfrm>
              <a:off x="5335560" y="2057040"/>
              <a:ext cx="3555360" cy="3047760"/>
              <a:chOff x="5335560" y="2057040"/>
              <a:chExt cx="3555360" cy="3047760"/>
            </a:xfrm>
          </p:grpSpPr>
          <p:sp>
            <p:nvSpPr>
              <p:cNvPr id="130" name="Rectangle 5"/>
              <p:cNvSpPr/>
              <p:nvPr/>
            </p:nvSpPr>
            <p:spPr>
              <a:xfrm>
                <a:off x="5538240" y="2057400"/>
                <a:ext cx="3352320" cy="280368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5538240" y="2057400"/>
                <a:ext cx="0" cy="2803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5538240" y="4861080"/>
                <a:ext cx="3352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 flipV="1">
                <a:off x="5335560" y="2057040"/>
                <a:ext cx="0" cy="304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5335560" y="5104800"/>
                <a:ext cx="3555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" name="Line 10"/>
            <p:cNvSpPr/>
            <p:nvPr/>
          </p:nvSpPr>
          <p:spPr>
            <a:xfrm flipV="1">
              <a:off x="5538600" y="2057400"/>
              <a:ext cx="2743200" cy="2803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760" y="1600200"/>
            <a:ext cx="513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Nega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rs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actor increases, while the other decr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Negative Correlation (r=-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5334120" y="2057400"/>
            <a:ext cx="3580560" cy="3069360"/>
            <a:chOff x="5334120" y="2057400"/>
            <a:chExt cx="3580560" cy="3069360"/>
          </a:xfrm>
        </p:grpSpPr>
        <p:grpSp>
          <p:nvGrpSpPr>
            <p:cNvPr id="139" name="Group 5"/>
            <p:cNvGrpSpPr/>
            <p:nvPr/>
          </p:nvGrpSpPr>
          <p:grpSpPr>
            <a:xfrm>
              <a:off x="5334120" y="2057400"/>
              <a:ext cx="3580560" cy="3069360"/>
              <a:chOff x="5334120" y="2057400"/>
              <a:chExt cx="3580560" cy="3069360"/>
            </a:xfrm>
          </p:grpSpPr>
          <p:sp>
            <p:nvSpPr>
              <p:cNvPr id="140" name="Rectangle 6"/>
              <p:cNvSpPr/>
              <p:nvPr/>
            </p:nvSpPr>
            <p:spPr>
              <a:xfrm>
                <a:off x="5538240" y="2057400"/>
                <a:ext cx="3376080" cy="282384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Line 7"/>
              <p:cNvSpPr/>
              <p:nvPr/>
            </p:nvSpPr>
            <p:spPr>
              <a:xfrm>
                <a:off x="5538240" y="2057400"/>
                <a:ext cx="0" cy="2823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Line 8"/>
              <p:cNvSpPr/>
              <p:nvPr/>
            </p:nvSpPr>
            <p:spPr>
              <a:xfrm>
                <a:off x="5538240" y="4881240"/>
                <a:ext cx="3376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V="1">
                <a:off x="5334120" y="2057400"/>
                <a:ext cx="0" cy="306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Line 10"/>
              <p:cNvSpPr/>
              <p:nvPr/>
            </p:nvSpPr>
            <p:spPr>
              <a:xfrm>
                <a:off x="5334120" y="5126760"/>
                <a:ext cx="358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5" name="Line 11"/>
            <p:cNvSpPr/>
            <p:nvPr/>
          </p:nvSpPr>
          <p:spPr>
            <a:xfrm>
              <a:off x="5538600" y="2057400"/>
              <a:ext cx="2660040" cy="282420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600" y="1630440"/>
            <a:ext cx="5137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do you think a scatterplot would look like for two factors that are not correlat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would it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rrel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efficient b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=0.00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6019920" y="1526760"/>
            <a:ext cx="2839320" cy="2435040"/>
            <a:chOff x="6019920" y="1526760"/>
            <a:chExt cx="2839320" cy="2435040"/>
          </a:xfrm>
        </p:grpSpPr>
        <p:grpSp>
          <p:nvGrpSpPr>
            <p:cNvPr id="149" name="Group 15"/>
            <p:cNvGrpSpPr/>
            <p:nvPr/>
          </p:nvGrpSpPr>
          <p:grpSpPr>
            <a:xfrm>
              <a:off x="6019920" y="1526760"/>
              <a:ext cx="2839320" cy="2435040"/>
              <a:chOff x="6019920" y="1526760"/>
              <a:chExt cx="2839320" cy="2435040"/>
            </a:xfrm>
          </p:grpSpPr>
          <p:sp>
            <p:nvSpPr>
              <p:cNvPr id="150" name="Rectangle 16"/>
              <p:cNvSpPr/>
              <p:nvPr/>
            </p:nvSpPr>
            <p:spPr>
              <a:xfrm>
                <a:off x="6181920" y="1527120"/>
                <a:ext cx="2677320" cy="2239920"/>
              </a:xfrm>
              <a:prstGeom prst="rect">
                <a:avLst/>
              </a:prstGeom>
              <a:solidFill>
                <a:srgbClr val="ffe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>
                <a:off x="6181920" y="1527120"/>
                <a:ext cx="0" cy="2239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6181920" y="3767040"/>
                <a:ext cx="2677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 flipV="1">
                <a:off x="6019920" y="1526760"/>
                <a:ext cx="0" cy="243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6019920" y="3961800"/>
                <a:ext cx="2839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5" name="Line 21"/>
            <p:cNvSpPr/>
            <p:nvPr/>
          </p:nvSpPr>
          <p:spPr>
            <a:xfrm>
              <a:off x="6506640" y="191592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7072920" y="1724760"/>
              <a:ext cx="48960" cy="4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6604920" y="2013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7497360" y="2094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7902720" y="18514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8714520" y="20138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928920" y="241992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523560" y="26632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725364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692892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8308800" y="2825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740720" y="274464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8389800" y="298800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766920" y="306900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733500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757836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8308800" y="315036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822080" y="3556080"/>
              <a:ext cx="48960" cy="48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30" descr="http://www.shmoop.com/images/algebra/alg_probstat_bivar_narr_graphik_11.png"/>
          <p:cNvPicPr/>
          <p:nvPr/>
        </p:nvPicPr>
        <p:blipFill>
          <a:blip r:embed="rId1"/>
          <a:stretch/>
        </p:blipFill>
        <p:spPr>
          <a:xfrm>
            <a:off x="2971800" y="3203640"/>
            <a:ext cx="2816280" cy="234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2" descr="http://www.shmoop.com/images/algebra/alg_probstat_bivar_narr_graphik_12.png"/>
          <p:cNvPicPr/>
          <p:nvPr/>
        </p:nvPicPr>
        <p:blipFill>
          <a:blip r:embed="rId2"/>
          <a:stretch/>
        </p:blipFill>
        <p:spPr>
          <a:xfrm>
            <a:off x="6170760" y="4143240"/>
            <a:ext cx="26542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Height and Temperament in M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Picture 3" descr="figure-02-05"/>
          <p:cNvPicPr/>
          <p:nvPr/>
        </p:nvPicPr>
        <p:blipFill>
          <a:blip r:embed="rId1"/>
          <a:stretch/>
        </p:blipFill>
        <p:spPr>
          <a:xfrm>
            <a:off x="685800" y="2330280"/>
            <a:ext cx="7391520" cy="38102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r=+0.6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Experimental 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(Laboratory)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research method in which an investigator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anipulat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e or more variable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independent variables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o observe the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ffec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 some behavior or mental proces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dependent variable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ed in a controlled                                      environment, usually a scientific                                                     lab, in order to test a hypoth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5715000" y="4100400"/>
            <a:ext cx="3429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el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 experiment that is carried out in the subject(s) natural, everyday environmen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earcher still manipulates the independent variables, in order to observe the dependent variab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(Lab) experiments offer more                                            control than field experimen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ield experiments (since they                                                    occur in the natural environment)                                        are more likely to be generalizab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5715000" y="4100400"/>
            <a:ext cx="3429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a question has been asked, or a theory proposed; experiments begin with a 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.g. “Caffeine improves test performance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24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6526080" y="3200400"/>
            <a:ext cx="170352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292428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ttp://fastfood.ocregister.com/files/2009/05/starbucks-iced-coffee-211x300.jpg"/>
          <p:cNvPicPr/>
          <p:nvPr/>
        </p:nvPicPr>
        <p:blipFill>
          <a:blip r:embed="rId5"/>
          <a:stretch/>
        </p:blipFill>
        <p:spPr>
          <a:xfrm>
            <a:off x="762120" y="3200400"/>
            <a:ext cx="1828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must employ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ed/changed by experimenter to observe its effects (e.g. Coffee/Redbul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effects/changes that occur in relation to the independent variable (e.g. improved test performanc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founding Variable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tors other than the independent variable that might produce an effect in an experiment (e.g. one’s natural intelligenc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trol Variab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s that are kept the same throughout the experiment/stu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divide participants into two groups (often randomly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Experimenta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pendent variable is applied (e.g.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tro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ed the same way as experimental group, but independent variable is not applied (e.g. No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ase Study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ually the intensive investigation of a single participant, although occasionally group studies will be cond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wo distinct types of case stud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Longitudi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a single group of participants over a number of yea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ross-Sectio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multiple groups of participants of different ages and comparing them;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t allows conclusions to be drawn about 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Naturalistic Observation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Observation of subject(s) in a natural setting without manipulating or controlling the situ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observed is likely to be genu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is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difficult &amp; cos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misinterpretation of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Survey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: Quantitative approach of asking many individuals a fixed set of ques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important characteristic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ports: survey researchers ask their participants (often called respondents) to report directly on their own thoughts, feelings, and behavi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: Samples are small groups of participants (out of a larger group/population) that a researcher surveys/studies. It would be difficult/impossible to survey large groups/populations, so surveys tend to rely on samp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amples-Representative vs Non-Represent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-sample that reflect the characteristics of the population from which they are selected (e.g.-an equal amount of students from eac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representative-a sample that doesn’t reflect the characteristics of the population from which they are selected (e.g.-only seni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Garamond"/>
              </a:rPr>
              <a:t>Obviously, representative samples are more desira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1920" y="1218960"/>
            <a:ext cx="910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Representative s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andom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ample that fairly represents a population because each member has an equal chance of inclu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Stratified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ratified sample-a mini-reproduction of the popula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divided into characteristics of importance for the research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gender, social class, education level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randomly sampled within each category or stratum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-If 38% of the population is college-educated, then 38% of the sample is randomly selected from the college-educated popul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good (or better) than random samples, but more difficult to construc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orrelation Studies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rrelational study is a scientific study in which a researcher investigates associations between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-A measure of the extent to which two factors vary together (and how well one factor predicts the 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monstrate cau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 can be positive or neg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llus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ppears to be relationship where none exis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with scatterp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rrelation coefficient “r”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-1 to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8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rrelation ≠ Caus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12673_MyersPsy8e_fig"/>
          <p:cNvPicPr/>
          <p:nvPr/>
        </p:nvPicPr>
        <p:blipFill>
          <a:blip r:embed="rId1"/>
          <a:stretch/>
        </p:blipFill>
        <p:spPr>
          <a:xfrm>
            <a:off x="789120" y="2133720"/>
            <a:ext cx="7565760" cy="4647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rrelation coefficient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line calculators make it MUCH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socscistatistics.com/tests/pearson/Default2.asp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alcula.com/calculators/statistics/correlation-coefficient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http://www.socscistatistics.com/images/pearson.pn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09-24T13:09:34Z</cp:lastPrinted>
  <dcterms:modified xsi:type="dcterms:W3CDTF">2016-08-26T13:43:38Z</dcterms:modified>
  <cp:revision>174</cp:revision>
  <dc:subject/>
  <dc:title>Chapter 8: Sensation and Perception</dc:title>
</cp:coreProperties>
</file>