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325-5F6E-4E2C-9E11-B8D8B109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AA5-4F22-4686-AF93-66E0AF6399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E37-8FF9-4615-8611-7B27D5F0DD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027-F2A7-45C7-8555-5F2F2DE6BF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CFA-EF08-4BC1-B9D6-45CF55DD3F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02B-8136-4C43-8CBE-170735F087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660-43FA-4567-AA20-CBE260F83F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7BE-BF5B-45FE-96CE-97500D856C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F041-5703-4B63-914F-F66BD23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7286-AD27-4A04-B9B8-B032FC31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E1A3-ACF8-4B9E-9859-B530C70C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159A-AE49-4F34-B20E-022140B2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C25-A5EE-4AC4-A19B-ADA4DCF2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8FA-575C-42BD-976E-0325ED6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D5F5-8022-4B50-A434-E1EC665A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F4B-66C1-4170-B864-1C5EB47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D7C7-E935-4552-B9E2-CD1C0D2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78D2-3E9E-41F8-8517-C505A7B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57B4-D598-44AD-AE54-1AA72BE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73DE-B6BF-4C5D-A8C3-92CFD3D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AD0D-9D55-4F2F-B0B5-F97C8C2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D443-C814-4E54-928C-49DBD81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AF64-63D3-4D22-89F5-8B882CB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ABFD-DD60-4A55-98CC-DD93E528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703-37B8-4A6F-B1EE-1656145F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8896-7BD3-474B-8FE7-76E4999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A857-09B5-4726-BD55-3F8CC48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1BD9-D7B5-4E01-B0D2-EF5E702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F1F9-318A-499A-9925-069F5568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B25E-EFFE-46E9-932D-6A6F7FF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4057-C775-42C3-98ED-51CBC06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78B2-B2B1-4817-BAC9-74BCE05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A726-109B-41A5-B353-CAF0335C0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B05-7509-499A-9C50-F207BF358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&amp; 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600" y="1630440"/>
            <a:ext cx="5137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rrel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6019920" y="1526760"/>
            <a:ext cx="2839320" cy="2435040"/>
            <a:chOff x="6019920" y="1526760"/>
            <a:chExt cx="2839320" cy="2435040"/>
          </a:xfrm>
        </p:grpSpPr>
        <p:grpSp>
          <p:nvGrpSpPr>
            <p:cNvPr id="149" name="Group 15"/>
            <p:cNvGrpSpPr/>
            <p:nvPr/>
          </p:nvGrpSpPr>
          <p:grpSpPr>
            <a:xfrm>
              <a:off x="6019920" y="1526760"/>
              <a:ext cx="2839320" cy="2435040"/>
              <a:chOff x="6019920" y="1526760"/>
              <a:chExt cx="2839320" cy="243504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6181920" y="1527120"/>
                <a:ext cx="2677320" cy="2239920"/>
              </a:xfrm>
              <a:prstGeom prst="rect">
                <a:avLst/>
              </a:prstGeom>
              <a:solidFill>
                <a:srgbClr val="ffe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6181920" y="1527120"/>
                <a:ext cx="0" cy="2239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6181920" y="3767040"/>
                <a:ext cx="2677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6019920" y="1526760"/>
                <a:ext cx="0" cy="243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6019920" y="3961800"/>
                <a:ext cx="2839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506640" y="191592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7072920" y="1724760"/>
              <a:ext cx="48960" cy="4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6049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97360" y="2094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902720" y="18514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145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928920" y="241992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523560" y="26632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25364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92892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0880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740720" y="2744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389800" y="2988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766920" y="3069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3350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7836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088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822080" y="35560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30" descr="http://www.shmoop.com/images/algebra/alg_probstat_bivar_narr_graphik_11.png"/>
          <p:cNvPicPr/>
          <p:nvPr/>
        </p:nvPicPr>
        <p:blipFill>
          <a:blip r:embed="rId1"/>
          <a:stretch/>
        </p:blipFill>
        <p:spPr>
          <a:xfrm>
            <a:off x="2971800" y="3203640"/>
            <a:ext cx="2816280" cy="234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http://www.shmoop.com/images/algebra/alg_probstat_bivar_narr_graphik_12.png"/>
          <p:cNvPicPr/>
          <p:nvPr/>
        </p:nvPicPr>
        <p:blipFill>
          <a:blip r:embed="rId2"/>
          <a:stretch/>
        </p:blipFill>
        <p:spPr>
          <a:xfrm>
            <a:off x="6170760" y="4143240"/>
            <a:ext cx="2654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Experimental 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(Laboratory)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research method in which an investigato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anipulat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e or more variable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independent variables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o observe the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ffec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 some behavior or mental proces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dependent variable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ed in a controlled                                      environment, usually a scientific                                                     lab, in order to test a hypoth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el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xperiment that is carried out in the subject(s) natural, everyday environmen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earcher still manipulates the independent variables, in order to observe the dependent vari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(Lab) experiments offer more                                            control than field experimen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ield experiments (since they                                                    occur in the natural environment)                                        are more likely to be generaliz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a question has been asked, or a theory proposed; experiments begin with a 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.g. “Caffeine improves test performance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24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6526080" y="3200400"/>
            <a:ext cx="170352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292428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fastfood.ocregister.com/files/2009/05/starbucks-iced-coffee-211x300.jpg"/>
          <p:cNvPicPr/>
          <p:nvPr/>
        </p:nvPicPr>
        <p:blipFill>
          <a:blip r:embed="rId5"/>
          <a:stretch/>
        </p:blipFill>
        <p:spPr>
          <a:xfrm>
            <a:off x="762120" y="3200400"/>
            <a:ext cx="1828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must employ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ed/changed by experimenter to observe its effects (e.g. Coffee/Redbul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ffects/changes that occur in relation to the independent variable (e.g. improved test performa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founding Variable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tors other than the independent variable that might produce an effect in an experiment (e.g. one’s natural intellige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trol Variab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s that are kept the same throughout the experiment/stu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divide participants into two groups (often randomly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Experimenta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pendent variable is applied (e.g.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tro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ed the same way as experimental group, but independent variable is not applied (e.g. No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6-08-26T13:43:38Z</dcterms:modified>
  <cp:revision>174</cp:revision>
  <dc:subject/>
  <dc:title>Chapter 8: Sensation and Perception</dc:title>
</cp:coreProperties>
</file>