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FC2B-A95F-4D59-90B4-F15A18242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Amount of sleep and GP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4DB-9E6A-443E-837C-93C2823D08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Physical exercise and fat con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7622-6649-471A-B6B6-1FB75BCAAC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755-2EDF-4239-98F7-16406934E2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the subject(s) are closely studied in order to examine broad, general principles that can apply to all (or most)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STUDY example-(e.g. following a group of high school freshmen throughout their high school care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SEC STUDY example-(e.g. studying a group of freshmen and seni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E5DD-ED3A-4B51-9527-8CC06D5AD6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 OBS example-(e.g. watching teenagers in a m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explaantion #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e factors that control a particular behavior could be ones observers are not immediately aware of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6DA3-3089-4093-9BEB-F5049E68D8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35E7-61A3-4150-9B07-A909F25A34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D06B-251F-4BD1-AB71-11B65063C7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05CC-CF98-4654-9F78-875EB979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261A-25D5-4E9E-8A6B-DDB6901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AD44-5FA5-4AB1-85AE-D253BBA7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B827-9E00-4670-A6B1-9786E17B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B2B-D7C3-41E5-AF33-367C7804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D177-D2E9-4440-897E-6DB6A7E9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1AC9-60DA-40CB-A533-01E3AB79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525E-AFFB-484C-82E2-8C452376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125A-C58F-4893-A1A0-D9ECB9C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ABDB-CF06-48E8-AFD0-05A4C45A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B542-9B68-4B97-864A-086FAB2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47BF-BD9C-4D71-8C0E-5E5156C9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8C5-1AD8-4845-A441-F35320BE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8B65-CF88-4C1A-B2E9-394A914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3AB5-4DFB-4F95-9ADD-2881849B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8A5-37E5-47F6-9528-50BE4902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407E-FADB-43F4-ADD0-522864D3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1EEA-7318-4BFC-8A9D-F2D226D4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7ACA-FA69-4E39-9E12-7E1E94C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9302-217E-41C1-9107-42D157D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A45A-53FB-4B30-BFBE-930EE21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6949-7BF7-49EC-ACB9-BFE1109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B63C-CF98-45AD-A686-0EEE94F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5143-44B7-4F09-AA41-C020D63F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EBA-E369-4E26-9BA1-905B4628E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E42-2DF7-42D1-8BF3-AECFD64AE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Non-Experimental &amp; Experimental 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-360" y="160020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Posi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cates a direct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factors increase together; Both factors decrease togeth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Positive Correlation (r=+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35560" y="2057040"/>
            <a:ext cx="3555360" cy="3047760"/>
            <a:chOff x="5335560" y="2057040"/>
            <a:chExt cx="3555360" cy="3047760"/>
          </a:xfrm>
        </p:grpSpPr>
        <p:grpSp>
          <p:nvGrpSpPr>
            <p:cNvPr id="129" name="Group 4"/>
            <p:cNvGrpSpPr/>
            <p:nvPr/>
          </p:nvGrpSpPr>
          <p:grpSpPr>
            <a:xfrm>
              <a:off x="5335560" y="2057040"/>
              <a:ext cx="3555360" cy="3047760"/>
              <a:chOff x="5335560" y="2057040"/>
              <a:chExt cx="3555360" cy="3047760"/>
            </a:xfrm>
          </p:grpSpPr>
          <p:sp>
            <p:nvSpPr>
              <p:cNvPr id="130" name="Rectangle 5"/>
              <p:cNvSpPr/>
              <p:nvPr/>
            </p:nvSpPr>
            <p:spPr>
              <a:xfrm>
                <a:off x="5538240" y="2057400"/>
                <a:ext cx="3352320" cy="280368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5538240" y="2057400"/>
                <a:ext cx="0" cy="2803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5538240" y="4861080"/>
                <a:ext cx="3352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Line 8"/>
              <p:cNvSpPr/>
              <p:nvPr/>
            </p:nvSpPr>
            <p:spPr>
              <a:xfrm flipV="1">
                <a:off x="5335560" y="2057040"/>
                <a:ext cx="0" cy="304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5335560" y="5104800"/>
                <a:ext cx="3555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" name="Line 10"/>
            <p:cNvSpPr/>
            <p:nvPr/>
          </p:nvSpPr>
          <p:spPr>
            <a:xfrm flipV="1">
              <a:off x="5538600" y="2057400"/>
              <a:ext cx="2743200" cy="2803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0760" y="1600200"/>
            <a:ext cx="513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Nega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ers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actor increases, while the other decr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Negative Correlation (r=-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5334120" y="2057400"/>
            <a:ext cx="3580560" cy="3069360"/>
            <a:chOff x="5334120" y="2057400"/>
            <a:chExt cx="3580560" cy="3069360"/>
          </a:xfrm>
        </p:grpSpPr>
        <p:grpSp>
          <p:nvGrpSpPr>
            <p:cNvPr id="139" name="Group 5"/>
            <p:cNvGrpSpPr/>
            <p:nvPr/>
          </p:nvGrpSpPr>
          <p:grpSpPr>
            <a:xfrm>
              <a:off x="5334120" y="2057400"/>
              <a:ext cx="3580560" cy="3069360"/>
              <a:chOff x="5334120" y="2057400"/>
              <a:chExt cx="3580560" cy="3069360"/>
            </a:xfrm>
          </p:grpSpPr>
          <p:sp>
            <p:nvSpPr>
              <p:cNvPr id="140" name="Rectangle 6"/>
              <p:cNvSpPr/>
              <p:nvPr/>
            </p:nvSpPr>
            <p:spPr>
              <a:xfrm>
                <a:off x="5538240" y="2057400"/>
                <a:ext cx="3376080" cy="282384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Line 7"/>
              <p:cNvSpPr/>
              <p:nvPr/>
            </p:nvSpPr>
            <p:spPr>
              <a:xfrm>
                <a:off x="5538240" y="2057400"/>
                <a:ext cx="0" cy="2823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Line 8"/>
              <p:cNvSpPr/>
              <p:nvPr/>
            </p:nvSpPr>
            <p:spPr>
              <a:xfrm>
                <a:off x="5538240" y="4881240"/>
                <a:ext cx="3376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V="1">
                <a:off x="5334120" y="2057400"/>
                <a:ext cx="0" cy="306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Line 10"/>
              <p:cNvSpPr/>
              <p:nvPr/>
            </p:nvSpPr>
            <p:spPr>
              <a:xfrm>
                <a:off x="5334120" y="5126760"/>
                <a:ext cx="3580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5" name="Line 11"/>
            <p:cNvSpPr/>
            <p:nvPr/>
          </p:nvSpPr>
          <p:spPr>
            <a:xfrm>
              <a:off x="5538600" y="2057400"/>
              <a:ext cx="2660040" cy="282420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9600" y="1630440"/>
            <a:ext cx="5137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do you think a scatterplot would look like for two factors that are not correlat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would it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rrel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efficient b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r=0.00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6019920" y="1526760"/>
            <a:ext cx="2839320" cy="2435040"/>
            <a:chOff x="6019920" y="1526760"/>
            <a:chExt cx="2839320" cy="2435040"/>
          </a:xfrm>
        </p:grpSpPr>
        <p:grpSp>
          <p:nvGrpSpPr>
            <p:cNvPr id="149" name="Group 15"/>
            <p:cNvGrpSpPr/>
            <p:nvPr/>
          </p:nvGrpSpPr>
          <p:grpSpPr>
            <a:xfrm>
              <a:off x="6019920" y="1526760"/>
              <a:ext cx="2839320" cy="2435040"/>
              <a:chOff x="6019920" y="1526760"/>
              <a:chExt cx="2839320" cy="2435040"/>
            </a:xfrm>
          </p:grpSpPr>
          <p:sp>
            <p:nvSpPr>
              <p:cNvPr id="150" name="Rectangle 16"/>
              <p:cNvSpPr/>
              <p:nvPr/>
            </p:nvSpPr>
            <p:spPr>
              <a:xfrm>
                <a:off x="6181920" y="1527120"/>
                <a:ext cx="2677320" cy="2239920"/>
              </a:xfrm>
              <a:prstGeom prst="rect">
                <a:avLst/>
              </a:prstGeom>
              <a:solidFill>
                <a:srgbClr val="ffe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Line 17"/>
              <p:cNvSpPr/>
              <p:nvPr/>
            </p:nvSpPr>
            <p:spPr>
              <a:xfrm>
                <a:off x="6181920" y="1527120"/>
                <a:ext cx="0" cy="2239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Line 18"/>
              <p:cNvSpPr/>
              <p:nvPr/>
            </p:nvSpPr>
            <p:spPr>
              <a:xfrm>
                <a:off x="6181920" y="3767040"/>
                <a:ext cx="2677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Line 19"/>
              <p:cNvSpPr/>
              <p:nvPr/>
            </p:nvSpPr>
            <p:spPr>
              <a:xfrm flipV="1">
                <a:off x="6019920" y="1526760"/>
                <a:ext cx="0" cy="243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>
                <a:off x="6019920" y="3961800"/>
                <a:ext cx="2839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5" name="Line 21"/>
            <p:cNvSpPr/>
            <p:nvPr/>
          </p:nvSpPr>
          <p:spPr>
            <a:xfrm>
              <a:off x="6506640" y="1915920"/>
              <a:ext cx="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7072920" y="1724760"/>
              <a:ext cx="48960" cy="4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6604920" y="2013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7497360" y="2094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7902720" y="18514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8714520" y="2013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928920" y="241992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523560" y="26632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725364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692892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830880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740720" y="2744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8389800" y="298800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766920" y="306900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733500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757836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830880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822080" y="35560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30" descr="http://www.shmoop.com/images/algebra/alg_probstat_bivar_narr_graphik_11.png"/>
          <p:cNvPicPr/>
          <p:nvPr/>
        </p:nvPicPr>
        <p:blipFill>
          <a:blip r:embed="rId1"/>
          <a:stretch/>
        </p:blipFill>
        <p:spPr>
          <a:xfrm>
            <a:off x="2971800" y="3203640"/>
            <a:ext cx="2816280" cy="234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2" descr="http://www.shmoop.com/images/algebra/alg_probstat_bivar_narr_graphik_12.png"/>
          <p:cNvPicPr/>
          <p:nvPr/>
        </p:nvPicPr>
        <p:blipFill>
          <a:blip r:embed="rId2"/>
          <a:stretch/>
        </p:blipFill>
        <p:spPr>
          <a:xfrm>
            <a:off x="6170760" y="4143240"/>
            <a:ext cx="26542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Height and Temperament in M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Picture 3" descr="figure-02-05"/>
          <p:cNvPicPr/>
          <p:nvPr/>
        </p:nvPicPr>
        <p:blipFill>
          <a:blip r:embed="rId1"/>
          <a:stretch/>
        </p:blipFill>
        <p:spPr>
          <a:xfrm>
            <a:off x="685800" y="2330280"/>
            <a:ext cx="7391520" cy="38102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r=+0.6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Experimental 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(Laboratory)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research method in which an investigator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manipulate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e or more variable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independent variables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o observe the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effect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 some behavior or mental proces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dependent variable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ed in a controlled                                      environment, usually a scientific                                                     lab, in order to test a hypoth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5715000" y="4100400"/>
            <a:ext cx="34290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el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 experiment that is carried out in the subject(s) natural, everyday environmen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earcher still manipulates the independent variables, in order to observe the dependent variab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(Lab) experiments offer more                                            control than field experimen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ield experiments (since they                                                    occur in the natural environment)                                        are more likely to be generalizab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5715000" y="4100400"/>
            <a:ext cx="34290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a question has been asked, or a theory proposed; experiments begin with a hypo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.g. “Caffeine improves test performance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24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6526080" y="3200400"/>
            <a:ext cx="170352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292428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4"/>
          <a:stretch/>
        </p:blipFill>
        <p:spPr>
          <a:xfrm>
            <a:off x="579132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ttp://fastfood.ocregister.com/files/2009/05/starbucks-iced-coffee-211x300.jpg"/>
          <p:cNvPicPr/>
          <p:nvPr/>
        </p:nvPicPr>
        <p:blipFill>
          <a:blip r:embed="rId5"/>
          <a:stretch/>
        </p:blipFill>
        <p:spPr>
          <a:xfrm>
            <a:off x="762120" y="3200400"/>
            <a:ext cx="18288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must employ variab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In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ed/changed by experimenter to observe its effects (e.g. Coffee/Redbul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effects/changes that occur in relation to the independent variable (e.g. improved test performanc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founding Variable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tors other than the independent variable that might produce an effect in an experiment (e.g. one’s natural intelligenc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ntrol Variab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es that are kept the same throughout the experiment/stu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divide participants into two groups (often randomly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Experimenta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pendent variable is applied (e.g.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tro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ated the same way as experimental group, but independent variable is not applied (e.g. No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ase Study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ually the intensive investigation of a single participant, although occasionally group studies will be cond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wo distinct types of case stud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Longitudi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a single group of participants over a number of yea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ross-Sectio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multiple groups of participants of different ages and comparing them;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t allows conclusions to be drawn about a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Naturalistic Observation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Observation of subject(s) in a natural setting without manipulating or controlling the situ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observed is likely to be genu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is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difficult &amp; cost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misinterpretation of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Survey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: Quantitative approach of asking many individuals a fixed set of ques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important characteristic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reports: survey researchers ask their participants (often called respondents) to report directly on their own thoughts, feelings, and behavi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: Samples are small groups of participants (out of a larger group/population) that a researcher surveys/studies. It would be difficult/impossible to survey large groups/populations, so surveys tend to rely on samp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amples-Representative vs Non-Represent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-sample that reflect the characteristics of the population from which they are selected (e.g.-an equal amount of students from eac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representative-a sample that doesn’t reflect the characteristics of the population from which they are selected (e.g.-only seni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Garamond"/>
              </a:rPr>
              <a:t>Obviously, representative samples are more desirab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1920" y="1218960"/>
            <a:ext cx="910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Representative s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andom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ample that fairly represents a population because each member has an equal chance of inclu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Stratified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ratified sample-a mini-reproduction of the popula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divided into characteristics of importance for the research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gender, social class, education level, etc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randomly sampled within each category or stratum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-If 38% of the population is college-educated, then 38% of the sample is randomly selected from the college-educated popul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good (or better) than random samples, but more difficult to construc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orrelation Studies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rrelational study is a scientific study in which a researcher investigates associations between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-A measure of the extent to which two factors vary together (and how well one factor predicts the 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monstrate cau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 can be positive or neg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llus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ppears to be relationship where none exis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with scatterp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rrelation coefficient “r”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-1 to +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8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rrelation ≠ Caus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12673_MyersPsy8e_fig"/>
          <p:cNvPicPr/>
          <p:nvPr/>
        </p:nvPicPr>
        <p:blipFill>
          <a:blip r:embed="rId1"/>
          <a:stretch/>
        </p:blipFill>
        <p:spPr>
          <a:xfrm>
            <a:off x="789120" y="2133720"/>
            <a:ext cx="7565760" cy="4647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rrelation coefficient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line calculators make it MUCH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socscistatistics.com/tests/pearson/Default2.asp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alcula.com/calculators/statistics/correlation-coefficient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http://www.socscistatistics.com/images/pearson.png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09-24T13:09:34Z</cp:lastPrinted>
  <dcterms:modified xsi:type="dcterms:W3CDTF">2016-08-26T13:43:38Z</dcterms:modified>
  <cp:revision>174</cp:revision>
  <dc:subject/>
  <dc:title>Chapter 8: Sensation and Perception</dc:title>
</cp:coreProperties>
</file>