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620F-5B92-419F-9B4E-3C5BB7395D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 can think of an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1200" spc="-1" strike="noStrike">
                <a:solidFill>
                  <a:srgbClr val="ff9900"/>
                </a:solidFill>
                <a:latin typeface="Calibri"/>
              </a:rPr>
              <a:t>Hindsight Bi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al life, School, News/Media, Entertainment/Pop culture, psychological/Scientific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21EE-EC7F-4F57-9976-16446BCA08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11C9-499D-47E6-9093-9EF01C35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4C4BA-E370-49B1-A705-B89F631D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A5FC-27D1-455A-9837-BF406C8E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9CCB-8455-4818-9096-18504CAD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E138-C5BD-4AC9-A58F-5C364F92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1CC7-CD66-4E7E-9FD5-5C47989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79FA-4010-46AD-A5B0-3C4F92B3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D2C6-F782-4821-87DF-C0E73F13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D6D6-C53D-4602-9384-043BFD97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2C66-53B2-4868-A839-C4440B24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B4D9-E49C-41D3-8CCB-388F2D7C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53005-176F-4C1D-958D-B4106024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7B8A-457D-48C7-807F-836572F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3D5B-CB27-4480-A2B9-99EE0D9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7991-47B5-41E0-B7EF-8240BD92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0FAD-742A-42E7-95F3-854F6CED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E03F-9BB6-4FB8-B2F7-47506452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CDEE-391C-4685-8445-29CF19E1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5426-4DFE-4CFF-8DFD-A7438FAF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C837-96F2-4D58-87FD-BAA1A742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B501-EFBE-45F2-B884-3F2B5AFF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F4E8-DC8B-4156-8801-8FBF4171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1CF1-2334-4018-818C-6B83A7DF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EA301-473D-48C9-A80B-89A5D9C3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06B9-7788-4337-9FE8-E075A1468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7CFA-3226-49E0-B195-5701E481AE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920" y="99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Essential Ques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228600" y="2335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How do </a:t>
            </a:r>
            <a:r>
              <a:rPr b="1" lang="en-US" sz="4800" spc="-1" strike="noStrike">
                <a:solidFill>
                  <a:srgbClr val="ff9900"/>
                </a:solidFill>
                <a:latin typeface="Garamond"/>
              </a:rPr>
              <a:t>psychologists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Garamond"/>
              </a:rPr>
              <a:t>conduct </a:t>
            </a:r>
            <a:r>
              <a:rPr b="1" lang="en-US" sz="4800" spc="-1" strike="noStrike">
                <a:solidFill>
                  <a:srgbClr val="ff9900"/>
                </a:solidFill>
                <a:latin typeface="Garamond"/>
              </a:rPr>
              <a:t>scientific research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, and how do they </a:t>
            </a:r>
            <a:r>
              <a:rPr b="0" i="1" lang="en-US" sz="4800" spc="-1" strike="noStrike">
                <a:solidFill>
                  <a:srgbClr val="ffffff"/>
                </a:solidFill>
                <a:latin typeface="Garamond"/>
              </a:rPr>
              <a:t>apply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their findings to better </a:t>
            </a:r>
            <a:r>
              <a:rPr b="0" i="1" lang="en-US" sz="4800" spc="-1" strike="noStrike">
                <a:solidFill>
                  <a:srgbClr val="ffffff"/>
                </a:solidFill>
                <a:latin typeface="Garamond"/>
              </a:rPr>
              <a:t>understanding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uman behavior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Scientific Meth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6761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ntrol Variab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riables that are kept the same throughout the experiment/stu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dependent Variab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riable that is purposely changed/manipulated by the person(s) conducting the experi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ependent Variab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riable that changes based on reactions to Independent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4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Scientific Meth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3760" y="18907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fy the control variable, independent variable, and dependent variable in this hypothetical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esearcher is looking at how studying influences test sco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-the tests administered to stud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pendent-the amount of studying students 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endent-the RESULTING test sco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4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Scientific Meth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11160" y="1523520"/>
            <a:ext cx="91440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Operational Defini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statement of the procedures (operations) used to define research variabl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.g.-weight is defined as the numbers that appear when an object is placed on a weighing scal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.g.-Intelligence may be defined by one’s IQ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Replic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bility to repeat a research study, with different participants in different situation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termine whether basic findings extend beyond a single research stud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80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it Tick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is i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mport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 for psychologists to conduct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cientific researc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indsight bi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  Provide a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3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in components of th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cientific attitu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teps of th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cientific metho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Unit 1 Key Peo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search Study Response #40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Obey At Any Cost?” (Pgs. 308-31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A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The Need for Psychological Scienc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4120" y="10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ed for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ientific Research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112680" y="2361960"/>
            <a:ext cx="5943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indsight Bi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endency to believe, after learning an outcome, that one would have foreseen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“I-knew-it-all-along” phenomen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“Monday Morning Quarterbacking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2" descr="http://blackchristiannews.com/news/eli-manning.jpg"/>
          <p:cNvPicPr/>
          <p:nvPr/>
        </p:nvPicPr>
        <p:blipFill>
          <a:blip r:embed="rId1"/>
          <a:stretch/>
        </p:blipFill>
        <p:spPr>
          <a:xfrm>
            <a:off x="5715000" y="3206880"/>
            <a:ext cx="3355920" cy="3416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eed for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ientific Research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mu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you think it will take you 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unscramb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s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agram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eed for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ientific Research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mu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you think it will take you 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unscramb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s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agram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a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t would ta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secon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but o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ver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took abou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7400" y="3255840"/>
            <a:ext cx="3190680" cy="666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5568840" y="3924360"/>
            <a:ext cx="1595520" cy="666720"/>
          </a:xfrm>
          <a:prstGeom prst="rect">
            <a:avLst/>
          </a:prstGeom>
          <a:solidFill>
            <a:srgbClr val="ffe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WRE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7157880" y="3925800"/>
            <a:ext cx="1605240" cy="666720"/>
          </a:xfrm>
          <a:prstGeom prst="rect">
            <a:avLst/>
          </a:prstGeom>
          <a:solidFill>
            <a:srgbClr val="ffe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562720" y="4591080"/>
            <a:ext cx="1595160" cy="666720"/>
          </a:xfrm>
          <a:prstGeom prst="rect">
            <a:avLst/>
          </a:prstGeom>
          <a:solidFill>
            <a:srgbClr val="ffe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ETYR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162920" y="4591080"/>
            <a:ext cx="1595160" cy="666720"/>
          </a:xfrm>
          <a:prstGeom prst="rect">
            <a:avLst/>
          </a:prstGeom>
          <a:solidFill>
            <a:srgbClr val="ffe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EN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5562720" y="5257800"/>
            <a:ext cx="1595160" cy="666720"/>
          </a:xfrm>
          <a:prstGeom prst="rect">
            <a:avLst/>
          </a:prstGeom>
          <a:solidFill>
            <a:srgbClr val="ffe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GRAB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162920" y="5257800"/>
            <a:ext cx="1595160" cy="666720"/>
          </a:xfrm>
          <a:prstGeom prst="rect">
            <a:avLst/>
          </a:prstGeom>
          <a:solidFill>
            <a:srgbClr val="ffe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BAR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ed for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ientific Research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1680" y="2743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verconfidenc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endency to believe that one knows more than he/she actually do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ds to error and misjudg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2" descr="http://www.poptower.com/pic-15283/mike-situation-sorrentino-jersey-shore.jpg?w=600&amp;h=600"/>
          <p:cNvPicPr/>
          <p:nvPr/>
        </p:nvPicPr>
        <p:blipFill>
          <a:blip r:embed="rId1"/>
          <a:stretch/>
        </p:blipFill>
        <p:spPr>
          <a:xfrm>
            <a:off x="6477120" y="2863800"/>
            <a:ext cx="2665440" cy="39942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Scientific Attitu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04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cientific Attitu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ios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Passion for explora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epticis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Doubting and question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ility (Ability to accept responsibility when wro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ychological researchers must also think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ritic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40" y="76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Scientific Meth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he Scientific Metho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es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othe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2801880" cy="3367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62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Scientific Meth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Myers9e_fig_1_01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09-11T10:59:36Z</dcterms:modified>
  <cp:revision>152</cp:revision>
  <dc:subject/>
  <dc:title>Chapter 8: Sensation and Perception</dc:title>
</cp:coreProperties>
</file>