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20B4-C5CC-4074-80DD-900D879B94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 can think of an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1200" spc="-1" strike="noStrike">
                <a:solidFill>
                  <a:srgbClr val="ff9900"/>
                </a:solidFill>
                <a:latin typeface="Calibri"/>
              </a:rPr>
              <a:t>Hindsight Bia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al life, School, News/Media, Entertainment/Pop culture, psychological/Scientific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1811-40F7-4313-93EA-656866F1501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7E925-EA22-4613-B012-6D474CCC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1AF7-B884-46F7-AEC2-64C637BE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914B-C32F-4CDA-BB6D-FE04D502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E9ED6-625F-4F7D-8857-C2BE586F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A173-37A5-4F2E-AA67-839382D2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A049-AC78-4072-B0B5-B7DA6A53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37DE-C58A-4D5F-8877-E7155517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B8BF-A009-44EA-95E4-13680153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DD96-A546-43D5-9779-52497868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32E1-C990-47A1-97AD-EA327EDE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3559-E235-487C-A212-69F2B5F3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AE4E-CCC8-4ECF-8E7C-B8921E53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D137-E81F-4E38-A09F-346055E4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3193-746E-426F-B80F-0D93C9F7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95C7-6C5B-47C9-B419-723028CB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B05C-B885-4438-B678-4813E6E7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DF8B-08A4-494A-A5F9-9EE9A2DD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B632-C432-486A-B157-76B5FD9D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179C5-8DE2-4558-86B7-ADD243E1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CF0DC-A8A3-47AE-80EF-02582263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762D7-7A0F-4824-9AC8-3AA3CF68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37C9-D40B-4FE4-9AAE-02286376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43529-3DC2-4794-86BF-FA295351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9A2C-1403-4D03-B517-11CC6540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0C01-EC82-4842-9729-284DB1168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2CDB-0CE2-4B8B-B940-87F9F50D1A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920" y="99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Essential Ques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228600" y="2335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How do </a:t>
            </a:r>
            <a:r>
              <a:rPr b="1" lang="en-US" sz="4800" spc="-1" strike="noStrike">
                <a:solidFill>
                  <a:srgbClr val="ff9900"/>
                </a:solidFill>
                <a:latin typeface="Garamond"/>
              </a:rPr>
              <a:t>psychologists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Garamond"/>
              </a:rPr>
              <a:t>conduct </a:t>
            </a:r>
            <a:r>
              <a:rPr b="1" lang="en-US" sz="4800" spc="-1" strike="noStrike">
                <a:solidFill>
                  <a:srgbClr val="ff9900"/>
                </a:solidFill>
                <a:latin typeface="Garamond"/>
              </a:rPr>
              <a:t>scientific research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, and how do they </a:t>
            </a:r>
            <a:r>
              <a:rPr b="0" i="1" lang="en-US" sz="4800" spc="-1" strike="noStrike">
                <a:solidFill>
                  <a:srgbClr val="ffffff"/>
                </a:solidFill>
                <a:latin typeface="Garamond"/>
              </a:rPr>
              <a:t>apply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their findings to better </a:t>
            </a:r>
            <a:r>
              <a:rPr b="0" i="1" lang="en-US" sz="4800" spc="-1" strike="noStrike">
                <a:solidFill>
                  <a:srgbClr val="ffffff"/>
                </a:solidFill>
                <a:latin typeface="Garamond"/>
              </a:rPr>
              <a:t>understanding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uman behavior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Scientific Meth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6761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ontrol Variab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riables that are kept the same throughout the experiment/stu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dependent Variab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riable that is purposely changed/manipulated by the person(s) conducting the experi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ependent Variab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riable that changes based on reactions to Independent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4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Scientific Meth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3760" y="18907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dentify the control variable, independent variable, and dependent variable in this hypothetical experi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researcher is looking at how studying influences test sco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-the tests administered to stud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ependent-the amount of studying students 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pendent-the RESULTING test sco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4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Scientific Meth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11160" y="1523520"/>
            <a:ext cx="91440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Operational Definition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statement of the procedures (operations) used to define research variabl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.g.-weight is defined as the numbers that appear when an object is placed on a weighing scal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.g.-Intelligence may be defined by one’s IQ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Replication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bility to repeat a research study, with different participants in different situation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termine whether basic findings extend beyond a single research stud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80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it Tick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 is i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mport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 for psychologists to conduct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cientific researc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indsight bia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  Provide a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3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in components of the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cientific attitu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teps of the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cientific metho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Home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Unit 1 Key Peop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search Study Response #40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Obey At Any Cost?” (Pgs. 308-31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 (A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The Need for Psychological Scienc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4120" y="10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ed for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ientific Research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112680" y="2361960"/>
            <a:ext cx="5943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indsight Bi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endency to believe, after learning an outcome, that one would have foreseen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“I-knew-it-all-along” phenomen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“Monday Morning Quarterbacking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2" descr="http://blackchristiannews.com/news/eli-manning.jpg"/>
          <p:cNvPicPr/>
          <p:nvPr/>
        </p:nvPicPr>
        <p:blipFill>
          <a:blip r:embed="rId1"/>
          <a:stretch/>
        </p:blipFill>
        <p:spPr>
          <a:xfrm>
            <a:off x="5715000" y="3206880"/>
            <a:ext cx="3355920" cy="3416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Need for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ientific Research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mu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im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 you think it will take you to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unscrambl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s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agram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Need for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ientific Research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mu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im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 you think it will take you to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unscrambl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s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agram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ai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t would ta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second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but o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ver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took abou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 min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67400" y="3255840"/>
            <a:ext cx="3190680" cy="666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gr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5568840" y="3924360"/>
            <a:ext cx="1595520" cy="666720"/>
          </a:xfrm>
          <a:prstGeom prst="rect">
            <a:avLst/>
          </a:prstGeom>
          <a:solidFill>
            <a:srgbClr val="ffe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WRE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7157880" y="3925800"/>
            <a:ext cx="1605240" cy="666720"/>
          </a:xfrm>
          <a:prstGeom prst="rect">
            <a:avLst/>
          </a:prstGeom>
          <a:solidFill>
            <a:srgbClr val="ffe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562720" y="4591080"/>
            <a:ext cx="1595160" cy="666720"/>
          </a:xfrm>
          <a:prstGeom prst="rect">
            <a:avLst/>
          </a:prstGeom>
          <a:solidFill>
            <a:srgbClr val="ffe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ETYR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162920" y="4591080"/>
            <a:ext cx="1595160" cy="666720"/>
          </a:xfrm>
          <a:prstGeom prst="rect">
            <a:avLst/>
          </a:prstGeom>
          <a:solidFill>
            <a:srgbClr val="ffe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ENT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5562720" y="5257800"/>
            <a:ext cx="1595160" cy="666720"/>
          </a:xfrm>
          <a:prstGeom prst="rect">
            <a:avLst/>
          </a:prstGeom>
          <a:solidFill>
            <a:srgbClr val="ffe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GRAB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162920" y="5257800"/>
            <a:ext cx="1595160" cy="666720"/>
          </a:xfrm>
          <a:prstGeom prst="rect">
            <a:avLst/>
          </a:prstGeom>
          <a:solidFill>
            <a:srgbClr val="ffe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BAR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ed for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cientific Research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1680" y="2743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verconfidenc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endency to believe that one knows more than he/she actually do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ds to error and misjudg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2" descr="http://www.poptower.com/pic-15283/mike-situation-sorrentino-jersey-shore.jpg?w=600&amp;h=600"/>
          <p:cNvPicPr/>
          <p:nvPr/>
        </p:nvPicPr>
        <p:blipFill>
          <a:blip r:embed="rId1"/>
          <a:stretch/>
        </p:blipFill>
        <p:spPr>
          <a:xfrm>
            <a:off x="6477120" y="2863800"/>
            <a:ext cx="2665440" cy="39942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Scientific Attitu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04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cientific Attitud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ios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Passion for explorat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kepticism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Doubting and question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mility (Ability to accept responsibility when wro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ychological researchers must also think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ritic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9040" y="76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Scientific Meth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he Scientific Metho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es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pothe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ri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2801880" cy="3367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62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Scientific Meth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Myers9e_fig_1_01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380880" y="1238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MIC SANS MS"/>
              </a:rPr>
              <a:t>Learning Target: SWBAT explain how psychologists conduct scientific research and apply their findings to better understand human behav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09-11T10:59:36Z</dcterms:modified>
  <cp:revision>152</cp:revision>
  <dc:subject/>
  <dc:title>Chapter 8: Sensation and Perception</dc:title>
</cp:coreProperties>
</file>